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5335588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5920" y="612720"/>
            <a:ext cx="4751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ko-KR" sz="700" spc="-1" strike="noStrike">
                <a:solidFill>
                  <a:srgbClr val="969696"/>
                </a:solidFill>
                <a:latin typeface="돋움"/>
                <a:ea typeface="돋움"/>
              </a:rPr>
              <a:t>●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SINGLE LINE TELEPHONE / User’s Guide                  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 cs1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33360" y="800280"/>
            <a:ext cx="469584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33360" y="793800"/>
            <a:ext cx="3533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ngle Line Telephone User Guide for cs1000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69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1774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244520" indent="-177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  <a:tab algn="l" pos="10128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  <a:tab algn="l" pos="10128240"/>
                <a:tab algn="l" pos="1058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219320"/>
            <a:ext cx="4686120" cy="860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55520" y="3355920"/>
            <a:ext cx="987120" cy="354240"/>
            <a:chOff x="155520" y="3355920"/>
            <a:chExt cx="987120" cy="354240"/>
          </a:xfrm>
        </p:grpSpPr>
        <p:sp>
          <p:nvSpPr>
            <p:cNvPr id="43" name=""/>
            <p:cNvSpPr/>
            <p:nvPr/>
          </p:nvSpPr>
          <p:spPr>
            <a:xfrm>
              <a:off x="225360" y="3355920"/>
              <a:ext cx="84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체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55520" y="3355920"/>
              <a:ext cx="987120" cy="354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75960" tIns="37800" bIns="37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1143000" y="3355920"/>
            <a:ext cx="3882960" cy="354240"/>
            <a:chOff x="1143000" y="3355920"/>
            <a:chExt cx="3882960" cy="354240"/>
          </a:xfrm>
        </p:grpSpPr>
        <p:sp>
          <p:nvSpPr>
            <p:cNvPr id="46" name=""/>
            <p:cNvSpPr/>
            <p:nvPr/>
          </p:nvSpPr>
          <p:spPr>
            <a:xfrm>
              <a:off x="1186200" y="3355920"/>
              <a:ext cx="379620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-12600" rIns="76320" tIns="3816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돋움"/>
                </a:rPr>
                <a:t>SLT User Gu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143000" y="3355920"/>
              <a:ext cx="3882960" cy="354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75960" tIns="37800" bIns="37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155520" y="3710160"/>
            <a:ext cx="987120" cy="352080"/>
            <a:chOff x="155520" y="3710160"/>
            <a:chExt cx="987120" cy="352080"/>
          </a:xfrm>
        </p:grpSpPr>
        <p:sp>
          <p:nvSpPr>
            <p:cNvPr id="49" name=""/>
            <p:cNvSpPr/>
            <p:nvPr/>
          </p:nvSpPr>
          <p:spPr>
            <a:xfrm>
              <a:off x="225360" y="3710160"/>
              <a:ext cx="84708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체"/>
                </a:rPr>
                <a:t>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5520" y="3710160"/>
              <a:ext cx="987120" cy="3520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75960" tIns="37800" bIns="37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43000" y="3710160"/>
            <a:ext cx="3882960" cy="352080"/>
            <a:chOff x="1143000" y="3710160"/>
            <a:chExt cx="3882960" cy="352080"/>
          </a:xfrm>
        </p:grpSpPr>
        <p:sp>
          <p:nvSpPr>
            <p:cNvPr id="52" name=""/>
            <p:cNvSpPr/>
            <p:nvPr/>
          </p:nvSpPr>
          <p:spPr>
            <a:xfrm>
              <a:off x="1186200" y="3710160"/>
              <a:ext cx="379620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체"/>
                </a:rPr>
                <a:t>CS1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43000" y="3710160"/>
              <a:ext cx="3882960" cy="3520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75960" tIns="37800" bIns="37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55520" y="4062240"/>
            <a:ext cx="987120" cy="509760"/>
            <a:chOff x="155520" y="4062240"/>
            <a:chExt cx="987120" cy="509760"/>
          </a:xfrm>
        </p:grpSpPr>
        <p:sp>
          <p:nvSpPr>
            <p:cNvPr id="55" name=""/>
            <p:cNvSpPr/>
            <p:nvPr/>
          </p:nvSpPr>
          <p:spPr>
            <a:xfrm>
              <a:off x="225360" y="4062240"/>
              <a:ext cx="847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체"/>
                </a:rPr>
                <a:t>Abstra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5520" y="4062240"/>
              <a:ext cx="98712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75960" tIns="37800" bIns="37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143000" y="4062240"/>
            <a:ext cx="3882960" cy="509760"/>
            <a:chOff x="1143000" y="4062240"/>
            <a:chExt cx="3882960" cy="509760"/>
          </a:xfrm>
        </p:grpSpPr>
        <p:sp>
          <p:nvSpPr>
            <p:cNvPr id="58" name=""/>
            <p:cNvSpPr/>
            <p:nvPr/>
          </p:nvSpPr>
          <p:spPr>
            <a:xfrm>
              <a:off x="1186200" y="4062240"/>
              <a:ext cx="37962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체"/>
                </a:rPr>
                <a:t>User Gu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43000" y="4062240"/>
              <a:ext cx="388296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75960" tIns="37800" bIns="37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52280" y="3352680"/>
            <a:ext cx="4876920" cy="1219320"/>
          </a:xfrm>
          <a:prstGeom prst="rect">
            <a:avLst/>
          </a:prstGeom>
          <a:noFill/>
          <a:ln w="93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960" rIns="75960" tIns="37800" bIns="37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971800"/>
            <a:ext cx="53341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  <a:ea typeface="바탕체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  <a:ea typeface="바탕체"/>
              </a:rPr>
              <a:t>Revisio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295280"/>
            <a:ext cx="53341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just">
              <a:tabLst>
                <a:tab algn="l" pos="0"/>
                <a:tab algn="l" pos="228600"/>
                <a:tab algn="l" pos="80028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  <a:ea typeface="바탕체"/>
              </a:rPr>
              <a:t>            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  <a:ea typeface="바탕체"/>
              </a:rPr>
              <a:t>LG PBX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80028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Times New Roman"/>
                <a:ea typeface="바탕체"/>
              </a:rPr>
              <a:t>                             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  <a:ea typeface="바탕체"/>
              </a:rPr>
              <a:t>Software Technic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28600"/>
                <a:tab algn="l" pos="80028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  <a:ea typeface="바탕체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28600"/>
                <a:tab algn="l" pos="80028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200" spc="-1" strike="noStrike">
                <a:solidFill>
                  <a:srgbClr val="000000"/>
                </a:solidFill>
                <a:latin typeface="Times New Roman"/>
                <a:ea typeface="바탕체"/>
              </a:rPr>
              <a:t>STI-00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28600"/>
                <a:tab algn="l" pos="80028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200" spc="-1" strike="noStrike">
                <a:solidFill>
                  <a:srgbClr val="000000"/>
                </a:solidFill>
                <a:latin typeface="Times New Roman"/>
                <a:ea typeface="바탕체"/>
              </a:rPr>
              <a:t>Mar. 13, 2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80028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  <a:ea typeface="바탕체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80028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4957560"/>
            <a:ext cx="685800" cy="22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돋움"/>
              </a:rPr>
              <a:t>Re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4957560"/>
            <a:ext cx="990720" cy="22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돋움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4957560"/>
            <a:ext cx="914400" cy="22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돋움"/>
              </a:rPr>
              <a:t>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4957560"/>
            <a:ext cx="2286000" cy="22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돋움"/>
              </a:rPr>
              <a:t>His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195520"/>
            <a:ext cx="685800" cy="22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돋움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5195520"/>
            <a:ext cx="990720" cy="22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돋움"/>
              </a:rPr>
              <a:t>13.03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5195520"/>
            <a:ext cx="914400" cy="22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  <a:ea typeface="돋움"/>
              </a:rPr>
              <a:t>C.K A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5195520"/>
            <a:ext cx="2286000" cy="22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돋움"/>
              </a:rPr>
              <a:t>First Iss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5429160"/>
            <a:ext cx="685800" cy="23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429160"/>
            <a:ext cx="990720" cy="23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5429160"/>
            <a:ext cx="914400" cy="23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5429160"/>
            <a:ext cx="2286000" cy="23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48080" y="75517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5415120"/>
            <a:ext cx="6858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돋움"/>
              </a:rPr>
              <a:t>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5415120"/>
            <a:ext cx="9907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돋움"/>
              </a:rPr>
              <a:t>16.04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5415120"/>
            <a:ext cx="9144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돋움"/>
              </a:rPr>
              <a:t>Y.K So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5415120"/>
            <a:ext cx="22860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돋움"/>
              </a:rPr>
              <a:t>Feature code 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1492200"/>
            <a:ext cx="2362320" cy="48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ontents …………………………………………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ttendant calling…………………………………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bsence information……………………………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reak in (Override) ……………………………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all back…………………………………………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all forwarding…. ………………………………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all pickup………………………………………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all transfer………………………………………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all waiting………….……………………………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amp on…………………………..…….………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onference………………..……………………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onsultation transfer……. ……………………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onsultation transfer to attendant……………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Do Not Disturb (DND)…………………………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4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Group hunting……………………………………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ndividual call park………………………………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ndividual speed dial……………………………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Last number redial………………………………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Message waiting…….. …………………………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Outgoing call restriction………. ………………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assword change………………………………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ivacy……………………………………………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emote DOD (Walking COS)…………………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evertible ring……………………………………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Save and repeat………………………………….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Selective Do Not Disturb………………………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System call park………………………………….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Time reminder (Wake up)……………...………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aby listening………………………….…………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Maid state…………………………….…………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143000"/>
            <a:ext cx="914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48080" y="75517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95480" y="1066680"/>
            <a:ext cx="213372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6172200"/>
            <a:ext cx="2286000" cy="1371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631960"/>
            <a:ext cx="2286000" cy="1258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447920"/>
            <a:ext cx="2286000" cy="304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17640" y="1050840"/>
            <a:ext cx="2463840" cy="64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29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– VPM No Answ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0" lang="ko-KR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– VPM Busy/No Answ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cancel Call Forward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ko-KR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20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Call Pi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When hearing an unattended phone ringing in your ea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Same Group Call Pick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ko-KR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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 can be connected to an incoming extension o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outside line cal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Other Group Call Pick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ko-KR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nd Extension no. which is ringing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 can be connected to an incoming extension o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outside line cal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Call Transf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ile connected to an outside line, pres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esired extension number or external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 to complete call transf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Call Wa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fter receiving intercom busy tone,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old tone is heard and wait to be answ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Answering a Call Wait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 will receive warning tone in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ss hook switch to take a new o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Camp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fter receiving intercom busy ton,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old tone is heard in calling station and war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one is heard in called st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en called station answers, talk or hang up t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ransfer the cal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Answering a Camp 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 will receive warning tone in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ss hook switch to take a new o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Con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he system allows fifty six (56) internal extensions and/or external  extensions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바탕"/>
              </a:rPr>
              <a:t>participating in a conference call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uring conversation, press hook switch and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 5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esired extension number or external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epeat the above steps to participate the exten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n a conference cal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Consultation Transf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ile connected to an outside line, 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esired extension number and wait to b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nswer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nnounce the cal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 to complete call transf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050840"/>
            <a:ext cx="2514600" cy="65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Attendant Ca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 the following number to access the attendan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(attendant access cod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attendant extension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attendant representative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Absence 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You can choose a pre-selected message to be displayed on the LCD of DKTU calling your st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ko-KR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following number to leave your messag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01~1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01+(Time) LUNCH RETURN AT HH:M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02+(Date) ON VACATION RETURN AT MM:D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03          OUT OF OFFICE RETURN IN A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04          OUT OF OFFICE RETURN IN P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05          OUT OF OFFICE RETURN TOMORROW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06          OUT OF OFFICE RETURN UNKNOW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07          OUT OF TOW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08+(Time) IN A MEETING RETURN AT HH:M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09          AT HO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10          AT BRANCH OFF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11+(External no.)     CALL XXX-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12+(Extension no.)  IN OFFICE : STA 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erase a pre-selected messag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ko-KR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+00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Break In (Overr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fter receiving intercom busy tone,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Call 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fter receiving intercom busy tone,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cancel Call Bac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ko-KR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Call Forwa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esired call forwarding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21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+Extension no. or (Trunk Access Code+Outsi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no.) – Unconditional (All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22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+Extension no. or (Trunk Access Code+Outsi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no.) – Bus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2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+Extension no. or (Trunk Access Code+Outsi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no.) – No Answ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2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+Extension no. or (Trunk Access Code+Outsi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no.) – Busy/No Answ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2#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+Extension no. to be registered + Password 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xtension no. – Follow 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26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+Extension no. – All Trunk Incom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27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– VPM All Call Forward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28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– VPM Busy Call Forward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48080" y="75517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03680" y="2178000"/>
            <a:ext cx="2133360" cy="336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78760" y="1050840"/>
            <a:ext cx="231516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cancel Message Wait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en-US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700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the desired extension number to be cancell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ou will hear the confirmation tone and 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tgoing Call Restri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en-US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the password and restriction type (1~3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- Local/DDD/IS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- DDD/IS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- IS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ou will hear the confirmation tone and 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cancel Outgoing Call Restric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en-US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the passwor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0 or pre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en-US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Dial the password agai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ou will hear the confirmation tone and 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ssword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en-US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the current passwor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(Note: The default password is “0000”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new passwor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ou will hear the confirmation tone and 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uring conversation, 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en-US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461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inue talking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emote DOD (Walking CO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en-US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the desired extension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the passwor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the trunk access code and outside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vertible 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own extension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ou will hear the confirmation tone and 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fter than, the ring will be soun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ou will hear the confirmation tone if you answe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l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ve and Repe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uring conversation, 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# 9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use Save and Repe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# 9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127160"/>
            <a:ext cx="2549520" cy="64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Consultation Transfer to Con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ile connected to an outside line, 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esired extension number and wait to b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nswer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nnounce the cal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en the other party answers, press hook switch twic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(All three parties are now connected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Do Not Disturb (D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ko-KR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cancel Do Not Disturb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ko-KR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Group Hun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fter receiving intercom busy tone,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ait to be answered by the idle extension in same gro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Individual Call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ile connected to an outside call, 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 8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o retrieve a parked call,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 8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Individual Speed D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store Individual Speed D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ko-KR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speed dial number (0~9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trunk access code and the desired exter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number you wish to stor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 will hear confirmation tone and 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To use Individual Speed D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 6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esired speed dial number (0~9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Last Number Red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 #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Message Wa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esired extension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No reply or extension busy ton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from a extens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ko-KR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To answer Message Wait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ko-KR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 will be connected to the extension which registe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he message waiting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8080" y="75517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666880" y="1295280"/>
            <a:ext cx="2286000" cy="3962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4130640"/>
            <a:ext cx="2165400" cy="320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547640"/>
            <a:ext cx="2165400" cy="304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1560" y="1055520"/>
            <a:ext cx="245844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Selective Do Not Distur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ko-KR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ND typ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- All Cal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- Only internal c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# - Only external c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 will hear the confirmation tone and 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cancel Do Not Disturb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ko-KR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 will hear the confirmation tone and 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System Call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uring conversation, press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 7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돋움"/>
                <a:ea typeface="돋움"/>
              </a:rPr>
              <a:t>To retrieve a parked c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 7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esired extension number to be retrie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Timed Reminder (Wake U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he system automatically send ring signal to the exten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hich registers wake up tim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ko-KR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the desired time (HH:MM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wake up type (0~2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- Tod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- Tomorrow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- Every D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 will hear the confirmation tone and 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</a:rPr>
              <a:t>To cancel Wake 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#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You will hear the confirmation tone and 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71920" y="1069920"/>
            <a:ext cx="2357280" cy="41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Following features are only available in hote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by Liste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his feature allows a guest to monitor his room from any other party of the hotel. You can hear the room which is set baby listening but the room will not be disturbed.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activate Baby Listening at guest’s room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en-US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41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ou will hear the confirmation 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cancel Baby Listen at guest’s room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en-US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41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ou will hear the confirmation to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operate Baby Listening from any other extension in the system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en-US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42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the guest’s own room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the passwor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fter hearing the confirmation tone, baby listening i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perat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id S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he maid can update the maid status of any room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en-US" sz="700" spc="-1" strike="noStrike">
                <a:solidFill>
                  <a:srgbClr val="000000"/>
                </a:solidFill>
                <a:latin typeface="Wingdings 2"/>
                <a:ea typeface="Wingdings 2"/>
              </a:rPr>
              <a:t>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room status (1~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1- Cleaning Need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2- Under Clea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3- Cleaned 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4- Repair Need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5- Under Repai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6- Repair Comple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7- Reserv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l maid identification (4 digits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ou will hear the confirmation 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48080" y="75517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5T10:29:19Z</dcterms:created>
  <dc:creator>황재희</dc:creator>
  <dc:description/>
  <dc:language>en-US</dc:language>
  <cp:lastModifiedBy>송영길</cp:lastModifiedBy>
  <cp:lastPrinted>2001-02-02T03:25:28Z</cp:lastPrinted>
  <dcterms:modified xsi:type="dcterms:W3CDTF">2001-11-05T13:08:31Z</dcterms:modified>
  <cp:revision>70</cp:revision>
  <dc:subject/>
  <dc:title>SLT Features</dc:title>
</cp:coreProperties>
</file>