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34B64-2A1C-488D-AE43-384B55FA3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6969-71B8-4B8B-9C17-87A0FAC4A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7E80-17C0-42CE-A09E-39DCB6657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66E4-C444-441E-B48F-F8342C2068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8A28-1302-4258-96D6-225F64CCD8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A7DE-66AE-4093-900C-9B0215E3C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CB1F-AFEB-44AE-9EDD-723ECFD74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FB17-0627-4A21-85C5-04BD1B9DA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C7BC-DEDA-4054-A283-996D37BB6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DE23-FDE4-4A54-BCA8-CE61B8D98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FA1E-2791-495E-AB17-5927369D2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8B5B-B75D-4E0D-9061-4A72B489D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266480" y="777240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8284-A8F4-4DA2-A6F1-6FB4A184091E}" type="slidenum">
              <a:rPr b="0" lang="en-US" sz="8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343080" y="533520"/>
            <a:ext cx="3288960" cy="751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09480" y="762120"/>
            <a:ext cx="2667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ant Safety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"/>
          <p:cNvSpPr/>
          <p:nvPr/>
        </p:nvSpPr>
        <p:spPr>
          <a:xfrm>
            <a:off x="685800" y="762120"/>
            <a:ext cx="2819520" cy="2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rcRect l="2040" t="12166" r="47681" b="77823"/>
          <a:stretch/>
        </p:blipFill>
        <p:spPr>
          <a:xfrm>
            <a:off x="571680" y="1647720"/>
            <a:ext cx="2819160" cy="82872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380880" y="1066680"/>
            <a:ext cx="3200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prevent the unexpected danger or damage, please read this information before installing and repairing the phone. There are “Caution” and “Warning”, it means as follows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53682" t="13086" r="3061" b="78515"/>
          <a:stretch/>
        </p:blipFill>
        <p:spPr>
          <a:xfrm>
            <a:off x="828720" y="2509920"/>
            <a:ext cx="2425680" cy="695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12526" t="24827" r="10611" b="71062"/>
          <a:stretch/>
        </p:blipFill>
        <p:spPr>
          <a:xfrm>
            <a:off x="533520" y="3505320"/>
            <a:ext cx="289548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6454" t="28942" r="52040" b="2532"/>
          <a:stretch/>
        </p:blipFill>
        <p:spPr>
          <a:xfrm>
            <a:off x="485640" y="3809880"/>
            <a:ext cx="1470240" cy="3581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rcRect l="55008" t="28942" r="4244" b="2532"/>
          <a:stretch/>
        </p:blipFill>
        <p:spPr>
          <a:xfrm>
            <a:off x="2054160" y="3828960"/>
            <a:ext cx="1443240" cy="358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15D1-5FE8-491D-8534-629C4F6641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2133720"/>
            <a:ext cx="2971800" cy="246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cing an Outside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371600"/>
            <a:ext cx="2971800" cy="246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cing an Intercom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048120"/>
            <a:ext cx="2971800" cy="246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cing an Call on 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886200"/>
            <a:ext cx="2971800" cy="246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rieving a Outside Call on 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8380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ic Fun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762120"/>
            <a:ext cx="2819520" cy="2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4382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 or press OHD/Speaker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runk access code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desired number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6765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 or press OHD/Speaker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extension number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876920"/>
            <a:ext cx="2971800" cy="246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Call Pick-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5181480"/>
            <a:ext cx="2971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hearing an unattended phone ringing in your area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 or press OHD/Speaker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* *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will be connected to an incoming call. (You should be in the same pick-up group.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333684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le connected to other extension or external call, press [Hold/Save] button. (Refer to system feature manual.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19112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flashing flexible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The call will automatically recall after pre-defined time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095880"/>
            <a:ext cx="2971800" cy="246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st Number Redi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 or press OHD/Speaker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# #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5300-7076-46CD-B763-D8AB0571DF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8380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ic Fun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762120"/>
            <a:ext cx="2819520" cy="2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371600"/>
            <a:ext cx="2971800" cy="246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ing Station Speed Dial Number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514600"/>
            <a:ext cx="2971800" cy="246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ing Station Speed Dial Number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676520"/>
            <a:ext cx="2971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[Trans/PGM] button and [Speed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speed bin number. Range (00~09)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outside number include trunk access code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[Hold/Save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will hear confirmation tone and hang up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28195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[Speed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desired speed dial bin number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352680"/>
            <a:ext cx="2971800" cy="246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ering Absence State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65760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can register the phone with absence state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[Trans/PGM] button and the [FWD/DND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absence type code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some type needed special information like as date or time. Dial special information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[Hold/Save] button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44956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cancel absence state, dial 0 0 instead of absence type code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A266-4860-4697-9289-2A38714F4C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762120"/>
            <a:ext cx="2667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ant Safety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2120"/>
            <a:ext cx="2819520" cy="2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6050" t="32876" r="53541" b="2109"/>
          <a:stretch/>
        </p:blipFill>
        <p:spPr>
          <a:xfrm>
            <a:off x="487440" y="3733920"/>
            <a:ext cx="1569960" cy="3814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12526" t="24827" r="10611" b="71062"/>
          <a:stretch/>
        </p:blipFill>
        <p:spPr>
          <a:xfrm>
            <a:off x="533520" y="1143000"/>
            <a:ext cx="2895480" cy="228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6050" t="5598" r="54681" b="71758"/>
          <a:stretch/>
        </p:blipFill>
        <p:spPr>
          <a:xfrm>
            <a:off x="531720" y="1371600"/>
            <a:ext cx="1525680" cy="1328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rcRect l="12220" t="28383" r="12630" b="67186"/>
          <a:stretch/>
        </p:blipFill>
        <p:spPr>
          <a:xfrm>
            <a:off x="533520" y="3092400"/>
            <a:ext cx="2919240" cy="260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rcRect l="55090" t="32876" r="6459" b="2109"/>
          <a:stretch/>
        </p:blipFill>
        <p:spPr>
          <a:xfrm>
            <a:off x="2006640" y="3759120"/>
            <a:ext cx="1493640" cy="381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6F125-6FD4-4BC6-B65D-5BC16B86CB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762120"/>
            <a:ext cx="2667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ant Safety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762120"/>
            <a:ext cx="2819520" cy="2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6721" t="98277" r="42842" b="0"/>
          <a:stretch/>
        </p:blipFill>
        <p:spPr>
          <a:xfrm>
            <a:off x="533520" y="7543800"/>
            <a:ext cx="2824200" cy="146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12220" t="28383" r="12630" b="67186"/>
          <a:stretch/>
        </p:blipFill>
        <p:spPr>
          <a:xfrm>
            <a:off x="533520" y="1066680"/>
            <a:ext cx="2919240" cy="260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rcRect l="6721" t="5743" r="53781" b="2983"/>
          <a:stretch/>
        </p:blipFill>
        <p:spPr>
          <a:xfrm>
            <a:off x="482760" y="1523880"/>
            <a:ext cx="1454040" cy="5078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rcRect l="54724" t="5743" r="2013" b="25782"/>
          <a:stretch/>
        </p:blipFill>
        <p:spPr>
          <a:xfrm>
            <a:off x="1905120" y="1523880"/>
            <a:ext cx="1593720" cy="381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E7702-DF27-467A-A515-2931933D56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762120"/>
            <a:ext cx="2667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DP-7000 Series Mod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762120"/>
            <a:ext cx="2819520" cy="2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535680" y="5486400"/>
            <a:ext cx="848160" cy="246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DP-7008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35680" y="3429000"/>
            <a:ext cx="848160" cy="246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DP-7004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5791320"/>
            <a:ext cx="2819160" cy="1788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2666880" cy="1743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33520" y="1600200"/>
            <a:ext cx="2666880" cy="1736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5680" y="1371600"/>
            <a:ext cx="848160" cy="246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DP-7004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5D68A-9F17-44EC-9344-D1C26B62A6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14240" y="1981080"/>
            <a:ext cx="2438640" cy="2289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5680" y="1371600"/>
            <a:ext cx="1621080" cy="246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DP-7004N / LDP-7004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458640" y="1857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58640" y="205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458640" y="3286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458640" y="390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458640" y="413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201840" y="2676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76280" y="6032520"/>
            <a:ext cx="3029040" cy="1663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6032520"/>
            <a:ext cx="304920" cy="166356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840600" y="6060960"/>
            <a:ext cx="20095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CD Display (LDP-7004D only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nd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aker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HD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ld/Save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e Waiting L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/PGM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ed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exible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201840" y="344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201840" y="356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3201840" y="367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8098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762120"/>
            <a:ext cx="2667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/Output Devices and 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762120"/>
            <a:ext cx="2819520" cy="2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F5E3-BD78-4FD6-A925-B09133487C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6084" t="0" r="0" b="0"/>
          <a:stretch/>
        </p:blipFill>
        <p:spPr>
          <a:xfrm>
            <a:off x="676440" y="1981080"/>
            <a:ext cx="2571480" cy="257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09480" y="762120"/>
            <a:ext cx="2667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/Output Devices and 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762120"/>
            <a:ext cx="2819520" cy="2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35680" y="1371600"/>
            <a:ext cx="848160" cy="246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DP-7008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458640" y="1857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466560" y="2038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038400"/>
            <a:ext cx="25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458640" y="3181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58640" y="3753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466560" y="396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458640" y="418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3201840" y="24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201840" y="261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3205080" y="3571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3201840" y="3699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3201840" y="4191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5257800"/>
            <a:ext cx="3048120" cy="243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5257800"/>
            <a:ext cx="304920" cy="24382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840600" y="5289480"/>
            <a:ext cx="2471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CD Displa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nd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phone-Jack Socket (Ear/Mic Mode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aker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aker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ld/Save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exible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e Waiting L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WD/DND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l Back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exible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ed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/PGM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ndsfree Microph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3201840" y="33368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201840" y="34574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3201840" y="4572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D1F3-9CC9-41F7-AA0A-2FDD2526F2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9480" y="762120"/>
            <a:ext cx="2667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/Output Devices and 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762120"/>
            <a:ext cx="2819520" cy="2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484280" y="1373040"/>
            <a:ext cx="2133720" cy="64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Used for handset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The optional earphone into the handset to provide a handsfree phone conversation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Outputs tones and voice at your extension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Used to access speed dialing, speed programming, save number redial, and last number redial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ND (Do Not Disturb) feature lets you activate a ‘do not ring this phone’ mode. When the DND is active, this button is red.  It is also used to activate call forwards, to another station or voicemail for example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Used to forward your calls to another station or voice mail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button put a call on hold or save information wh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amming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Speaker toggles the speakerphone state. The button is red when the speakerphone is active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s dialed and incoming numbers (where applicable) and on the LDP7008D it can display other information about telephone status, dialing directories and test message informa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button is used to start a transfer (TRS) of a call or enter programming mode (PGM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220680" y="1371600"/>
            <a:ext cx="12272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nd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phone-J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ed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WD/D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ld/Sa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aker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CD Displa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/PG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127160"/>
            <a:ext cx="990720" cy="246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1127160"/>
            <a:ext cx="1981440" cy="246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7AE3-ADF3-4FF6-AA81-6F026CDE3F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762120"/>
            <a:ext cx="2667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/Output Devices and Butt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762120"/>
            <a:ext cx="2819520" cy="2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1371600"/>
            <a:ext cx="205740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ast two (7004D&amp;N) or eight (7008D) Flex buttons can be assigned outside line presentation or to a feature shortcut. (See codes at rear of guide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A station can initiate a call back request to another busy station. Once that station becomes idle, the station that left the call back request is signaled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The volume button adjusts the audio levels follows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Used to work in conjunction with fixed and flexible features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Hook Dial allows 7004N&amp;D users to dial and monitor ringing state without lifting the hand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371600"/>
            <a:ext cx="121932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Flexible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Call 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Button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Volume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MIC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OHD Butt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127160"/>
            <a:ext cx="990720" cy="246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te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1127160"/>
            <a:ext cx="1981440" cy="246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777D-9BA7-4158-9335-B41E7843EA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1467000"/>
            <a:ext cx="2666880" cy="2617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9480" y="762120"/>
            <a:ext cx="2667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ble Conne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762120"/>
            <a:ext cx="2819520" cy="28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554840" y="358452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3135960" y="33526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1554840" y="335592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1307160" y="196524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4724280"/>
            <a:ext cx="2743200" cy="2971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849920"/>
            <a:ext cx="259092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ble conne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②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 the end of the telephone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d to the handset and the other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d to the handset jack at th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tom of the telephone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④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 the end of the cable to the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 at the bottom of telephone and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other end to the switch port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 the Earphone to the headphone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 at the left side of the telephone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In case front view of the base.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※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DP-7004N and LDP-7004D does not support integral headphone mode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B67FA-0E91-452C-AFD0-0A6CE2EE38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07:04:27Z</dcterms:created>
  <dc:creator>user</dc:creator>
  <dc:description/>
  <dc:language>en-US</dc:language>
  <cp:lastModifiedBy>CS/NCS</cp:lastModifiedBy>
  <dcterms:modified xsi:type="dcterms:W3CDTF">2005-02-17T07:40:53Z</dcterms:modified>
  <cp:revision>607</cp:revision>
  <dc:subject/>
  <dc:title>PowerPoint 프레젠테이션</dc:title>
</cp:coreProperties>
</file>