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5335588" cy="8002588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ATTENDANT OPERATION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36760" y="74073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7B3818-EB93-4353-8B57-2027DFC6BB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package" Target="../embeddings/oleObject1.docx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800" y="793800"/>
            <a:ext cx="97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ke-u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84320" y="119556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register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4 1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0 4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station range. In case of one station, dial the station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fter hearing confirmation tone, enter 4-digit wake-up time (HHmm)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24-hour mode. (HH= 00~23, mm=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one-day, or 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until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1208160"/>
            <a:ext cx="0" cy="624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9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01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248616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79360" y="2814480"/>
            <a:ext cx="1221120" cy="815040"/>
            <a:chOff x="1179360" y="2814480"/>
            <a:chExt cx="1221120" cy="815040"/>
          </a:xfrm>
        </p:grpSpPr>
        <p:sp>
          <p:nvSpPr>
            <p:cNvPr id="47" name=""/>
            <p:cNvSpPr/>
            <p:nvPr/>
          </p:nvSpPr>
          <p:spPr>
            <a:xfrm>
              <a:off x="1370160" y="281448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93480" y="283824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33811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5120" y="33699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28461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87640" y="3460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82680" y="28461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71880" y="33541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12840" y="228600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4320" y="3662280"/>
            <a:ext cx="37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79360" y="3871800"/>
            <a:ext cx="1239840" cy="815400"/>
            <a:chOff x="1179360" y="3871800"/>
            <a:chExt cx="1239840" cy="815400"/>
          </a:xfrm>
        </p:grpSpPr>
        <p:sp>
          <p:nvSpPr>
            <p:cNvPr id="58" name=""/>
            <p:cNvSpPr/>
            <p:nvPr/>
          </p:nvSpPr>
          <p:spPr>
            <a:xfrm>
              <a:off x="1370160" y="3871800"/>
              <a:ext cx="86976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3400" y="3895560"/>
              <a:ext cx="8359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443880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65120" y="442764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9360" y="390384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87640" y="45180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1760" y="390384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0600" y="441180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5920" y="2476440"/>
            <a:ext cx="44146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9760" y="1905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8880" y="1243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76400" y="49039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71440" y="5245200"/>
            <a:ext cx="1220760" cy="815040"/>
            <a:chOff x="1171440" y="5245200"/>
            <a:chExt cx="1220760" cy="815040"/>
          </a:xfrm>
        </p:grpSpPr>
        <p:sp>
          <p:nvSpPr>
            <p:cNvPr id="71" name=""/>
            <p:cNvSpPr/>
            <p:nvPr/>
          </p:nvSpPr>
          <p:spPr>
            <a:xfrm>
              <a:off x="1362240" y="52452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85560" y="526896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63680" y="58118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7200" y="58006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71440" y="52768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79720" y="58910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4760" y="52768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63600" y="57848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920" y="4703760"/>
            <a:ext cx="37922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400" y="6080040"/>
            <a:ext cx="3733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171440" y="6402240"/>
            <a:ext cx="1227240" cy="815400"/>
            <a:chOff x="1171440" y="6402240"/>
            <a:chExt cx="1227240" cy="815400"/>
          </a:xfrm>
        </p:grpSpPr>
        <p:sp>
          <p:nvSpPr>
            <p:cNvPr id="82" name=""/>
            <p:cNvSpPr/>
            <p:nvPr/>
          </p:nvSpPr>
          <p:spPr>
            <a:xfrm>
              <a:off x="1362240" y="6402240"/>
              <a:ext cx="85068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62960" y="6426360"/>
              <a:ext cx="768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NG DATE/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BL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63680" y="6969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57200" y="6958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71440" y="6434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9720" y="7048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81240" y="64342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0080" y="6942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8000" y="4894200"/>
            <a:ext cx="44146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120" y="7194600"/>
            <a:ext cx="169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SET WAKE-UP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66680" y="1231920"/>
            <a:ext cx="0" cy="5632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5560" y="1085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06520" y="1085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720" y="12384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6560" y="793800"/>
            <a:ext cx="30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rint out Accumulated SMDR Recor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145260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73240" y="1757520"/>
            <a:ext cx="1220760" cy="815040"/>
            <a:chOff x="1173240" y="1757520"/>
            <a:chExt cx="1220760" cy="815040"/>
          </a:xfrm>
        </p:grpSpPr>
        <p:sp>
          <p:nvSpPr>
            <p:cNvPr id="313" name=""/>
            <p:cNvSpPr/>
            <p:nvPr/>
          </p:nvSpPr>
          <p:spPr>
            <a:xfrm>
              <a:off x="1363680" y="175752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87000" y="178128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5120" y="23241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58640" y="23130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73240" y="17892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1160" y="240336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76200" y="178920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65400" y="22971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20760" y="12826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" y="1468440"/>
            <a:ext cx="44132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32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077840" y="2579760"/>
            <a:ext cx="395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 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87560" y="3998880"/>
            <a:ext cx="365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account group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count grou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ccumulated SMDR records will be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 printer connected to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6320" y="4253040"/>
            <a:ext cx="10929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/300E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100/24/20 : 01~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483408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1080" y="503388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ACT GRP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account group to be print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3040" y="50115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14440" y="4299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14440" y="54831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581040" y="51418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2680" y="57913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79640" y="599112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GRP PRT SMDR key.</a:t>
            </a: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account group to be print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1600" y="59691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12640" y="6369120"/>
            <a:ext cx="324000" cy="32364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1160640" y="2763720"/>
            <a:ext cx="1220760" cy="815400"/>
            <a:chOff x="1160640" y="2763720"/>
            <a:chExt cx="1220760" cy="815400"/>
          </a:xfrm>
        </p:grpSpPr>
        <p:sp>
          <p:nvSpPr>
            <p:cNvPr id="340" name=""/>
            <p:cNvSpPr/>
            <p:nvPr/>
          </p:nvSpPr>
          <p:spPr>
            <a:xfrm>
              <a:off x="1351080" y="2763720"/>
              <a:ext cx="85068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76920" y="2787480"/>
              <a:ext cx="903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P CALL CHR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52520" y="33307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46040" y="33195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60640" y="27957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8560" y="34099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63600" y="27957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52800" y="33037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077840" y="357336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504720" y="374652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3760" y="1033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10368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3800" y="1208160"/>
            <a:ext cx="0" cy="5541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1960" y="793800"/>
            <a:ext cx="173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Erase SMDR Records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840" y="2111400"/>
            <a:ext cx="3357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81080" y="228924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DEL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20636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760" y="230184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14440" y="27478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81040" y="23860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4920" y="304812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79640" y="32259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DEL SMDR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840" y="323856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06520" y="365760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076400" y="396864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call account group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account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8960" y="4722840"/>
            <a:ext cx="3662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81080" y="49053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CT GRP DEL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account group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200" y="4913280"/>
            <a:ext cx="43974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509760" y="43434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506520" y="5334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573120" y="50086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04920" y="572436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590220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GRP DEL SMDR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3840" y="591516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506520" y="630540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79640" y="1203480"/>
            <a:ext cx="37940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*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0112, </a:t>
            </a:r>
            <a:br>
              <a:rPr sz="800"/>
            </a:b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DK-16/20W: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TRANS/PGM  *8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desired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rcRect l="7341" t="10310" r="8842" b="13247"/>
          <a:stretch/>
        </p:blipFill>
        <p:spPr>
          <a:xfrm>
            <a:off x="507960" y="1727280"/>
            <a:ext cx="271440" cy="247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733920" y="118728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 16:  Above V4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W    : Above V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73760" y="1033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10368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3800" y="1208160"/>
            <a:ext cx="0" cy="2678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2320" y="793800"/>
            <a:ext cx="209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Erase SMDR Record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77840" y="1219320"/>
            <a:ext cx="32655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play call char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760" y="183204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81080" y="20019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DISP CALL CHARG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20636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9680" y="201600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6520" y="24717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68440" y="2112840"/>
            <a:ext cx="161640" cy="249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280368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73160" y="29811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DISP CALL CHRG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840" y="299412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06520" y="341640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65840" y="4479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4483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77840" y="47196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 shown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8840" y="6951600"/>
            <a:ext cx="151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200" y="46418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5"/>
          <a:srcRect l="0" t="13640" r="0" b="0"/>
          <a:stretch/>
        </p:blipFill>
        <p:spPr>
          <a:xfrm>
            <a:off x="488880" y="4691160"/>
            <a:ext cx="428760" cy="271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514440" y="6915240"/>
            <a:ext cx="323640" cy="32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981080" y="5181480"/>
          <a:ext cx="1295640" cy="1782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81480"/>
                    <a:ext cx="12956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93840" y="42544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by Name (for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645080"/>
            <a:ext cx="0" cy="2678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406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584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3800" y="1219320"/>
            <a:ext cx="0" cy="4038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1054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3200" y="12128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200" y="797040"/>
            <a:ext cx="21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by Name (for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73160" y="1461960"/>
            <a:ext cx="3956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3 times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168560" y="1951200"/>
            <a:ext cx="1220760" cy="815040"/>
            <a:chOff x="1168560" y="1951200"/>
            <a:chExt cx="1220760" cy="815040"/>
          </a:xfrm>
        </p:grpSpPr>
        <p:sp>
          <p:nvSpPr>
            <p:cNvPr id="415" name=""/>
            <p:cNvSpPr/>
            <p:nvPr/>
          </p:nvSpPr>
          <p:spPr>
            <a:xfrm>
              <a:off x="1359000" y="19512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83400" y="1974960"/>
              <a:ext cx="92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USER DIAL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AY-NIGH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25178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53960" y="25066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68560" y="19828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76480" y="25970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1880" y="19828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60720" y="24908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078560" y="2760840"/>
            <a:ext cx="297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760" y="126360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9680" y="146052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73120" y="167940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077840" y="3352680"/>
            <a:ext cx="3956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6 times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160640" y="3819600"/>
            <a:ext cx="1220760" cy="815040"/>
            <a:chOff x="1160640" y="3819600"/>
            <a:chExt cx="1220760" cy="815040"/>
          </a:xfrm>
        </p:grpSpPr>
        <p:sp>
          <p:nvSpPr>
            <p:cNvPr id="430" name=""/>
            <p:cNvSpPr/>
            <p:nvPr/>
          </p:nvSpPr>
          <p:spPr>
            <a:xfrm>
              <a:off x="1351080" y="38196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75840" y="3843360"/>
              <a:ext cx="90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CLI AL D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C VMIB ANN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ANCEL FE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G STA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52520" y="4386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46040" y="4375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60640" y="38512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68560" y="44658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63600" y="3851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52800" y="4359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81800" y="4629240"/>
            <a:ext cx="29700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REG STA NAM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840" y="3132000"/>
            <a:ext cx="3573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1760" y="332892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06520" y="47815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565200" y="354816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93840" y="551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Messag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5840" y="5791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6680" y="57942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76400" y="6019920"/>
            <a:ext cx="3641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number of the desired message (11~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message using the code in Dial by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8480" y="5965920"/>
            <a:ext cx="0" cy="925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5"/>
          <a:srcRect l="0" t="20221" r="0" b="0"/>
          <a:stretch/>
        </p:blipFill>
        <p:spPr>
          <a:xfrm>
            <a:off x="488880" y="6014880"/>
            <a:ext cx="428760" cy="2509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506520" y="645804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95280" y="59641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 Outgoing Disabl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79640" y="2340000"/>
            <a:ext cx="3657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once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LDK-300/300E/100/24/20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6 times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1800" y="3870360"/>
            <a:ext cx="3259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DISABLE CO OUT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outside line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5840" y="1020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8480" y="1189080"/>
            <a:ext cx="0" cy="323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06680" y="10238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76400" y="1217520"/>
            <a:ext cx="36417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outgoing calls a CO lin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outside line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hearing confirmation tone, selected outside line button is disab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eat the process to enable the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5280" y="118728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760" y="2139840"/>
            <a:ext cx="3205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2280" y="23241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77840" y="544500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5446800"/>
            <a:ext cx="0" cy="156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5840" y="52736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7160" y="52736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360" y="54403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2880" y="4978440"/>
            <a:ext cx="454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tation user can change the class of service to lower class temporarily to prevent unauthoriz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of the station by oth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77840" y="614988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mov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3840" y="47116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orary COS Chang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6520" y="5867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06520" y="6634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488880" y="1263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488880" y="5489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488880" y="62071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573120" y="2558880"/>
            <a:ext cx="162000" cy="2494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1168560" y="2940120"/>
            <a:ext cx="2869920" cy="965520"/>
            <a:chOff x="1168560" y="2940120"/>
            <a:chExt cx="2869920" cy="965520"/>
          </a:xfrm>
        </p:grpSpPr>
        <p:sp>
          <p:nvSpPr>
            <p:cNvPr id="476" name=""/>
            <p:cNvSpPr/>
            <p:nvPr/>
          </p:nvSpPr>
          <p:spPr>
            <a:xfrm>
              <a:off x="1359000" y="294012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83400" y="2963880"/>
              <a:ext cx="929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MSG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ICMBOX MS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LOCK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NTERCOM ONL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60440" y="35067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53960" y="34956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68560" y="2971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76480" y="3586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71880" y="2971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0720" y="34797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08160" y="2946240"/>
              <a:ext cx="85104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33280" y="2970360"/>
              <a:ext cx="90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CLI AL D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C VMIB ANN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ANCEL FE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G STA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09960" y="3513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03480" y="3502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17720" y="2978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6000" y="3592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21040" y="2978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9880" y="3486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720" y="3705120"/>
              <a:ext cx="1276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LDK-300/300E/100/24/20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49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65840" y="2552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98760" y="25560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81080" y="2754360"/>
            <a:ext cx="364176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art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op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the result of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bort printing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73160" y="2727360"/>
            <a:ext cx="0" cy="26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4040" y="1041480"/>
            <a:ext cx="44960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will monitor the system and record various traffic data which can be printed up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quest. The information can be used to determine whether the circuits installed in the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re adequa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When enabled, it will continue to monitor the traffic until disabled. The traffic data is collect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nd sent to the RS232C port upon request. The collected traffic data contains two types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raffic dat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first type is peg counts which give an actual count of the number of times a particu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operation has occurred. Peg counts are given in absolute values from 00000 to 99999.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cond type of data is usage times which give the average percent occupancy of a device, i.e.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tations, CO lines, DTMF receivers, etc. Usage times are given in seconds from 00000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99999. Counts and times are cumulative from the time the monitoring is activated, and 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set by initiating the start up procedure agai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7360" y="27255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" y="792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ffic Analysi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22360" y="3124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88880" y="2814480"/>
            <a:ext cx="428760" cy="3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4240" y="1828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66800" y="1832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5760" y="2006640"/>
            <a:ext cx="364176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all summary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Measurement Time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all summary traffic report periodically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ancel periodic printing of all summary traffic repor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the traffic repo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Attendant Traffic Repor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all Summar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all Hourl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H/W Unit Usage Summar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O Traffic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O Traffic Hourl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2003400"/>
            <a:ext cx="0" cy="3216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5760" y="20019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560" y="792000"/>
            <a:ext cx="280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ffic Analysi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0520" y="6083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0" y="60865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6257880"/>
            <a:ext cx="0" cy="72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0080" y="5800680"/>
            <a:ext cx="423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attendant can cancel the features, DND CALL FORWARD and preselected mess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ctivating at other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6259680"/>
            <a:ext cx="2333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tation range to be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3840" y="5562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asing Station Messag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16176" r="0" b="0"/>
          <a:stretch/>
        </p:blipFill>
        <p:spPr>
          <a:xfrm>
            <a:off x="488880" y="6283440"/>
            <a:ext cx="428760" cy="2635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90400" y="246384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14440" y="66200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557280" y="2039760"/>
            <a:ext cx="428400" cy="314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80880" y="6256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1160" y="1039680"/>
            <a:ext cx="451728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can monitor and print various system activate based on the attendant’s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raffic-monitoring program is activated only when enabled and will continue accumula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stics until disabled. The traffic data is output to the RS-232C port upon manual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support the following traffic reports; Attendant Traffic Report, Call Summa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, Call Hourly Report, H/W Unit Usage Summary Report, CO Traffic Report and CO Traff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urly Re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52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20760" y="2398680"/>
            <a:ext cx="2181240" cy="2989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4680" y="2471760"/>
            <a:ext cx="1285920" cy="188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20600" y="2057400"/>
            <a:ext cx="252288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ype (00~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  GDK-FPII/100              Langu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0                  0 0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1                  0 1              Kore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2                  0 2              Ital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3                  0 3              Engl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4                  0 4              Swed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5                  0 5              Norweg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6                  0 6              Fin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7                  0 7              Du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8                  0 8              Sp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9                  0 9              Kore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0                  1 0              D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1 1              Germ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1 2              Germ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3                  1 3              Eston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2                  1 4              Estonia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4                  1 5              Swed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5                  1 6              Italy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6                  1 7              Norway for Large LC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7                  1 8              Fin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8                  1 9              Dutc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0                  2 0              Russ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9                   2 1              Spa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1                  2 2              Russi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1                  2 3              Da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2                  2 4              Portuguese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2 5              Portuguese for Large LCD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5440" y="2544840"/>
            <a:ext cx="217008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57440" y="2422440"/>
            <a:ext cx="1440" cy="2944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79520" y="2411280"/>
            <a:ext cx="1800" cy="2944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70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93720" y="10382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680" y="1228680"/>
            <a:ext cx="4405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1227240"/>
            <a:ext cx="0" cy="559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000" y="79704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LCD Langu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67040" y="1271520"/>
            <a:ext cx="25581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LCD language at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</a:t>
            </a:r>
            <a:r>
              <a:rPr b="1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anguage type with the following codes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K-16/20W: English / Each Nation’s Langu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06520" y="1900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88880" y="13478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429000" y="216540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300/300E/100/24/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Type (00~1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2840" y="2390760"/>
            <a:ext cx="16639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/300E      Langu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/100/24/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0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1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2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in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3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4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5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6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rweg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7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ungar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8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9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0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1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2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Kore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3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4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06760" y="2749680"/>
            <a:ext cx="1293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2476440"/>
            <a:ext cx="0" cy="1882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800" y="5486400"/>
            <a:ext cx="3505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16 / 20W (16: 4.0XX &amp; 20W: 3.0X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81080" y="5759280"/>
            <a:ext cx="365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LCD language at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anguage ( English / Each Nation’s Langu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7720" y="5676840"/>
            <a:ext cx="4399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90400" y="63054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65200" y="5775480"/>
            <a:ext cx="42840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73760" y="1239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6280" y="1243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1720" y="14302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ICM box musi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music channel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0~9, LDK-300/300E: 01~12, LDK-100:01~11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DK-24/20:1~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520" y="1041480"/>
            <a:ext cx="321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can select the music channel source to an ICM box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1413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0000" y="801720"/>
            <a:ext cx="294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Box BGM Selection by Attendan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3800" y="1420920"/>
            <a:ext cx="0" cy="566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71720" y="2435400"/>
            <a:ext cx="36576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 On the display, 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166760" y="2762280"/>
            <a:ext cx="1239840" cy="815400"/>
            <a:chOff x="1166760" y="2762280"/>
            <a:chExt cx="1239840" cy="815400"/>
          </a:xfrm>
        </p:grpSpPr>
        <p:sp>
          <p:nvSpPr>
            <p:cNvPr id="558" name=""/>
            <p:cNvSpPr/>
            <p:nvPr/>
          </p:nvSpPr>
          <p:spPr>
            <a:xfrm>
              <a:off x="1357200" y="2762280"/>
              <a:ext cx="87012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0960" y="2786400"/>
              <a:ext cx="988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59000" y="332928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52160" y="331812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66760" y="27943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5040" y="340848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89160" y="27943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330228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28680" y="22352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7600" y="243540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79640" y="35971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ce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81160" y="3911760"/>
            <a:ext cx="1220760" cy="815040"/>
            <a:chOff x="1181160" y="3911760"/>
            <a:chExt cx="1220760" cy="815040"/>
          </a:xfrm>
        </p:grpSpPr>
        <p:sp>
          <p:nvSpPr>
            <p:cNvPr id="570" name=""/>
            <p:cNvSpPr/>
            <p:nvPr/>
          </p:nvSpPr>
          <p:spPr>
            <a:xfrm>
              <a:off x="1371600" y="391176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96000" y="3935520"/>
              <a:ext cx="929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MSG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ICMBOX MS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LOCK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NTERCOM ONL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73040" y="447840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560" y="446724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1160" y="394344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9080" y="45576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84480" y="394344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73320" y="445140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077840" y="474660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SET ICMBOX MS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~9 : Music from channel 1~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4440" y="1905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88880" y="15080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573120" y="358128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076400" y="5715000"/>
            <a:ext cx="36576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 On the display, 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58840" y="6067440"/>
            <a:ext cx="1220760" cy="815400"/>
            <a:chOff x="1158840" y="6067440"/>
            <a:chExt cx="1220760" cy="815400"/>
          </a:xfrm>
        </p:grpSpPr>
        <p:sp>
          <p:nvSpPr>
            <p:cNvPr id="584" name=""/>
            <p:cNvSpPr/>
            <p:nvPr/>
          </p:nvSpPr>
          <p:spPr>
            <a:xfrm>
              <a:off x="1349280" y="6067440"/>
              <a:ext cx="85104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75480" y="6091560"/>
              <a:ext cx="903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P CALL CHR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51080" y="66344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44240" y="66232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58840" y="60994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67120" y="67136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62160" y="60994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51000" y="66074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20760" y="55148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9680" y="571500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498600" y="5176800"/>
            <a:ext cx="323640" cy="3240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596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076400" y="2436840"/>
            <a:ext cx="3657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the ICMBX MSC S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0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300/300E: 01~12 ( Music from channel 1~1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100: 01~11 ( Music from channel 1~1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24/20: 1~8 ( Music from channel 1~8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77840" y="12272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times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73240" y="1579680"/>
            <a:ext cx="1220760" cy="815040"/>
            <a:chOff x="1173240" y="1579680"/>
            <a:chExt cx="1220760" cy="815040"/>
          </a:xfrm>
        </p:grpSpPr>
        <p:sp>
          <p:nvSpPr>
            <p:cNvPr id="601" name=""/>
            <p:cNvSpPr/>
            <p:nvPr/>
          </p:nvSpPr>
          <p:spPr>
            <a:xfrm>
              <a:off x="1363680" y="15796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88800" y="1603440"/>
              <a:ext cx="8694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/N/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CMBX BGM S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3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65120" y="21463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58640" y="21351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73240" y="16113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81160" y="22255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76560" y="16113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5400" y="21193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96880" y="126828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73760" y="10144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6280" y="10177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1187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3800" y="1195560"/>
            <a:ext cx="0" cy="2271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0000" y="801720"/>
            <a:ext cx="332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Box BGM Selection by Attendan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560" y="3878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92280" y="38815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7360" y="4038480"/>
            <a:ext cx="439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81080" y="4059360"/>
            <a:ext cx="3795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External Page Port musi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1)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2), 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3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music channel (LDK-300/300E:01~12, LDK-100:01~11, LDK-24/20:1~8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65240" y="4029120"/>
            <a:ext cx="0" cy="3362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4120" y="3639960"/>
            <a:ext cx="44928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Page Port BGM Selection by Attendant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Only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6400" y="5105520"/>
            <a:ext cx="3813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times. 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0760" y="490536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9680" y="510552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173240" y="5559480"/>
            <a:ext cx="1220760" cy="815040"/>
            <a:chOff x="1173240" y="5559480"/>
            <a:chExt cx="1220760" cy="815040"/>
          </a:xfrm>
        </p:grpSpPr>
        <p:sp>
          <p:nvSpPr>
            <p:cNvPr id="625" name=""/>
            <p:cNvSpPr/>
            <p:nvPr/>
          </p:nvSpPr>
          <p:spPr>
            <a:xfrm>
              <a:off x="1363680" y="55594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88800" y="5583240"/>
              <a:ext cx="8694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/N/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CMBX BGM S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3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65120" y="61261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58640" y="61149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73240" y="55911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81160" y="6205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76560" y="55911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65400" y="60991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65200" y="52102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065600" y="6397560"/>
            <a:ext cx="26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BGM TO EXT 1~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300/300E : 01~12 ( Music from channel 1~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100 : 01~11 ( Music from channel 1~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24/20: 1~8 ( Music from channel 1~8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514440" y="30672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14440" y="7108920"/>
            <a:ext cx="323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9800" y="793800"/>
            <a:ext cx="1400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ke-up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200240"/>
            <a:ext cx="0" cy="342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9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3524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01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1080" y="1219320"/>
            <a:ext cx="3962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station range (XXX-YYY) to receive wake-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4-digit wake-up time (HHmm) in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one-day, or 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until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4320" y="1752480"/>
            <a:ext cx="3716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ancel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firmation tone is heard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s light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ancel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will be extinguishe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40" y="259092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73520" y="2781360"/>
            <a:ext cx="2620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WAKE-UP ERAS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canceled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1760" y="27813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4440" y="1447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440" y="2266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9760" y="32004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8880" y="18176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1680" y="3578400"/>
            <a:ext cx="36608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1000" y="3768840"/>
            <a:ext cx="3066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DISBL WAKE UP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canceled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0600" y="376884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98600" y="419112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465840" y="3706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90480" y="37101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867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66680" y="3873600"/>
            <a:ext cx="0" cy="630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3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084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1206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77840" y="1238400"/>
            <a:ext cx="3810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DSS stat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terminate the cal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1212840"/>
            <a:ext cx="0" cy="652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5920" y="2057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ing a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5840" y="2333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90480" y="23367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79640" y="249552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eak in normal voice tone to announce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66680" y="24922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2495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8000" y="3429000"/>
            <a:ext cx="44226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erring an Outside Line to Another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79640" y="388296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ing an outside line, press the desired DSS station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wait to announce the transfer 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1600" y="793800"/>
            <a:ext cx="407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DSS Operation /Placing an Intercom Call from the 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5840" y="4983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90480" y="49863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880" y="5143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079640" y="51624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programmed INTERCOM GROUP CALL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all is connected to an idle station in the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5141880"/>
            <a:ext cx="0" cy="555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0880" y="5907240"/>
            <a:ext cx="44197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riding a Key Telephone in Do Not Distu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3760" y="6145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0480" y="61484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6305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79640" y="62960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of the station to be overridden. (DND tone or busy ton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programmed OVERRID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30396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756320"/>
            <a:ext cx="44071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6920" y="4756320"/>
            <a:ext cx="161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Group Cal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6400" y="692928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of the station to be overridden. (DND tone or busy ton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* to override the station in DND or in bus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840" y="675468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GDK-16/20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1760" y="695160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672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1600" y="793800"/>
            <a:ext cx="23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Programming Menu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1240" y="1041480"/>
            <a:ext cx="424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can program some features with this table by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ppropriate co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16160" y="4254480"/>
            <a:ext cx="1042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63760" y="4254480"/>
            <a:ext cx="90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75280" y="4254480"/>
            <a:ext cx="604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1447920"/>
            <a:ext cx="4394160" cy="20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1240" y="144792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 Ma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7800" y="15462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66280" y="1447920"/>
            <a:ext cx="40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11920" y="154620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 Menu -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64560" y="1447920"/>
            <a:ext cx="40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4840" y="1546200"/>
            <a:ext cx="44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 Men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64520" y="154620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- II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24760" y="149688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30800" y="1496880"/>
            <a:ext cx="32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74760" y="1657440"/>
            <a:ext cx="67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PRINT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5640" y="1746360"/>
            <a:ext cx="49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STA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98680" y="16938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3280" y="16938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74040" y="1868400"/>
            <a:ext cx="98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DELETE (STA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98680" y="18684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83280" y="18684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74760" y="2001960"/>
            <a:ext cx="67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PRINT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084400"/>
            <a:ext cx="51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RP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83560" y="204624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P# (+ END GRP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83280" y="20462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4760" y="2225520"/>
            <a:ext cx="100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DELETE (GRP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83560" y="22255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P# (+ END GRP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83280" y="22255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72600" y="2362320"/>
            <a:ext cx="743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DISPLAY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97520" y="24433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83280" y="24051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75840" y="2579760"/>
            <a:ext cx="87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ABORT PRIN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603600" y="257976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83280" y="25797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76200" y="2736720"/>
            <a:ext cx="88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7] PRINT LOS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83280" y="27367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64680" y="231300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75480" y="2889360"/>
            <a:ext cx="96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8] DELETE LOS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83280" y="28893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75120" y="303372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PRINT 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96800" y="311292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27840" y="306864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83280" y="30751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75120" y="322596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PRINT 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98600" y="3306600"/>
            <a:ext cx="42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27840" y="321948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49800" y="3308400"/>
            <a:ext cx="72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Print Time (Hou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83280" y="32670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75120" y="342252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ABORT PERIOD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5640" y="35100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06840" y="345744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83280" y="3457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74760" y="3638520"/>
            <a:ext cx="58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PRINT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0" y="3719520"/>
            <a:ext cx="372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27840" y="367344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83280" y="3673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174760" y="384804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PRIN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96800" y="392904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06840" y="388944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83280" y="3889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74760" y="405144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PRIN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98240" y="4132440"/>
            <a:ext cx="36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OUR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06840" y="409248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83280" y="4092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75120" y="4281480"/>
            <a:ext cx="91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7] PRINT H/W U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23160" y="428148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83280" y="4281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5480" y="4427640"/>
            <a:ext cx="54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8] PRINT 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92120" y="450864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21360" y="446256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83280" y="44560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00680" y="3151080"/>
            <a:ext cx="36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PR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65400" y="386244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TRAFF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75480" y="4626000"/>
            <a:ext cx="93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9] PRINT CO HOUR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04160" y="4632480"/>
            <a:ext cx="39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er 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91160" y="46324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p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3280" y="46260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66840" y="4757760"/>
            <a:ext cx="74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SET ICM ON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83120" y="48420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14520" y="479268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41680" y="479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1840" y="4792680"/>
            <a:ext cx="57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2200" y="487188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65040" y="4962600"/>
            <a:ext cx="767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RESTORE 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314520" y="497052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41680" y="4970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61840" y="4970520"/>
            <a:ext cx="57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0680" y="5141880"/>
            <a:ext cx="819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AUTHORIZ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59280" y="509904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87080" y="5191200"/>
            <a:ext cx="72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09840" y="514836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6040" y="50990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19560" y="519732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62520" y="529128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89960" y="5381640"/>
            <a:ext cx="47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E/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94880" y="5327640"/>
            <a:ext cx="44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M/DD/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62760" y="53420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63960" y="5532480"/>
            <a:ext cx="72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SET WAKE 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05160" y="553248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30720" y="54896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18120" y="556740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60360" y="568152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DISABLE WAK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91400" y="5778360"/>
            <a:ext cx="12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05160" y="57294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28920" y="567540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22800" y="577224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65760" y="5913360"/>
            <a:ext cx="849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LCD DATE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10560" y="59133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MDDYY/DDMM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83280" y="59133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67560" y="6070680"/>
            <a:ext cx="82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LCD TIME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2040" y="6070680"/>
            <a:ext cx="34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H/24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83280" y="60706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" y="578160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65400" y="623268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USE PX 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49960" y="627048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/OF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83280" y="6270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1447920"/>
            <a:ext cx="4400640" cy="49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36600" y="1447920"/>
            <a:ext cx="0" cy="498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22560" y="1447920"/>
            <a:ext cx="4680" cy="498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9760" y="1442880"/>
            <a:ext cx="0" cy="50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186080" y="1447920"/>
            <a:ext cx="6480" cy="499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1520" y="16477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880" y="5105520"/>
            <a:ext cx="439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880" y="5299200"/>
            <a:ext cx="439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33360" y="49528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4753080"/>
            <a:ext cx="44071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27240" y="46162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27240" y="44258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27240" y="42544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27240" y="4044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27240" y="38419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27240" y="36320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27240" y="34225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27240" y="3225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27240" y="30290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20760" y="28702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20760" y="27115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20760" y="25653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20760" y="23623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0760" y="22096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27240" y="20001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27240" y="1866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33360" y="54910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31920" y="566244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31920" y="588636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31920" y="604836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31920" y="62056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39840" y="3029040"/>
            <a:ext cx="8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1600" y="793800"/>
            <a:ext cx="275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Programming Menu Tabl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36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36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8124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41360" y="1139760"/>
            <a:ext cx="4360680" cy="3737160"/>
            <a:chOff x="441360" y="1139760"/>
            <a:chExt cx="4360680" cy="3737160"/>
          </a:xfrm>
        </p:grpSpPr>
        <p:sp>
          <p:nvSpPr>
            <p:cNvPr id="828" name=""/>
            <p:cNvSpPr/>
            <p:nvPr/>
          </p:nvSpPr>
          <p:spPr>
            <a:xfrm>
              <a:off x="452520" y="1147680"/>
              <a:ext cx="4349520" cy="21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136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360" y="114300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8268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5756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9580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0048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060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1360" y="487188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360" y="134604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82680" y="154296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82680" y="17431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82680" y="194328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82680" y="20858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1360" y="228456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71600" y="11444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 M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MEN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70680" y="1144440"/>
              <a:ext cx="52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ub Menu - 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62040" y="1139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ub Menu - I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58240" y="11923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ele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4840" y="1192320"/>
              <a:ext cx="32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Remar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31280" y="1349280"/>
              <a:ext cx="87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1] PRESELECT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59800" y="144612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7120" y="134460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30360" y="1441440"/>
              <a:ext cx="63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+ MSG #(00-1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51240" y="134460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49800" y="144144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31280" y="1547640"/>
              <a:ext cx="87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2] PRESELECT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59440" y="164448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DE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27120" y="159696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51240" y="154764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49800" y="164448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3800" y="1746360"/>
              <a:ext cx="73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3] CUSTOM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60520" y="18446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RE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30360" y="1746360"/>
              <a:ext cx="58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SG # (11-2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27480" y="184464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+ MSG STR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51240" y="174636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49800" y="184464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32360" y="1967040"/>
              <a:ext cx="80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4] ERASE VM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33600" y="196704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8640" y="1768320"/>
              <a:ext cx="58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33080" y="2097000"/>
              <a:ext cx="83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ATD DEL ALL CL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72320" y="217800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6200" y="2290680"/>
              <a:ext cx="59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6] REC. VMI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1040" y="2387520"/>
              <a:ext cx="75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NNOUNCE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28560" y="2340000"/>
              <a:ext cx="84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VMIB ANNC# (01-7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11280" y="2346480"/>
              <a:ext cx="56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YSTEM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24080" y="2489040"/>
              <a:ext cx="48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1] CANC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47920" y="257976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27120" y="253836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51240" y="248904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9800" y="258768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19400" y="2689200"/>
              <a:ext cx="76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2] RESISTER 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39640" y="2778120"/>
              <a:ext cx="25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26400" y="2736720"/>
              <a:ext cx="58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+ 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50160" y="273672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14720" y="288936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3]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43240" y="2978280"/>
              <a:ext cx="63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CO OUTGO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25680" y="2936880"/>
              <a:ext cx="81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PRESSING CO BT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50160" y="2936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18680" y="30877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4] AUTO 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5040" y="3176640"/>
              <a:ext cx="26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O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26040" y="313524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TD/AU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14000" y="3286080"/>
              <a:ext cx="7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ICM BOX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26040" y="3286080"/>
              <a:ext cx="72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BGM CHANNEL #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25680" y="3382920"/>
              <a:ext cx="34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(01-12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50160" y="33354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13280" y="348624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6] EXT PORT#1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000" y="3583080"/>
              <a:ext cx="23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24600" y="353520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50160" y="35352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13280" y="368460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7] EXT PORT#2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40000" y="3782880"/>
              <a:ext cx="23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24600" y="373392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50160" y="373392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3280" y="389880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8] EXT PORT#3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58640" y="397980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24600" y="393228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50160" y="39322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10040" y="4122720"/>
              <a:ext cx="75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9] PREPAID CAL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4400" y="3386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7]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1520" y="3484440"/>
              <a:ext cx="78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UPPLEMENTA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10040" y="4262400"/>
              <a:ext cx="68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*] LCD DISPL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73760" y="4344840"/>
              <a:ext cx="54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LANGU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4040" y="4467240"/>
              <a:ext cx="42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*] BOAR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2600" y="4564080"/>
              <a:ext cx="764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ERVICE 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25680" y="4467240"/>
              <a:ext cx="63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LOT NUMB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28560" y="4564080"/>
              <a:ext cx="35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(01 – 27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4760" y="467208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#] WHT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1160" y="476892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UBSCRI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7840" y="4729320"/>
              <a:ext cx="68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FLEX 1 – FLEX 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28840" y="338148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CH S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1360" y="248436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82680" y="268596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82680" y="28861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82680" y="30812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82680" y="327960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82680" y="34862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82680" y="36860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82680" y="38815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82680" y="40957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82680" y="424800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1360" y="445464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1360" y="467208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932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160" y="793800"/>
            <a:ext cx="125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Gr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1080" y="3362400"/>
            <a:ext cx="387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record with DKTU) button or * (to record with external MO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after hearing the me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your greeting and hang up to finish the record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while the message is 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3800" y="1461960"/>
            <a:ext cx="0" cy="5989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680" y="128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13000" y="12891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600" y="1033560"/>
            <a:ext cx="427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provides announcements for Hunt service (UCD/Circular/Terminal) or DISA and onl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attendant can record this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680" y="3863880"/>
            <a:ext cx="10429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-16/20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2520" y="4033800"/>
            <a:ext cx="373392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nnouncement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: System Greeting,  2: System Promp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announcement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ource number (1: external MOH,  2: DKT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to start recor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have 19 System Greetings and 9 Prompt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ystem Greetings (Announcement Type 1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: Day Time System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Night Time System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: Circular &amp; Terminal Hunt Group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: 1st UCD Group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: 2nd UCD Group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: Ring Group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 : DVIB MOH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: SLT Message Waiting Indication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 : Off-Net Forward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: Group Overflow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-19: CCR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ystem Prompts (Announcement Type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: Timeout Promp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: No Answer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Retry Prompt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 : Transfer to Attendant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: Busy Prompt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: Authorization Code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: DND Prompt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 : Record Start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: Invalid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nnouncement, dial the announcement number a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0221" r="0" b="14154"/>
          <a:stretch/>
        </p:blipFill>
        <p:spPr>
          <a:xfrm>
            <a:off x="496800" y="4097160"/>
            <a:ext cx="428760" cy="20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7040" y="481968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45584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760" y="405432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1080" y="1441440"/>
            <a:ext cx="3871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DVU, dial 0 1 for announcement 1, dial 0 2 for announcement 2, or 0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announcement 3. (Announcement 3 is played back when the called par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bus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DVU, you have 31 (01~31) system greeting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~9 : for Hunt or company information with DI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: for Invali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 : for Time-out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 : for Try agai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 : for Transfer to attendant messa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 : for Leav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 : for Recor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 : for Enter authorizatio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 : for MOH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 : for Busy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 : for STA off-net announcement messa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0" t="14154" r="0" b="0"/>
          <a:stretch/>
        </p:blipFill>
        <p:spPr>
          <a:xfrm>
            <a:off x="496800" y="1495440"/>
            <a:ext cx="428760" cy="2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76480" y="2581200"/>
            <a:ext cx="3601800" cy="176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400" y="793800"/>
            <a:ext cx="290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Greeting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LDK-300/300E/100/24/20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1080" y="1434960"/>
            <a:ext cx="387180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cord system greeting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0 6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announcement number (001~10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# button to record” is heard. Then press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to start recor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cord your greeting and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to finish the record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o delete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while the message is 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Prompt messages are 071~100 as defaul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1: VMIB MOH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6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2: Reserved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7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3: Invalid Number Prompt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8: Remote VMIB Control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4: Time out Prompt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9: Remote VMIB Sub-menu for digit 1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5: Retry Prompt                      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6: Transfer to Attendant Prompt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0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7: Reserved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1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8: Leave Message Prompt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2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9: Record Start Prompt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3: Remote VMIB Sub-menu for digit 2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0: Authorization Code Prompt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1: Busy Prompt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4: Remote VMIB Sub-menu for digit 3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2: Reserved                           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3: Station Off-net Forward Prompt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5: Remote VMIB Sub-menu for digit *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4: DND Prompt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5: No Answer Prompt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6: Leave Message after Tone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7~100: Reserv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3800" y="1195560"/>
            <a:ext cx="0" cy="3233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68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1300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6800" y="1469880"/>
            <a:ext cx="428760" cy="31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3200" y="120168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3760" y="4992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43040" y="49942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3800" y="5159520"/>
            <a:ext cx="0" cy="2192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0040" y="4802040"/>
            <a:ext cx="437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attendant to set the Time/Date without entering Admin Programm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168880"/>
            <a:ext cx="3646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Date + Time. Enter as YYMMDDHHm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= Year 00~99, MM= Month 01~12, DD= Date 01~31, HH= Hour 00~23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m= minute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f there is no need to change date or time, press *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MMDD + * or * + HH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720" y="62722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-16/20W , LDK-300/300E/100/24/20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800" y="645624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3360" y="6458040"/>
            <a:ext cx="377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100/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24/20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Date as MMDDYY (6 digits)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as military format (4 digits)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re is no need to change date or tim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go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 ste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8880" y="513540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4440" y="595296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5920" y="5165640"/>
            <a:ext cx="441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572000"/>
            <a:ext cx="44197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400" y="4572000"/>
            <a:ext cx="138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Clock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14440" y="20289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8680" y="1251000"/>
            <a:ext cx="2033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760" y="144144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816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187280"/>
            <a:ext cx="0" cy="5823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4880" y="10382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7560" y="1231920"/>
            <a:ext cx="3641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dat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4148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1720" y="212580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840" y="11955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800" y="212580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8520" y="781200"/>
            <a:ext cx="187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ing Time/Date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66760" y="2573280"/>
            <a:ext cx="1246320" cy="815400"/>
            <a:chOff x="1166760" y="2573280"/>
            <a:chExt cx="1246320" cy="815400"/>
          </a:xfrm>
        </p:grpSpPr>
        <p:sp>
          <p:nvSpPr>
            <p:cNvPr id="162" name=""/>
            <p:cNvSpPr/>
            <p:nvPr/>
          </p:nvSpPr>
          <p:spPr>
            <a:xfrm>
              <a:off x="1357200" y="2573280"/>
              <a:ext cx="87012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0960" y="2597040"/>
              <a:ext cx="988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9000" y="31399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2160" y="312912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6760" y="26049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75040" y="321948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5640" y="26049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84480" y="31129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54080" y="3387600"/>
            <a:ext cx="27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CHG DATE MOD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8880" y="12715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388620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1600" y="407052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4080" y="6353280"/>
            <a:ext cx="27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CD DATE MOD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0622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62080" y="4403880"/>
            <a:ext cx="1220760" cy="815040"/>
            <a:chOff x="1162080" y="4403880"/>
            <a:chExt cx="1220760" cy="815040"/>
          </a:xfrm>
        </p:grpSpPr>
        <p:sp>
          <p:nvSpPr>
            <p:cNvPr id="177" name=""/>
            <p:cNvSpPr/>
            <p:nvPr/>
          </p:nvSpPr>
          <p:spPr>
            <a:xfrm>
              <a:off x="1352520" y="44038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6200" y="442764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3960" y="49705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47480" y="49593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62080" y="44355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0360" y="50497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65400" y="44355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4240" y="49435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66680" y="5238720"/>
            <a:ext cx="3733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62080" y="5560920"/>
            <a:ext cx="1227240" cy="815400"/>
            <a:chOff x="1162080" y="5560920"/>
            <a:chExt cx="1227240" cy="815400"/>
          </a:xfrm>
        </p:grpSpPr>
        <p:sp>
          <p:nvSpPr>
            <p:cNvPr id="187" name=""/>
            <p:cNvSpPr/>
            <p:nvPr/>
          </p:nvSpPr>
          <p:spPr>
            <a:xfrm>
              <a:off x="1352520" y="556092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53240" y="5584680"/>
              <a:ext cx="768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NG DATE/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BL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53960" y="61279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7480" y="61167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55926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0360" y="62071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71880" y="55926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0720" y="61009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88160" y="101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177920"/>
            <a:ext cx="0" cy="234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04880" y="10224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1080" y="1173240"/>
            <a:ext cx="3641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tim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-hour mode and 24-hour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3840" y="1179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400" y="785880"/>
            <a:ext cx="230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ing Time/Date Format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6800" y="12319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71720" y="203688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1280" y="2287440"/>
            <a:ext cx="259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CHG TIME MOD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 and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85256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800" y="203688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3800" y="27986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53360" y="3049560"/>
            <a:ext cx="259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CD TIME MOD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 and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2960" y="26146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880" y="279864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811680"/>
            <a:ext cx="44197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880" y="3809880"/>
            <a:ext cx="35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Set Current Time 1 Hour Early/L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ly in 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3760" y="4056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43040" y="40575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3800" y="4222800"/>
            <a:ext cx="0" cy="116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0200" y="4232160"/>
            <a:ext cx="2004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the current time 1 hour ear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the current time 1 hour l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229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8880" y="42926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4038480"/>
            <a:ext cx="4419720" cy="2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7000" y="1341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49520" y="13446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76400" y="1528920"/>
            <a:ext cx="37940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ore system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esired outside lin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use system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" y="1031760"/>
            <a:ext cx="445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roup of speed dial numbers can be stored within the system for access by allowed st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numbers provide speedy access to often used outgoing CO dialing numb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2160" y="1841400"/>
            <a:ext cx="12812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 : 2000~4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E : 2000~6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100/24 : 2000~34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20:2000~24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/20W : 2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3800" y="1515960"/>
            <a:ext cx="0" cy="229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6800" y="1716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18199" r="0" b="12132"/>
          <a:stretch/>
        </p:blipFill>
        <p:spPr>
          <a:xfrm>
            <a:off x="504720" y="1552680"/>
            <a:ext cx="428760" cy="218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14440" y="214308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80880" y="1508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6200" y="7984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7080" y="4040280"/>
            <a:ext cx="1351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Intr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600" y="44546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8480" y="4622760"/>
            <a:ext cx="0" cy="283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680" y="44578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76400" y="4611600"/>
            <a:ext cx="4016160" cy="28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flexible key as the Intrusion but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 available in GDK-16/20W)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flexible key to be registe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ttendant intrusion (LDK-300/300E/100/24/20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DK-162/100/FPII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corresponding to the busy station you wish to call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sy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ATD INTRUS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trusion warning tone is heard in the busy station, then a 3-w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erence is set up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ttendant intrusion (GDK-16/20W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CO button you wish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f intrusion is allowed by Admin program, then 3 way conversation is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. If intrusion is not allowed, busy tone will be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Base Program (Main Menu 5) - System Attribute (Sub Menu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ivacy (Terminal Menu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520" y="427212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may intrude into any station which is in conversation with a CO li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6213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14440" y="52484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88880" y="4854600"/>
            <a:ext cx="4287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2240" y="793800"/>
            <a:ext cx="357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On-demand/Night Mode Service (Manual/Automati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76400" y="2021040"/>
            <a:ext cx="37940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On-demand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t attendant st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is flashing. (The system is placed into On-de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essing th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ne more, then the system is placed into N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demand mode is not activated automatical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7000" y="1814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9280" y="1814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981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76400" y="301608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change Day/Night mode automatic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DAY TIME + NIGHT TIME, or DAY TIME + * or  * + NIGHT TIME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Enter as HHmm (HH= hour 00~23, mm= minute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5240" y="1974960"/>
            <a:ext cx="0" cy="200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2240" y="1035000"/>
            <a:ext cx="4348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station can be placed into night service mode allowing ring assignment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swering privileges to station not having the privileges in the day mode. Or, can be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on-demand service mode allowing ring assignments and answering privileges to s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having the privileges in the night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GDK-16, only Day/Night mode change is available by pressing DND button at attenda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o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14440" y="3621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12640" y="20718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88880" y="307656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76400" y="5235480"/>
            <a:ext cx="3794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On-demand/Weekend/Auto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 ring mode is changed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-demand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Night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Weekend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to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D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de in sequ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demand mode is not activated automatical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7000" y="5029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9280" y="5029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4120" y="5195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76400" y="601992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uto ring mode with Attendant PGM m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7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Weekly Time Table should be entered by Admin Programm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5240" y="5202360"/>
            <a:ext cx="0" cy="1731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4586400"/>
            <a:ext cx="4488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can be placed in Day/On-demand/Night/Weekend/Auto mode operation man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y pressing [DND/FWD] button at attendant station. In Auto ring mode, the ring mode will fo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eekly Time Table (PGM 233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840" y="434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On-demand/Night/Weekend Mode Servic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LDK-300/300E/100/24/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4440" y="64008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12640" y="5410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88880" y="60800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76400" y="1806480"/>
            <a:ext cx="37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Auto Ring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 ring mode is changed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ght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Auto Ring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de in sequ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920" y="1600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0080" y="1600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520" y="1766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6400" y="2292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uto ring mode with Attendant PGM m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eekly Time Table should be entered by Admin Progra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5240" y="1773360"/>
            <a:ext cx="0" cy="988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3600" y="1041480"/>
            <a:ext cx="4487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can be placed in Day/Night/Auto Ring mode operation manually by pres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[DND/FWD] button at attendant station. In Auto ring mode, the ring mode will follow the Weekl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ime Table in Admin Programming(Main 5- Sub21 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uto Ring mode is available for ver 4.0XX(GDK-16) and 3.0XX(GDK-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838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Night/Auto Ring Mode Servic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0040" y="1828800"/>
            <a:ext cx="3780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81080" y="48499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44440" y="5178600"/>
            <a:ext cx="1220760" cy="815040"/>
            <a:chOff x="1144440" y="5178600"/>
            <a:chExt cx="1220760" cy="815040"/>
          </a:xfrm>
        </p:grpSpPr>
        <p:sp>
          <p:nvSpPr>
            <p:cNvPr id="276" name=""/>
            <p:cNvSpPr/>
            <p:nvPr/>
          </p:nvSpPr>
          <p:spPr>
            <a:xfrm>
              <a:off x="1334880" y="5178600"/>
              <a:ext cx="851040" cy="78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59280" y="5202000"/>
              <a:ext cx="8359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 PAGE (01-20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/EX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ET M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36680" y="5745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9840" y="5734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44440" y="52099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52720" y="5824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47760" y="52099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6600" y="5718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66680" y="3654360"/>
            <a:ext cx="0" cy="371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000" y="350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1320" y="350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1520" y="36590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144440" y="6153120"/>
            <a:ext cx="1220760" cy="815040"/>
            <a:chOff x="1144440" y="6153120"/>
            <a:chExt cx="1220760" cy="815040"/>
          </a:xfrm>
        </p:grpSpPr>
        <p:sp>
          <p:nvSpPr>
            <p:cNvPr id="289" name=""/>
            <p:cNvSpPr/>
            <p:nvPr/>
          </p:nvSpPr>
          <p:spPr>
            <a:xfrm>
              <a:off x="1334880" y="615312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9640" y="6176880"/>
              <a:ext cx="936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 GRD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 GRP DEL SM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SP CALL CHARG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36680" y="67197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29840" y="67086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44440" y="6184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52720" y="6799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47760" y="6184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36600" y="66927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74600" y="698508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4680000"/>
            <a:ext cx="37922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1800" y="4865760"/>
            <a:ext cx="44132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7560" y="3635280"/>
            <a:ext cx="37940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111, </a:t>
            </a:r>
            <a:br>
              <a:rPr sz="800"/>
            </a:b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DK-16/20W: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TRANS/PGM + * 8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umulated SMDR records will be printed out through the pri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ed to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88880" y="40165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88880" y="714384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08360" y="365436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 16:  Above V4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W    : Above V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960" y="3216240"/>
            <a:ext cx="480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on Message Detail Recording(SMDR) can provide details on both incoming and outgo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3840" y="2984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rint out Accumulated SMDR 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황재희</dc:creator>
  <dc:description/>
  <dc:language>en-US</dc:language>
  <cp:lastModifiedBy>manual_temp</cp:lastModifiedBy>
  <cp:lastPrinted>2001-04-24T00:46:31Z</cp:lastPrinted>
  <dcterms:modified xsi:type="dcterms:W3CDTF">2004-11-01T05:29:01Z</dcterms:modified>
  <cp:revision>188</cp:revision>
  <dc:subject/>
  <dc:title>ATD Operation</dc:title>
</cp:coreProperties>
</file>