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5335588" cy="8002588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52600" y="7388280"/>
            <a:ext cx="64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8C3DD5-D1DF-4C75-A5FD-B2CF923C48CC}" type="slidenum"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13280" y="79200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33440" y="1020600"/>
            <a:ext cx="4664160" cy="63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Family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...........................................................................................................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utton Arrangement for Digital Key Telephone Family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.................................................................... 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 Line Feat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 .................................................................................................................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Outside Call................................................................................................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Transfer .................................................................................................................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..................................................................................................................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................................................................................................................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Memo.....................................................................................................................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o Call Number Redial.........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Queuing................................................................................................................…….......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xecutive/Secretary Transfer ..........................................................................................................…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ep Call .......................................................................................................................................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ed Dial Numbers  .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oring Dial By Name 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Park ...................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niversal Night Answer........................................................................................................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Feat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Intercom Answer Mode 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 .......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Intercom Call  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on Hold...................................................................................................….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Differential Ring  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Voice Over..........................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 Call Wait with Voice Over 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rected Call Pick-up...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 ..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ute  ......................................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Back....................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....................................................................................................................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o Not Disturb............................................................................................................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Forward  .....................................................................................................................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aging ........................................................................................................……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lash ..................................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akerphone .........................................................................................................................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aker Volume Control.................................................................................................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ing Volume Control ............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Feat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Group Call..........................................................................................................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 CO Call on Hold ...................................................................................................................…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roup Call Pick-up...............................................................................................................................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  ....................................................................................................................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ccess Authorization Code...................................................................................................................... 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locking Outside Calls .........................................................................................................................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storing Outside Calls 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Call ..........................................................................................................................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sing Dial By Name ...............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ogramming Your Name into Display 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-selected Message .........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ser Custom Message Programming 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..............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Voice Announcement ...............................................................................................….………………………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 Message Wait ………………………………………………………………………………………..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SA (Direct Inward System Access) 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CD Language Change ...................................................................................................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larm Reset ...................................................................................................…………………………………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wo-way Recording 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929120" y="1500120"/>
            <a:ext cx="414360" cy="1447920"/>
          </a:xfrm>
          <a:custGeom>
            <a:avLst/>
            <a:gdLst>
              <a:gd name="textAreaLeft" fmla="*/ 20160 w 414360"/>
              <a:gd name="textAreaRight" fmla="*/ 394200 w 414360"/>
              <a:gd name="textAreaTop" fmla="*/ 20160 h 1447920"/>
              <a:gd name="textAreaBottom" fmla="*/ 1427760 h 1447920"/>
            </a:gdLst>
            <a:ahLst/>
            <a:rect l="textAreaLeft" t="textAreaTop" r="textAreaRight" b="textAreaBottom"/>
            <a:pathLst>
              <a:path w="21600" h="75431">
                <a:moveTo>
                  <a:pt x="3600" y="0"/>
                </a:moveTo>
                <a:arcTo wR="3600" hR="3600" stAng="16200000" swAng="-5400000"/>
                <a:lnTo>
                  <a:pt x="0" y="71831"/>
                </a:lnTo>
                <a:arcTo wR="3600" hR="3600" stAng="10800000" swAng="-5400000"/>
                <a:lnTo>
                  <a:pt x="18000" y="75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5120" y="1596960"/>
            <a:ext cx="3477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CO Line Featu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24440" y="3173400"/>
            <a:ext cx="414360" cy="1954080"/>
          </a:xfrm>
          <a:custGeom>
            <a:avLst/>
            <a:gdLst>
              <a:gd name="textAreaLeft" fmla="*/ 20160 w 414360"/>
              <a:gd name="textAreaRight" fmla="*/ 394200 w 414360"/>
              <a:gd name="textAreaTop" fmla="*/ 20160 h 1954080"/>
              <a:gd name="textAreaBottom" fmla="*/ 1933920 h 1954080"/>
            </a:gdLst>
            <a:ahLst/>
            <a:rect l="textAreaLeft" t="textAreaTop" r="textAreaRight" b="textAreaBottom"/>
            <a:pathLst>
              <a:path w="21600" h="101794">
                <a:moveTo>
                  <a:pt x="3600" y="0"/>
                </a:moveTo>
                <a:arcTo wR="3600" hR="3600" stAng="16200000" swAng="-5400000"/>
                <a:lnTo>
                  <a:pt x="0" y="98194"/>
                </a:lnTo>
                <a:arcTo wR="3600" hR="3600" stAng="10800000" swAng="-5400000"/>
                <a:lnTo>
                  <a:pt x="18000" y="10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89520" y="3505320"/>
            <a:ext cx="3477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Intercom Featu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24440" y="5405400"/>
            <a:ext cx="407880" cy="1947960"/>
          </a:xfrm>
          <a:custGeom>
            <a:avLst/>
            <a:gdLst>
              <a:gd name="textAreaLeft" fmla="*/ 19800 w 407880"/>
              <a:gd name="textAreaRight" fmla="*/ 388080 w 407880"/>
              <a:gd name="textAreaTop" fmla="*/ 19800 h 1947960"/>
              <a:gd name="textAreaBottom" fmla="*/ 1928160 h 1947960"/>
            </a:gdLst>
            <a:ahLst/>
            <a:rect l="textAreaLeft" t="textAreaTop" r="textAreaRight" b="textAreaBottom"/>
            <a:pathLst>
              <a:path w="21600" h="103086">
                <a:moveTo>
                  <a:pt x="3600" y="0"/>
                </a:moveTo>
                <a:arcTo wR="3600" hR="3600" stAng="16200000" swAng="-5400000"/>
                <a:lnTo>
                  <a:pt x="0" y="99486"/>
                </a:lnTo>
                <a:arcTo wR="3600" hR="3600" stAng="10800000" swAng="-5400000"/>
                <a:lnTo>
                  <a:pt x="18000" y="103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89520" y="5824440"/>
            <a:ext cx="3477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System Featu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1360" y="1042920"/>
            <a:ext cx="4511520" cy="66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arge LCD Keyset Feat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CD Brightness Control .........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endar Display...................................................................................................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oor Open ...................................................................................................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ation Programming Menu Table (LDK-300/300E/100/24/20) ...........................................................…….  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lexible Button Programming 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Ope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Call.....................................................................................................................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Greetings.............................................................................................................................…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Clock Set ...........................................................................................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Time/Date Format ..............................................................................................................…….. 5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Set Current Time 1 Hour Early/Late …………………………………………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..............................................................................................................................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Intrusion ................................................................................................................…... 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ay/On-demand/Night Mode Service (Manual/Automatic) .........................................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6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ay/On-demand/Night/Weekend Mode Service (LDK-300/300E/100/24/20)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ay/Night/Auto Ring Mode Service (GDK-16/20W)……………………………………………………………….. 6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Print out Accumulated SMDR Records...........................................................................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Erase SMDR Record.......................................................................................................................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6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By Name (for ICM)……………………………………………………………………………………………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ustomized Message.........................................................................................................................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 Outgoing Disable................................................................................................................…... 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emporary COS Change..................................................................................................................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raffic Analysis......................................................................................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rasing Station Message ......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LCD Language .......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Box BGM Selection by Attendant ..........................................................................................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xternal Page Port BGM Selection by Attendant ……………………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DSS Operation ..............….................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ake a Page .………………...............................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ransferring an Outside Line to Another Station.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Group Call ……...................................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verriding a Key Telephone in Do Not Disturb ......................................................................................……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Programming Menu Table (LDK-300/300E/100/24/20)……………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otel Operation(GDK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roduction.....................................................................................................................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Hotel Name.........................................................................................................................…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In...................................................................................................................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In /Change a Guest's Room Status.....................................................…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&amp; Change a Guest Name (Room Status Type 1).....................................................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7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lass of Service (Room Status Type 2).....................................................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uest Alarm Call (Room Status Type 3).....................................................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Enable/Disable (Room Status Type 4)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to Room Call Group (Room Status Type 5).....................................................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horization Code (Room Status Type 6)........................................................................................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-paid Call Charge (Room Status Type 7)...........................................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Charge Rate (Room Status Type 8)..............................................................................................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by Listening ..........................................................................................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Out ......................................................................……………………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Charge Display &amp; Printing .................................................................................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inting a Guest's Room Status ........................................................................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Call Enable/Disable ................................................................................................................……8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ne-Time CO Call Enable .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e LCD Display Language .....................................................................................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th Alarm .....................................................................................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83 Maid Status ……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Bar &amp; Mini-Bar Charge …………….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3280" y="79848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908600" y="1114560"/>
            <a:ext cx="426960" cy="998280"/>
            <a:chOff x="4908600" y="1114560"/>
            <a:chExt cx="426960" cy="998280"/>
          </a:xfrm>
        </p:grpSpPr>
        <p:sp>
          <p:nvSpPr>
            <p:cNvPr id="50" name=""/>
            <p:cNvSpPr/>
            <p:nvPr/>
          </p:nvSpPr>
          <p:spPr>
            <a:xfrm>
              <a:off x="4929120" y="1114560"/>
              <a:ext cx="406440" cy="790560"/>
            </a:xfrm>
            <a:custGeom>
              <a:avLst/>
              <a:gdLst>
                <a:gd name="textAreaLeft" fmla="*/ 19800 w 406440"/>
                <a:gd name="textAreaRight" fmla="*/ 386640 w 406440"/>
                <a:gd name="textAreaTop" fmla="*/ 19800 h 790560"/>
                <a:gd name="textAreaBottom" fmla="*/ 770760 h 790560"/>
              </a:gdLst>
              <a:ahLst/>
              <a:rect l="textAreaLeft" t="textAreaTop" r="textAreaRight" b="textAreaBottom"/>
              <a:pathLst>
                <a:path w="21600" h="41996">
                  <a:moveTo>
                    <a:pt x="3600" y="0"/>
                  </a:moveTo>
                  <a:arcTo wR="3600" hR="3600" stAng="16200000" swAng="-5400000"/>
                  <a:lnTo>
                    <a:pt x="0" y="38396"/>
                  </a:lnTo>
                  <a:arcTo wR="3600" hR="3600" stAng="10800000" swAng="-5400000"/>
                  <a:lnTo>
                    <a:pt x="18000" y="419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08600" y="1122480"/>
              <a:ext cx="3477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Large LC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889520" y="1981080"/>
            <a:ext cx="441360" cy="2362320"/>
            <a:chOff x="4889520" y="1981080"/>
            <a:chExt cx="441360" cy="2362320"/>
          </a:xfrm>
        </p:grpSpPr>
        <p:sp>
          <p:nvSpPr>
            <p:cNvPr id="53" name=""/>
            <p:cNvSpPr/>
            <p:nvPr/>
          </p:nvSpPr>
          <p:spPr>
            <a:xfrm>
              <a:off x="4929120" y="1981080"/>
              <a:ext cx="401760" cy="2362320"/>
            </a:xfrm>
            <a:custGeom>
              <a:avLst/>
              <a:gdLst>
                <a:gd name="textAreaLeft" fmla="*/ 19440 w 401760"/>
                <a:gd name="textAreaRight" fmla="*/ 382320 w 401760"/>
                <a:gd name="textAreaTop" fmla="*/ 19440 h 2362320"/>
                <a:gd name="textAreaBottom" fmla="*/ 2342880 h 2362320"/>
              </a:gdLst>
              <a:ahLst/>
              <a:rect l="textAreaLeft" t="textAreaTop" r="textAreaRight" b="textAreaBottom"/>
              <a:pathLst>
                <a:path w="21600" h="126912">
                  <a:moveTo>
                    <a:pt x="3600" y="0"/>
                  </a:moveTo>
                  <a:arcTo wR="3600" hR="3600" stAng="16200000" swAng="-5400000"/>
                  <a:lnTo>
                    <a:pt x="0" y="123312"/>
                  </a:lnTo>
                  <a:arcTo wR="3600" hR="3600" stAng="10800000" swAng="-5400000"/>
                  <a:lnTo>
                    <a:pt x="18000" y="1269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89520" y="2392200"/>
              <a:ext cx="347760" cy="17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892400" y="4572000"/>
            <a:ext cx="459000" cy="2765520"/>
            <a:chOff x="4892400" y="4572000"/>
            <a:chExt cx="459000" cy="2765520"/>
          </a:xfrm>
        </p:grpSpPr>
        <p:sp>
          <p:nvSpPr>
            <p:cNvPr id="56" name=""/>
            <p:cNvSpPr/>
            <p:nvPr/>
          </p:nvSpPr>
          <p:spPr>
            <a:xfrm>
              <a:off x="4929120" y="4572000"/>
              <a:ext cx="422280" cy="2765520"/>
            </a:xfrm>
            <a:custGeom>
              <a:avLst/>
              <a:gdLst>
                <a:gd name="textAreaLeft" fmla="*/ 20520 w 422280"/>
                <a:gd name="textAreaRight" fmla="*/ 401760 w 422280"/>
                <a:gd name="textAreaTop" fmla="*/ 20520 h 2765520"/>
                <a:gd name="textAreaBottom" fmla="*/ 2745000 h 2765520"/>
              </a:gdLst>
              <a:ahLst/>
              <a:rect l="textAreaLeft" t="textAreaTop" r="textAreaRight" b="textAreaBottom"/>
              <a:pathLst>
                <a:path w="21600" h="141357">
                  <a:moveTo>
                    <a:pt x="3600" y="0"/>
                  </a:moveTo>
                  <a:arcTo wR="3600" hR="3600" stAng="16200000" swAng="-5400000"/>
                  <a:lnTo>
                    <a:pt x="0" y="137757"/>
                  </a:lnTo>
                  <a:arcTo wR="3600" hR="3600" stAng="10800000" swAng="-5400000"/>
                  <a:lnTo>
                    <a:pt x="18000" y="1413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92400" y="5450040"/>
              <a:ext cx="347760" cy="17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Hotel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1360" y="1042920"/>
            <a:ext cx="451152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to Room Call Group…………………………………………………………..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Rate Assign………………………………………………………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ee for Part Time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o Internal Speed Directory …………………………………………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ultiple Front Desk ……………………………………………………………………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New Cabina Call 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rief SMDR Print 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otel Operation(LDK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roduction.....................................................................................................................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Hotel Name.........................................................................................................................…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In...................................................................................................................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In /Change a Guest's Room Status.....................................................…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&amp; Change a Guest Name (Room Status Type 1).....................................................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8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lass of Service (Room Status Type 2).....................................................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uest Alarm Call (Room Status Type 3).....................................................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Enable/Disable (Room Status Type 4)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to Room Call Group (Room Status Type 5).....................................................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horization Code (Room Status Type 6)........................................................................................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-paid Call Charge (Room Status Type 7)...........................................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Charge Rate (Room Status Type 8)..............................................................................................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by Listening ..........................................................................................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Out ......................................................................……………………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Charge Display &amp; Printing .................................................................................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inting a Guest's Room Status ........................................................................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Call Enable/Disable ................................................................................................................……9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ne-Time CO Call Enable .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e LCD Display Language .....................................................................................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th Alarm .....................................................................................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94 Maid Status ……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Bar &amp; Mini-Bar Charge …………….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to Room Call Group…………………………………………………………..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Rate Assign………………………………………………………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ee for Part Time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o Internal Speed Directory …………………………………………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ultiple Front Desk ……………………………………………………………………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New Cabina Call 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rief SMDR Print 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dex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(Alphabetical Order) 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3280" y="79848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29120" y="1160640"/>
            <a:ext cx="399960" cy="1430280"/>
          </a:xfrm>
          <a:custGeom>
            <a:avLst/>
            <a:gdLst>
              <a:gd name="textAreaLeft" fmla="*/ 19440 w 399960"/>
              <a:gd name="textAreaRight" fmla="*/ 380520 w 399960"/>
              <a:gd name="textAreaTop" fmla="*/ 19440 h 1430280"/>
              <a:gd name="textAreaBottom" fmla="*/ 1410840 h 1430280"/>
            </a:gdLst>
            <a:ahLst/>
            <a:rect l="textAreaLeft" t="textAreaTop" r="textAreaRight" b="textAreaBottom"/>
            <a:pathLst>
              <a:path w="21600" h="77193">
                <a:moveTo>
                  <a:pt x="3600" y="0"/>
                </a:moveTo>
                <a:arcTo wR="3600" hR="3600" stAng="16200000" swAng="-5400000"/>
                <a:lnTo>
                  <a:pt x="0" y="73593"/>
                </a:lnTo>
                <a:arcTo wR="3600" hR="3600" stAng="10800000" swAng="-5400000"/>
                <a:lnTo>
                  <a:pt x="18000" y="771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92400" y="1247760"/>
            <a:ext cx="3477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 Op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13280" y="79848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45800" y="161136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Blank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03:21:08Z</dcterms:created>
  <dc:creator>USER</dc:creator>
  <dc:description/>
  <dc:language>en-US</dc:language>
  <cp:lastModifiedBy>manual_temp</cp:lastModifiedBy>
  <cp:lastPrinted>2001-01-31T01:58:48Z</cp:lastPrinted>
  <dcterms:modified xsi:type="dcterms:W3CDTF">2004-11-01T05:31:44Z</dcterms:modified>
  <cp:revision>78</cp:revision>
  <dc:subject/>
  <dc:title>슬라이드 제목 없음</dc:title>
</cp:coreProperties>
</file>