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5335588" cy="8002588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9960" y="723960"/>
            <a:ext cx="449604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360520" y="7396200"/>
            <a:ext cx="64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B6A611-FEBD-4945-AA7E-139A2EEA5A28}" type="slidenum"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13560" y="522360"/>
            <a:ext cx="46414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969696"/>
                </a:solidFill>
                <a:latin typeface="Arial"/>
                <a:ea typeface="돋움"/>
              </a:rPr>
              <a:t>●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GITAL KEY TELEPHONE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KD, KD/E, LKD S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99960" y="6861240"/>
            <a:ext cx="2895840" cy="55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99960" y="4413240"/>
            <a:ext cx="289584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57480" y="2795760"/>
            <a:ext cx="2935800" cy="22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KD Se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KD-36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KD-24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KD-36D : LCD Display, 24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KD-36N : No LCD Display, 24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KD-24D : LCD Display, 12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KD-24N : No LCD Display, 24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4880" y="1042920"/>
            <a:ext cx="4612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Large Digital Key Telephone</a:t>
            </a:r>
            <a:r>
              <a:rPr b="1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(You cannot use Large LCD keyset with GDK-16/20W system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KD-33LD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KD/E-36L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1360" y="4957920"/>
            <a:ext cx="418860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KD/E Se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KD/E-36EX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KD/E-24ENH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KD/E-8B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KD/E-36EXE : LCD Display, 24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KD/E-36ENH : No LCD Display, 24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KD/E-24EXE : LCD Display, 12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KD/E-24ENH : No LCD Display, 24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KD/E-8 BTN :  No LCD Display, 8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000" y="716040"/>
            <a:ext cx="1943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Digital Key Telephone Fami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2622600"/>
            <a:ext cx="4496040" cy="977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040" y="1042920"/>
            <a:ext cx="466416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LKD Series</a:t>
            </a:r>
            <a:r>
              <a:rPr b="1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(You cannot use LKD-30LD with GDK-16/20W system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LKD-2N/S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LKD-8D/S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</a:t>
            </a:r>
            <a:r>
              <a:rPr b="0" lang="ko-KR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LKD-30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KD-2N/S: No LCD Display, 2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KD-8D/S: LCD Display, 8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KD-30D: LCD Display, 30 Flexible Buttons (Dual LED with Flex. BTN 01~24 &amp; Single LED with 25~3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KD-30LD: Large LCD Display, 30 Flexible Buttons (Dual LED with Flex. BTN 01~24 &amp; Single LED with 25~3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KD-DSS: 48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※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he LKD series keysets can be normally operated in the following S/W version or lat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GDK-FPII: GS40P-1.2A   // GDK-100: GS00P-3.2A  // GDK-162: GS86P-5.1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GDK-FPII: GS40P-1.1Cd // GDK-100: GS00P-3.1Df // GDK-162: GS86P-4.0E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7200" y="3684600"/>
            <a:ext cx="44200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KE/C, KD/C Series</a:t>
            </a:r>
            <a:r>
              <a:rPr b="1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(CTI is not available with GDK-16/20W system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KE/C, KD/C Series keysets have normal functions as KD, KD/E keysets and CTI (Comput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elephony Integration) function to connect PC (RS-232C Interface Function). Connecting C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odule, the KE/C, KD/C keyset operates to transmit/receive data to communicate with P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Installation Guide for Connection CTI Module to KE/C, KD/C key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.  Connect KE/C, KD/C keyset to KTU port of CTI module with 6-pin line co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2.  Connect KSU to KSU port of CTI module with 4-pin line co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3.  Connect the serial port of PC to the serial port of CTI module with 9-pin RS-232C cab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3800" y="722160"/>
            <a:ext cx="1943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Digital Key Telephone Fami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4600" y="716040"/>
            <a:ext cx="3416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Button Arrangement for Digital Key Telephone Fami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4320" y="1042920"/>
            <a:ext cx="4578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Large Digital Key Telephone</a:t>
            </a:r>
            <a:r>
              <a:rPr b="1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(You cannot use large LCD keyset with GDK-16/20W system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KD-33LD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KD/E-36L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200" y="4000680"/>
            <a:ext cx="4527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KD Se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KD-36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KD-36N                 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KD-24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KD-24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4600" y="716040"/>
            <a:ext cx="3416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Button Arrangement for Digital Key Telephone Fami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720" y="1073160"/>
            <a:ext cx="427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KD/E Se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KD/E-36EX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KD/E-24ENH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KD/E-8B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5800" y="4000680"/>
            <a:ext cx="303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LKD Se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KD-8D/S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         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LKD-30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4T06:31:22Z</dcterms:created>
  <dc:creator>황재희</dc:creator>
  <dc:description/>
  <dc:language>en-US</dc:language>
  <cp:lastModifiedBy>smcho</cp:lastModifiedBy>
  <cp:lastPrinted>2000-03-21T05:35:01Z</cp:lastPrinted>
  <dcterms:modified xsi:type="dcterms:W3CDTF">2003-03-09T06:55:11Z</dcterms:modified>
  <cp:revision>44</cp:revision>
  <dc:subject/>
  <dc:title>Keyset</dc:title>
</cp:coreProperties>
</file>