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AD3-1EB6-45E6-B23C-E5E3DAC8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1C1-54C5-4C2D-87F0-A02CF422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7F7-8C75-4A70-96BC-984230E1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F0D-4A5A-452A-A42E-F6384F93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E81-1811-43EC-917B-4C872C81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EED-C7DE-4AA6-8F16-AB7059C6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8B0-F294-4CA7-B03B-BCF70CC7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1AF-6626-4AC4-87BB-415FE7F8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6D7-8ED0-4B30-B2CC-248C65FD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DF1-D622-43A3-A9F8-FB9E0802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2B5-AD87-4189-BF35-CBB34E54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901-65B4-4D6B-945C-81BC16CE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7DD395-9A8B-4BE8-AD41-9D09B6B0D5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1190520"/>
            <a:ext cx="4740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/ Quick Reference Guide           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33640" y="137160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1603440"/>
            <a:ext cx="234936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ixed Feature But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LASH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is used to terminate an outside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d re-seize dial tone without having to hang u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he handset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provides you with access to spe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aling, save number redial and last number redi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(TRANSFER) button is used to transfer a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utside call from a station to anoth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(CALLBACK) button allows you to lea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 callback indication at a station that is busy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unattended, or in Do Not Distur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is used to establish conference call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ND/FW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(Do Not Disturb/Forward) butto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llows you to forward your calls to anoth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estination, or make DND m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363680"/>
            <a:ext cx="373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Quick Reference Guide for Digital Key Teleph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7000" y="1724040"/>
            <a:ext cx="235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allows you to switch the built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icrophone on or off when using the speakerphon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r the handset microphone when using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enables you to make a phone call wit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-out lifting handset. It turns the telephone on and off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when using the speakerphon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enables you to place an outside call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n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EDIA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allows you to make last number redial an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▼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VOLUME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 ▲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ar allows you to adjust speakerphon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d handset volum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3301920"/>
            <a:ext cx="4478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3294000"/>
            <a:ext cx="260676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For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MON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DND/FWD button and dial the desired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orward typ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0 : Follow me (not available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1 : Uncondit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2 : Busy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3 : 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4 : Busy/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5 : Station off-n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6 : Incoming outside line to off-net (ATD only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7 : DVU forward for no answer-1(after 4sec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8 : DVU forward for no answer-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after predefined tim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9 : DVU forward for bus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# : Cancel previous call forw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number or press DSS button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group where calls are forwarded.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 GDK-16/20W, only 1 DVIB forward is avail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DND/FOR + ‘7’: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VU forward for no answer/busy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 LDK-300/300E/100/24/20, Forward type 0~7 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vail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5 : Station off-net, uncondit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 : Station off-net, no answ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: Incoming outside line to off-net (Sys. ATD only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make Call forward to VMIB, press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key af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ing call forward type (1~4)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 dial a busy station, you may alert it to your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*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the las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git of called station number or press DSS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party answers, consult with th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hang up to transfer the call, if an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the desired party (internal or outside). Whe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ed party answers, press CONF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dd next conference party by selecting anoth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utside line or intercom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party answers, press CONF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ll parties are connect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36840" y="3294000"/>
            <a:ext cx="234792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terminate a conferenc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he conference initiator should be actively in th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ang up, or press CONF button to finish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 (only for conference initiator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eaving a Message Waiting 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f you dial a station that is unattended or in 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Not Disturb, you can leave a message wai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dic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intercom station. Busy tone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ND tone is hea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CALLBK button. The called party’s CALLB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LED will flas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answer a Message Waiting Indicati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flashing CALLBK button and the station that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left message will be signaled with tone ring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f called station does not answer, press the CALLB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once to leave a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 on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- Once for system h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- Twice for exclusive h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everse if hold preference is programmed t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ystem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 (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 line call will be put on hold according to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old Preferen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he last dialed number on an outside line is sa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REDIAL button. Or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dial  *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 LDK-300/300E/100/24/20, each station with LCD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as 10 last dialed number directory.You may find a dialed number by pressing VOLUME key. And press HOLD/SAVE button to dial th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2560" y="7543800"/>
            <a:ext cx="210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ote: The feature which is mark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s not available in GDK-16/20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661360" y="1355760"/>
            <a:ext cx="441000" cy="1600200"/>
            <a:chOff x="5661360" y="1355760"/>
            <a:chExt cx="441000" cy="1600200"/>
          </a:xfrm>
        </p:grpSpPr>
        <p:sp>
          <p:nvSpPr>
            <p:cNvPr id="49" name=""/>
            <p:cNvSpPr/>
            <p:nvPr/>
          </p:nvSpPr>
          <p:spPr>
            <a:xfrm>
              <a:off x="5695920" y="1355760"/>
              <a:ext cx="406440" cy="1600200"/>
            </a:xfrm>
            <a:custGeom>
              <a:avLst/>
              <a:gdLst>
                <a:gd name="textAreaLeft" fmla="*/ 19800 w 406440"/>
                <a:gd name="textAreaRight" fmla="*/ 386640 w 406440"/>
                <a:gd name="textAreaTop" fmla="*/ 19800 h 1600200"/>
                <a:gd name="textAreaBottom" fmla="*/ 1580400 h 1600200"/>
              </a:gdLst>
              <a:ahLst/>
              <a:rect l="textAreaLeft" t="textAreaTop" r="textAreaRight" b="textAreaBottom"/>
              <a:pathLst>
                <a:path w="21600" h="84985">
                  <a:moveTo>
                    <a:pt x="3600" y="0"/>
                  </a:moveTo>
                  <a:arcTo wR="3600" hR="3600" stAng="16200000" swAng="-5400000"/>
                  <a:lnTo>
                    <a:pt x="0" y="81385"/>
                  </a:lnTo>
                  <a:arcTo wR="3600" hR="3600" stAng="10800000" swAng="-5400000"/>
                  <a:lnTo>
                    <a:pt x="18000" y="849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61360" y="1496880"/>
              <a:ext cx="3506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Quick Ref. Gui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600200"/>
            <a:ext cx="2530440" cy="70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 wish to save a number you dialed,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fter dialing the number of an outside party, kee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handset off-hoo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dial a saved number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dial #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call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station number or DSS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You can select a screened or unscreened transfer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creened Transf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at extension answers, announce the transf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 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Unscreened Transf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extension begins to signal, hang u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toring Speed Dial Nu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 and then SPEED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speed number b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 Station Speed Number bin:00~19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0~099 (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* 01~20 :GDK-16(ver.1.0~3.0),GDK-20W(ver.1.0~2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* 01~19 :GDK-16(ver. 4.0),GDK-20W(ver.3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 System Speed Number bin :200~999 (GDK-162)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Attendant programmed)      200~399 (GDK-FPII/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~99 (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4999 (LDK-3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6999 (LDK-300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3499 (LDK-100/2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2499 (LDK-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phone numbers to be stor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 to save th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erase an exiting speed bin,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 and then SPEED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speed number bin to be eras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ing a Speed Numb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dial the speed number b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party answers, pick up the hands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use speakerph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Voice Ove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t is available when the station has been programm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ith voice over.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a busy keyset engaged in an internal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xternal call is called through camp-on by a caller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OLD/SAVE button of busy keyset is flashing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fter tone, the busy keyset will be connected 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oth partie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Queuing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You see that a particular line is busy and want to b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ed on a list waiting for the first line in the grou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station to become avail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MON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he busy outside line button, specific l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roup button or DSS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ing CALLBK button, your CALLBK 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s lighting and confirmation tone is hea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MON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1560" y="1363680"/>
            <a:ext cx="3139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Quick Reference Guide for Digital Key Tele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4656240"/>
            <a:ext cx="2187360" cy="3268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98760" y="4627440"/>
            <a:ext cx="26971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rect Station Select    100~399 (LDK-3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0~1599 (LDK-300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227 (L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~41     (LDK-2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~25     (LDK-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291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235 (G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177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115 (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Park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GDK-162/LDK-300/300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1~610 (GDK-100/L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1~608 (LDK-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1~605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    TRANS/PGM + 8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       SPEED + bin no. 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00~099 (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* 01~20 :GDK-16(ver. 1.0~3.0)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DK-20W(ver: 1.0~2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      SPEED +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in n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4999 (LDK-3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6999 (LDK-300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3499 (LDK-100/2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2499 (LDK-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~999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~399 (GDK-100/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~99     (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ll Call Page                4  9 (# 0 in GDK-16/20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 4 9 in 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 6 9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569 in 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        SPEED +  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ED + #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84720" y="7924680"/>
            <a:ext cx="1742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o erase a flexible butt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the flexible button to be eras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79320" y="1596960"/>
            <a:ext cx="23356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answer a queue reques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busy outside line button, specific l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roup button or DSS button returns to idle, y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ear ringing and the queued line button flash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 and dial outside li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3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ttendant Clock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attendant can set the Time/Date without enter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dmin. Programming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# 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nter Date/Time. (YYMMDDHHm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there is no need to change date or time, press *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ke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In GDK-16/20W &amp; LDK-300/300E/100/24/20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# 1 (0 4 1 in LDK-300/300E/100/24/20). 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nter Date (YYMMDDHH) and press HOLD/SA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nter Time (HHmm) and 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there is no need to change date or time, do not d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urrent date/time and 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lexible Buttons Programm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a flexible button to be programm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ee the below chart and dial the desired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08:04:16Z</dcterms:created>
  <dc:creator>황재희</dc:creator>
  <dc:description/>
  <dc:language>en-US</dc:language>
  <cp:lastModifiedBy>manual_temp</cp:lastModifiedBy>
  <cp:lastPrinted>2001-01-31T00:01:40Z</cp:lastPrinted>
  <dcterms:modified xsi:type="dcterms:W3CDTF">2004-11-03T01:54:49Z</dcterms:modified>
  <cp:revision>103</cp:revision>
  <dc:subject/>
  <dc:title>Quick Guide</dc:title>
</cp:coreProperties>
</file>