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LDK HOTEL OPERATION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44680" y="74469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B38793-F3BA-40C6-ACDA-0561E3AEF8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440" y="793800"/>
            <a:ext cx="92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66680" y="3000240"/>
            <a:ext cx="38736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hotel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9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hotel name (up to 24 digits) with the code a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2987640"/>
            <a:ext cx="0" cy="234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5440" y="2819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2819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986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5083200"/>
            <a:ext cx="37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7560" y="1044720"/>
            <a:ext cx="451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DK hotel S/W has a number of features that have been designed specifically for hotel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hospitality applications. The additional features that are available, add value to the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ered to guests and increase the efficiency of sta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section is aimed at the system manager and anyone else that requires a detail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 of the hotel facilities and their operation. These features are additional to the norm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ice features and refer to the other sections in this user gui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available for LDK Hotel S/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1760" y="224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Hotel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494080"/>
            <a:ext cx="43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registering or changing the name of hotel. In check-out or display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ge, the registered hotel name is printed out in the heading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5486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760" y="5765760"/>
            <a:ext cx="439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view the status of a room and check-in a gue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hecking in a guest without changing the Room Status, the following default values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applied to the roo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Day &amp; Night C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ke-Up Ti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com Enable/Disa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ernal call is not allowed (For Italy, En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to Room Call Grou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zation Cod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registe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-paid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 Charge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old" descr=""/>
          <p:cNvPicPr/>
          <p:nvPr/>
        </p:nvPicPr>
        <p:blipFill>
          <a:blip r:embed="rId1"/>
          <a:stretch/>
        </p:blipFill>
        <p:spPr>
          <a:xfrm>
            <a:off x="514440" y="5037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2" name="trans" descr=""/>
          <p:cNvPicPr/>
          <p:nvPr/>
        </p:nvPicPr>
        <p:blipFill>
          <a:blip r:embed="rId2"/>
          <a:stretch/>
        </p:blipFill>
        <p:spPr>
          <a:xfrm>
            <a:off x="488880" y="3056040"/>
            <a:ext cx="4287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58680" y="3600360"/>
          <a:ext cx="3117960" cy="154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8680" y="3600360"/>
                    <a:ext cx="31179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7080" y="793800"/>
            <a:ext cx="170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69056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range of rooms the same room rate,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5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1668600"/>
            <a:ext cx="0" cy="99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5440" y="1500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35240" y="1500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6668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360" y="106668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7440" y="3154320"/>
            <a:ext cx="42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case a guest checks in and checks out in the same day, part time fee may be char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rding to the room type or hotel policy. Each room type may have up to 6 fields for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t part time range and fee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9163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 for Par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376236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fee for part time table at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6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fee for part time (00~3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range. (Press Flex. BTN 1 and dial the time with 4 digi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hange rate for the part time. (Press Flex. BTN 2 and dial fixed 3 dig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000 to 100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eras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nstead of dia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3759120"/>
            <a:ext cx="0" cy="134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5440" y="3591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35240" y="3591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757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626580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insert Internal Speed Directory at Front Desk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 name in the internal speed directory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entering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6253200"/>
            <a:ext cx="0" cy="135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5440" y="608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35240" y="608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6251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6040" y="55753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3229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speed" descr=""/>
          <p:cNvPicPr/>
          <p:nvPr/>
        </p:nvPicPr>
        <p:blipFill>
          <a:blip r:embed="rId1"/>
          <a:stretch/>
        </p:blipFill>
        <p:spPr>
          <a:xfrm>
            <a:off x="480960" y="47563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03" name="hold" descr=""/>
          <p:cNvPicPr/>
          <p:nvPr/>
        </p:nvPicPr>
        <p:blipFill>
          <a:blip r:embed="rId2"/>
          <a:stretch/>
        </p:blipFill>
        <p:spPr>
          <a:xfrm>
            <a:off x="525600" y="22906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4" name="hold" descr=""/>
          <p:cNvPicPr/>
          <p:nvPr/>
        </p:nvPicPr>
        <p:blipFill>
          <a:blip r:embed="rId3"/>
          <a:stretch/>
        </p:blipFill>
        <p:spPr>
          <a:xfrm>
            <a:off x="517680" y="4524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05" name="hold" descr=""/>
          <p:cNvPicPr/>
          <p:nvPr/>
        </p:nvPicPr>
        <p:blipFill>
          <a:blip r:embed="rId4"/>
          <a:stretch/>
        </p:blipFill>
        <p:spPr>
          <a:xfrm>
            <a:off x="517680" y="6865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6" name="trans" descr=""/>
          <p:cNvPicPr/>
          <p:nvPr/>
        </p:nvPicPr>
        <p:blipFill>
          <a:blip r:embed="rId5"/>
          <a:stretch/>
        </p:blipFill>
        <p:spPr>
          <a:xfrm>
            <a:off x="488880" y="1765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07" name="trans" descr=""/>
          <p:cNvPicPr/>
          <p:nvPr/>
        </p:nvPicPr>
        <p:blipFill>
          <a:blip r:embed="rId6"/>
          <a:stretch/>
        </p:blipFill>
        <p:spPr>
          <a:xfrm>
            <a:off x="488880" y="383364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308" name="trans" descr=""/>
          <p:cNvPicPr/>
          <p:nvPr/>
        </p:nvPicPr>
        <p:blipFill>
          <a:blip r:embed="rId7"/>
          <a:stretch/>
        </p:blipFill>
        <p:spPr>
          <a:xfrm>
            <a:off x="488880" y="632304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8160" y="793800"/>
            <a:ext cx="2365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75752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al by name with Internal Speed Director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 internal speed dial direc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[UP/DOWN]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n the cursor points to the first/seco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, dialing a character, the first matched 2 names are display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es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[UP/DOWN]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find a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for dial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440" y="1576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5240" y="1576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743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8120" y="10429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1040" y="3494160"/>
            <a:ext cx="44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Attendant can manipulate Hotel programming. If one multiple station enters hotel fe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, the others cannot enter the programming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error tone is heard with ‘Invalid” messag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2446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Front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9053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5440" y="4737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35240" y="4737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03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7920" y="4432320"/>
            <a:ext cx="45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o temporarily override toll restriction and makes a toll call from toll restri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ne. It is activated by entering feature code and the password before accessing a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3800" y="4897440"/>
            <a:ext cx="3108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t is available on a guest station or service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2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a CO line and dial tone will be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1702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New Cabina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1088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ef SMDR 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6673680"/>
            <a:ext cx="0" cy="8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440" y="6505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35240" y="6505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66722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360" y="6353280"/>
            <a:ext cx="38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brief SMDR for room or service station can be printed by Front-desk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8120" y="6665760"/>
            <a:ext cx="15418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SMD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vol" descr=""/>
          <p:cNvPicPr/>
          <p:nvPr/>
        </p:nvPicPr>
        <p:blipFill>
          <a:blip r:embed="rId1"/>
          <a:stretch/>
        </p:blipFill>
        <p:spPr>
          <a:xfrm>
            <a:off x="372960" y="2165400"/>
            <a:ext cx="719280" cy="179280"/>
          </a:xfrm>
          <a:prstGeom prst="rect">
            <a:avLst/>
          </a:prstGeom>
          <a:ln w="0">
            <a:noFill/>
          </a:ln>
        </p:spPr>
      </p:pic>
      <p:pic>
        <p:nvPicPr>
          <p:cNvPr id="332" name="speed" descr=""/>
          <p:cNvPicPr/>
          <p:nvPr/>
        </p:nvPicPr>
        <p:blipFill>
          <a:blip r:embed="rId2"/>
          <a:stretch/>
        </p:blipFill>
        <p:spPr>
          <a:xfrm>
            <a:off x="504720" y="17845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33" name="hold" descr=""/>
          <p:cNvPicPr/>
          <p:nvPr/>
        </p:nvPicPr>
        <p:blipFill>
          <a:blip r:embed="rId3"/>
          <a:stretch/>
        </p:blipFill>
        <p:spPr>
          <a:xfrm>
            <a:off x="52560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4" name="hold" descr=""/>
          <p:cNvPicPr/>
          <p:nvPr/>
        </p:nvPicPr>
        <p:blipFill>
          <a:blip r:embed="rId4"/>
          <a:stretch/>
        </p:blipFill>
        <p:spPr>
          <a:xfrm>
            <a:off x="533520" y="5391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trans" descr=""/>
          <p:cNvPicPr/>
          <p:nvPr/>
        </p:nvPicPr>
        <p:blipFill>
          <a:blip r:embed="rId5"/>
          <a:stretch/>
        </p:blipFill>
        <p:spPr>
          <a:xfrm>
            <a:off x="488880" y="4971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trans" descr=""/>
          <p:cNvPicPr/>
          <p:nvPr/>
        </p:nvPicPr>
        <p:blipFill>
          <a:blip r:embed="rId6"/>
          <a:stretch/>
        </p:blipFill>
        <p:spPr>
          <a:xfrm>
            <a:off x="496800" y="6740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7" name="hold" descr=""/>
          <p:cNvPicPr/>
          <p:nvPr/>
        </p:nvPicPr>
        <p:blipFill>
          <a:blip r:embed="rId7"/>
          <a:stretch/>
        </p:blipFill>
        <p:spPr>
          <a:xfrm>
            <a:off x="533520" y="715968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66680" y="174456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55320" y="793800"/>
            <a:ext cx="512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1280" y="1017720"/>
            <a:ext cx="2444760" cy="67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ss Authorization Code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larm Reset .....................................…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 Call Wait with Voice Over .......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n Intercom Call ....................…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n Outside Call ..........................………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o Call Number Redial 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ckground Music 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locking Outside Calls 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Back 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Forward 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Park 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Transfer ..........................................…………..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Wait 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Differential Ring …………………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Intercom Answer Mode 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 Message Wait 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nference 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Memo ......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rected Call Pick-up 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SA (Direct Inward System Access) ..........…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 Not Disturb 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ecutive/Secretary Transfer ..................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lash ..............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oup Call Pick-up ....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ast Number Redial 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CD Language Change 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essage Waiting 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ute .....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aging ..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 CO Call on Hold 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Call 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Group Call 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on Hold 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Outside Call ...........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-selected Message 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ogramming Your Name into Display 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Queuing ..................................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ing Volume Control ................................……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storing Outside Calls ....................…….. 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ave Number Redial ...........................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akerphone ......................................…. 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aker Volume Control ............................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ed Dial Numbers .............................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ation Programming Menu Table 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ep Call ..............................................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oring Dial By Name 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wo-way Recording ................…...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52840" y="1023840"/>
            <a:ext cx="24447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niversal Night Answer ................…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ser Custom Message Programming .......…..…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sing Dial By Name ............................….…...…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Voice Announcement 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Voice Over ......................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ake-up Call .......................................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Large LCD Keyset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endar Display ..........................….......……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or Open ..................................…....……….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CD Brightness Control .....................…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Attendant Ope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Clock Set………………………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DSS Operation 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Intrusion .....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LCD Language ..................….…….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Programming Menu Table 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Time/Date Format ..............…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 Outgoing Disable 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ustomized Message 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ay/On-demand/Night Mode Service ...…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By Name ..................................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rasing Station Message ...................…………. 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Page Port BGM Selection by ATD 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com Box BGM Selection by Attendant .…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7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verriding a Key Telephone in DND …………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ystem Greetings ..................................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ystem Speed Dial .............................…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emporary COS Change 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Erase SMDR Record ..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Print out Accumulated SMDR Records ....…. 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Set Current Time 1 Hour Early/Late 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5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ffic Analysis ........................................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ake-up Call .............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Hotel Operation(GDK/L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horization Code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9,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o Internal Speed Directory 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5,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by Listening 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th Alarm ..................…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3,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rief SMDR Print 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Charge Rate 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e LCD Display Language 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2,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In ............................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6,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In/Change a Guest Room Status 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7,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Out ...…..….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lass Of Service 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ee for Part Time ………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5,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uest Alarm Call .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com Enable/Disable 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aid Status .............................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3,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ultiple Front Desk ……………………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ew Cabina Call 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e-time CO Call Enable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2,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-paid Call Charge 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9,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inting a Guest Room Status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1,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Bar &amp; Mini-Bar Charge 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&amp; Change a Guest Name 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7,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Hotel Name. ……………………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6,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Charge Display &amp; Printing 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1,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Rate Assign 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to Room Call Group 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43080" y="3895560"/>
            <a:ext cx="36338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793800"/>
            <a:ext cx="110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1080" y="1244520"/>
            <a:ext cx="373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in a guest with Standard Room Status,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3800" y="1212840"/>
            <a:ext cx="0" cy="99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75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300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200" y="1206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1760" y="24382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/ Change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7520" y="2971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3800" y="3139920"/>
            <a:ext cx="0" cy="22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975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179880"/>
            <a:ext cx="37940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Status Type (1~8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 Register/Change Guest Name (within 12 character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 Register/Change Day and Night Class of Service(Outside Call Restric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 Register/Change Alarm Call (wake-up)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 Set Intercom Enable/Dis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 Set Room to Room Call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 Register/Change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 Register/Change Pre-paid Call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 Register/Change Call Charge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ly Room Status Type 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0680" y="269064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eck in the guest and change the Room Status from the default values, you should e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llowing inform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635328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 guest's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gister/change guest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guest's name with the character code. (within 12 character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340320"/>
            <a:ext cx="0" cy="114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5440" y="617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35240" y="617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633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0040" y="5862600"/>
            <a:ext cx="42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register/change a guest's name which will b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out on the guest's bill when check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800" y="5626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&amp; Change a Guest Na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rans" descr=""/>
          <p:cNvPicPr/>
          <p:nvPr/>
        </p:nvPicPr>
        <p:blipFill>
          <a:blip r:embed="rId1"/>
          <a:stretch/>
        </p:blipFill>
        <p:spPr>
          <a:xfrm>
            <a:off x="488880" y="31161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78" name="speed" descr=""/>
          <p:cNvPicPr/>
          <p:nvPr/>
        </p:nvPicPr>
        <p:blipFill>
          <a:blip r:embed="rId2"/>
          <a:stretch/>
        </p:blipFill>
        <p:spPr>
          <a:xfrm>
            <a:off x="480960" y="1616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hold" descr=""/>
          <p:cNvPicPr/>
          <p:nvPr/>
        </p:nvPicPr>
        <p:blipFill>
          <a:blip r:embed="rId3"/>
          <a:stretch/>
        </p:blipFill>
        <p:spPr>
          <a:xfrm>
            <a:off x="501480" y="188136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80" name="speed" descr=""/>
          <p:cNvPicPr/>
          <p:nvPr/>
        </p:nvPicPr>
        <p:blipFill>
          <a:blip r:embed="rId4"/>
          <a:stretch/>
        </p:blipFill>
        <p:spPr>
          <a:xfrm>
            <a:off x="485640" y="3452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hold" descr=""/>
          <p:cNvPicPr/>
          <p:nvPr/>
        </p:nvPicPr>
        <p:blipFill>
          <a:blip r:embed="rId5"/>
          <a:stretch/>
        </p:blipFill>
        <p:spPr>
          <a:xfrm>
            <a:off x="549360" y="5105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2" name="speed" descr=""/>
          <p:cNvPicPr/>
          <p:nvPr/>
        </p:nvPicPr>
        <p:blipFill>
          <a:blip r:embed="rId6"/>
          <a:stretch/>
        </p:blipFill>
        <p:spPr>
          <a:xfrm>
            <a:off x="504720" y="66531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3" name="hold" descr=""/>
          <p:cNvPicPr/>
          <p:nvPr/>
        </p:nvPicPr>
        <p:blipFill>
          <a:blip r:embed="rId7"/>
          <a:stretch/>
        </p:blipFill>
        <p:spPr>
          <a:xfrm>
            <a:off x="525600" y="7162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4" name="trans" descr=""/>
          <p:cNvPicPr/>
          <p:nvPr/>
        </p:nvPicPr>
        <p:blipFill>
          <a:blip r:embed="rId8"/>
          <a:stretch/>
        </p:blipFill>
        <p:spPr>
          <a:xfrm>
            <a:off x="488880" y="1295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trans" descr=""/>
          <p:cNvPicPr/>
          <p:nvPr/>
        </p:nvPicPr>
        <p:blipFill>
          <a:blip r:embed="rId9"/>
          <a:stretch/>
        </p:blipFill>
        <p:spPr>
          <a:xfrm>
            <a:off x="488880" y="63914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200" y="31338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71880" y="793800"/>
            <a:ext cx="374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ss of Service (Outside Call Restriction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7720" y="104292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is checked into a room, the system will automatically remove any call bar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ions that are set when the room is vacant. The Class of Service is entered into the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information as 2-digit, the first digit represents the COS for day mode and the sec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it the COS when the system is in night mode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1296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Class of Serv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ange the Class of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s Day and Night COS (11~77: 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80036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440" y="16318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5240" y="16318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985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760" y="31561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t Alarm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408480"/>
            <a:ext cx="445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et an alarm call for a guest from the Front Desk extension. The alarm call will ring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uest's phone and when the call is answered they will receive the system music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larm will ring for 30 seconds and if there is no reply then it will wait for 90sec and 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ain. If there is no reply after the third attempt then a "WAKE UP FAIL' alarm will ring o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and the display will show the extension that the alarm call has failed 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5124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an alarm call from the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register/change Wake-Up Call time (HH:MM in 24-hour mod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e-time) 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continuou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23864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5440" y="4070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5240" y="4070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237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248520"/>
            <a:ext cx="387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Intercom Restric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the status is changed (toggle setting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2355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440" y="6067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5240" y="6067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34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720" y="5894280"/>
            <a:ext cx="33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possible to allow or restrict internal calls from a guest's exten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419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Intercom Enable/ Disable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Room Status Type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ed" descr=""/>
          <p:cNvPicPr/>
          <p:nvPr/>
        </p:nvPicPr>
        <p:blipFill>
          <a:blip r:embed="rId1"/>
          <a:stretch/>
        </p:blipFill>
        <p:spPr>
          <a:xfrm>
            <a:off x="496800" y="21016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hold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speed" descr=""/>
          <p:cNvPicPr/>
          <p:nvPr/>
        </p:nvPicPr>
        <p:blipFill>
          <a:blip r:embed="rId3"/>
          <a:stretch/>
        </p:blipFill>
        <p:spPr>
          <a:xfrm>
            <a:off x="488880" y="454824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1" name="hold" descr=""/>
          <p:cNvPicPr/>
          <p:nvPr/>
        </p:nvPicPr>
        <p:blipFill>
          <a:blip r:embed="rId4"/>
          <a:stretch/>
        </p:blipFill>
        <p:spPr>
          <a:xfrm>
            <a:off x="522360" y="49863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2" name="speed" descr=""/>
          <p:cNvPicPr/>
          <p:nvPr/>
        </p:nvPicPr>
        <p:blipFill>
          <a:blip r:embed="rId5"/>
          <a:stretch/>
        </p:blipFill>
        <p:spPr>
          <a:xfrm>
            <a:off x="480960" y="6558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3" name="hold" descr=""/>
          <p:cNvPicPr/>
          <p:nvPr/>
        </p:nvPicPr>
        <p:blipFill>
          <a:blip r:embed="rId6"/>
          <a:stretch/>
        </p:blipFill>
        <p:spPr>
          <a:xfrm>
            <a:off x="501480" y="68547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14" name="trans" descr=""/>
          <p:cNvPicPr/>
          <p:nvPr/>
        </p:nvPicPr>
        <p:blipFill>
          <a:blip r:embed="rId7"/>
          <a:stretch/>
        </p:blipFill>
        <p:spPr>
          <a:xfrm>
            <a:off x="488880" y="18525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trans" descr=""/>
          <p:cNvPicPr/>
          <p:nvPr/>
        </p:nvPicPr>
        <p:blipFill>
          <a:blip r:embed="rId8"/>
          <a:stretch/>
        </p:blipFill>
        <p:spPr>
          <a:xfrm>
            <a:off x="488880" y="42973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trans" descr=""/>
          <p:cNvPicPr/>
          <p:nvPr/>
        </p:nvPicPr>
        <p:blipFill>
          <a:blip r:embed="rId9"/>
          <a:stretch/>
        </p:blipFill>
        <p:spPr>
          <a:xfrm>
            <a:off x="488880" y="63151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400" y="1042920"/>
            <a:ext cx="465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a large party of guests are checking into the hotel as a group then it is possible to allow cal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these guests internally but not allow them to call any other guests in the hot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provide up to 100 groups, each of which can have any number of rooms include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68444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to Room Cal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67148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440" y="1503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35240" y="1503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70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1760" y="29923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horization Cod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 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3244680"/>
            <a:ext cx="4707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uthorization codes can be used for 3 types of ope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If restrictions have been set on the outside lines, then staff and guest will have to dial 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lowed by a valid authorization code before they dial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If you have Direct Inward System Access(DISA) configured on the system then outsi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rs into the switch could be allowed access to other outside lines for dial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It is possible to restrict outside calls from Service Stations unless an authorization code h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n entered. It will prevent unauthorized calls being made from unattended Service Stations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34340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r Staff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uthorization Code that you want to use (5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33080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440" y="4162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35240" y="4162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29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648648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ter a pre-paid call charge agains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e-paid Call Charge (Fixed 6 digits, or less than 6 digits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64738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5440" y="6305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5240" y="6305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472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80" y="5915160"/>
            <a:ext cx="45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in, a pre-paid call charge can be registered against that room and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will keep a check on how much the guest has spent on outside calls. The pre-paid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been reached then a warning tone will be sent to the guest and the call will be dis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720" y="5686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paid Call Char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peed" descr=""/>
          <p:cNvPicPr/>
          <p:nvPr/>
        </p:nvPicPr>
        <p:blipFill>
          <a:blip r:embed="rId1"/>
          <a:stretch/>
        </p:blipFill>
        <p:spPr>
          <a:xfrm>
            <a:off x="496800" y="1981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1" name="hold" descr=""/>
          <p:cNvPicPr/>
          <p:nvPr/>
        </p:nvPicPr>
        <p:blipFill>
          <a:blip r:embed="rId2"/>
          <a:stretch/>
        </p:blipFill>
        <p:spPr>
          <a:xfrm>
            <a:off x="533520" y="24433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42" name="speed" descr=""/>
          <p:cNvPicPr/>
          <p:nvPr/>
        </p:nvPicPr>
        <p:blipFill>
          <a:blip r:embed="rId3"/>
          <a:stretch/>
        </p:blipFill>
        <p:spPr>
          <a:xfrm>
            <a:off x="496800" y="4748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3" name="hold" descr=""/>
          <p:cNvPicPr/>
          <p:nvPr/>
        </p:nvPicPr>
        <p:blipFill>
          <a:blip r:embed="rId4"/>
          <a:stretch/>
        </p:blipFill>
        <p:spPr>
          <a:xfrm>
            <a:off x="509760" y="5181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speed" descr=""/>
          <p:cNvPicPr/>
          <p:nvPr/>
        </p:nvPicPr>
        <p:blipFill>
          <a:blip r:embed="rId5"/>
          <a:stretch/>
        </p:blipFill>
        <p:spPr>
          <a:xfrm>
            <a:off x="504720" y="6773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5" name="hold" descr=""/>
          <p:cNvPicPr/>
          <p:nvPr/>
        </p:nvPicPr>
        <p:blipFill>
          <a:blip r:embed="rId6"/>
          <a:stretch/>
        </p:blipFill>
        <p:spPr>
          <a:xfrm>
            <a:off x="533520" y="7215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6" name="trans" descr=""/>
          <p:cNvPicPr/>
          <p:nvPr/>
        </p:nvPicPr>
        <p:blipFill>
          <a:blip r:embed="rId7"/>
          <a:stretch/>
        </p:blipFill>
        <p:spPr>
          <a:xfrm>
            <a:off x="488880" y="1727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7" name="trans" descr=""/>
          <p:cNvPicPr/>
          <p:nvPr/>
        </p:nvPicPr>
        <p:blipFill>
          <a:blip r:embed="rId8"/>
          <a:stretch/>
        </p:blipFill>
        <p:spPr>
          <a:xfrm>
            <a:off x="488880" y="43974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8" name="trans" descr=""/>
          <p:cNvPicPr/>
          <p:nvPr/>
        </p:nvPicPr>
        <p:blipFill>
          <a:blip r:embed="rId9"/>
          <a:stretch/>
        </p:blipFill>
        <p:spPr>
          <a:xfrm>
            <a:off x="496800" y="654372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4680" y="793800"/>
            <a:ext cx="222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Charge R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640" y="1066680"/>
            <a:ext cx="43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system attendant to register Call Charge rate to rooms while check-i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44792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Call Charge R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Call Charge Rate (0~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If call charge rate is not assigned, SMDR call charge is applied and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-out, the assigned call charge is expired and changed to default val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434960"/>
            <a:ext cx="0" cy="1311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266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5240" y="1266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33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760" y="29718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320" y="3224160"/>
            <a:ext cx="44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uest can monitor his room at the other place in the hotel. Setting baby listening feature, y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monitor the room but, the inside of the room cannot hear of you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689280"/>
            <a:ext cx="403884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by listening a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ancel, on-hook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operate baby listening at the other place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6799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440" y="3511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35240" y="3511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678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904000"/>
            <a:ext cx="3873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out a gues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heck out a guest with method of payment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 no.(pay method no.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check out more than one guest, dial the next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r 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891040"/>
            <a:ext cx="0" cy="1347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440" y="5722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5722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896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080" y="5160960"/>
            <a:ext cx="44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s leave the hotel, it is an easy operation to check them out. The system w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matically calculate their bill and print it out on the printer. Also, any room status set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re applied to the room will be reset to the default values. The system attendant can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hod of payment among registered ones according to the guest's payment metho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720" y="4940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eed" descr=""/>
          <p:cNvPicPr/>
          <p:nvPr/>
        </p:nvPicPr>
        <p:blipFill>
          <a:blip r:embed="rId1"/>
          <a:stretch/>
        </p:blipFill>
        <p:spPr>
          <a:xfrm>
            <a:off x="504720" y="17496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71" name="hold" descr=""/>
          <p:cNvPicPr/>
          <p:nvPr/>
        </p:nvPicPr>
        <p:blipFill>
          <a:blip r:embed="rId2"/>
          <a:stretch/>
        </p:blipFill>
        <p:spPr>
          <a:xfrm>
            <a:off x="54144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72" name="speed" descr=""/>
          <p:cNvPicPr/>
          <p:nvPr/>
        </p:nvPicPr>
        <p:blipFill>
          <a:blip r:embed="rId3"/>
          <a:stretch/>
        </p:blipFill>
        <p:spPr>
          <a:xfrm>
            <a:off x="496800" y="63244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73" name="hold" descr=""/>
          <p:cNvPicPr/>
          <p:nvPr/>
        </p:nvPicPr>
        <p:blipFill>
          <a:blip r:embed="rId4"/>
          <a:stretch/>
        </p:blipFill>
        <p:spPr>
          <a:xfrm>
            <a:off x="533520" y="66168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74" name="trans" descr=""/>
          <p:cNvPicPr/>
          <p:nvPr/>
        </p:nvPicPr>
        <p:blipFill>
          <a:blip r:embed="rId5"/>
          <a:stretch/>
        </p:blipFill>
        <p:spPr>
          <a:xfrm>
            <a:off x="488880" y="1515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5" name="trans" descr=""/>
          <p:cNvPicPr/>
          <p:nvPr/>
        </p:nvPicPr>
        <p:blipFill>
          <a:blip r:embed="rId6"/>
          <a:stretch/>
        </p:blipFill>
        <p:spPr>
          <a:xfrm>
            <a:off x="488880" y="5970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mon" descr=""/>
          <p:cNvPicPr/>
          <p:nvPr/>
        </p:nvPicPr>
        <p:blipFill>
          <a:blip r:embed="rId7"/>
          <a:stretch/>
        </p:blipFill>
        <p:spPr>
          <a:xfrm>
            <a:off x="561960" y="6939000"/>
            <a:ext cx="262080" cy="25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5480" y="793800"/>
            <a:ext cx="213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Charge Display &amp; Pr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560" y="106668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checks out or asks for the status of their bill, then it is possible to either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urrent bill on the LCD of the phone or print it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55592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how the current total bill for the guest in the attendant displa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 will show the following inform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5429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440" y="1374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5240" y="1374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541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313000"/>
            <a:ext cx="167652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115 (01)                               6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91400" y="2409840"/>
            <a:ext cx="89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48040" y="250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55160" y="269892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charges without any details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bill for a room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1720" y="3917880"/>
            <a:ext cx="3873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out the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s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71720" y="3905280"/>
            <a:ext cx="0" cy="89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480" y="37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9920" y="3736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" y="390384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49560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ing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1760" y="5329080"/>
            <a:ext cx="41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do not want guests to be able to dial each other unless they are transferred b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then, it is possible to block single or multiple rooms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791320"/>
            <a:ext cx="4038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57783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5440" y="5610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5240" y="5610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776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092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Call Enable/Di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old" descr=""/>
          <p:cNvPicPr/>
          <p:nvPr/>
        </p:nvPicPr>
        <p:blipFill>
          <a:blip r:embed="rId1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hold" descr=""/>
          <p:cNvPicPr/>
          <p:nvPr/>
        </p:nvPicPr>
        <p:blipFill>
          <a:blip r:embed="rId2"/>
          <a:stretch/>
        </p:blipFill>
        <p:spPr>
          <a:xfrm>
            <a:off x="533520" y="44038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5" name="hold" descr=""/>
          <p:cNvPicPr/>
          <p:nvPr/>
        </p:nvPicPr>
        <p:blipFill>
          <a:blip r:embed="rId3"/>
          <a:stretch/>
        </p:blipFill>
        <p:spPr>
          <a:xfrm>
            <a:off x="525600" y="62816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6" name="trans" descr=""/>
          <p:cNvPicPr/>
          <p:nvPr/>
        </p:nvPicPr>
        <p:blipFill>
          <a:blip r:embed="rId4"/>
          <a:stretch/>
        </p:blipFill>
        <p:spPr>
          <a:xfrm>
            <a:off x="488880" y="16002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trans" descr=""/>
          <p:cNvPicPr/>
          <p:nvPr/>
        </p:nvPicPr>
        <p:blipFill>
          <a:blip r:embed="rId5"/>
          <a:stretch/>
        </p:blipFill>
        <p:spPr>
          <a:xfrm>
            <a:off x="488880" y="3970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trans" descr=""/>
          <p:cNvPicPr/>
          <p:nvPr/>
        </p:nvPicPr>
        <p:blipFill>
          <a:blip r:embed="rId6"/>
          <a:stretch/>
        </p:blipFill>
        <p:spPr>
          <a:xfrm>
            <a:off x="488880" y="584208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4920" y="1042920"/>
            <a:ext cx="44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y guest's request, system attendant can enable one-time CO call to intercom only station.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is time, calling station's COS is temporally changed to charged station's COS. The guest 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ake only one external call for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65096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enable one-time outsid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4 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made fr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charged 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639800"/>
            <a:ext cx="0" cy="105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40" y="1471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5240" y="1471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38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set the LCD language type by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0 7 *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ange of room number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language code (00~1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637080"/>
            <a:ext cx="0" cy="245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440" y="3468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5240" y="3468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635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5000" y="3132000"/>
            <a:ext cx="449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This feature enables to change the LCD Language of any room by attendant. When Check-O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the room's LCD language goes to the same language as FRONT DESK LCD language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720" y="28828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 LCD Display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960" y="79056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-Time CO Call E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9760" y="4535640"/>
            <a:ext cx="2743200" cy="75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495680"/>
            <a:ext cx="387360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nguage C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: Engl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: Itali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: Fin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: Dutc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: Swedis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: Da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6: Norwegi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: Hebre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: Germ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9: Frenc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Portugue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 Spanis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 Kor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: 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: Russ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For the other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CD language toggle changing feature (English / Domesti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hold" descr=""/>
          <p:cNvPicPr/>
          <p:nvPr/>
        </p:nvPicPr>
        <p:blipFill>
          <a:blip r:embed="rId1"/>
          <a:stretch/>
        </p:blipFill>
        <p:spPr>
          <a:xfrm>
            <a:off x="533520" y="2238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6" name="hold" descr=""/>
          <p:cNvPicPr/>
          <p:nvPr/>
        </p:nvPicPr>
        <p:blipFill>
          <a:blip r:embed="rId2"/>
          <a:stretch/>
        </p:blipFill>
        <p:spPr>
          <a:xfrm>
            <a:off x="533520" y="42292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7" name="trans" descr=""/>
          <p:cNvPicPr/>
          <p:nvPr/>
        </p:nvPicPr>
        <p:blipFill>
          <a:blip r:embed="rId3"/>
          <a:stretch/>
        </p:blipFill>
        <p:spPr>
          <a:xfrm>
            <a:off x="488880" y="1719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trans" descr=""/>
          <p:cNvPicPr/>
          <p:nvPr/>
        </p:nvPicPr>
        <p:blipFill>
          <a:blip r:embed="rId4"/>
          <a:stretch/>
        </p:blipFill>
        <p:spPr>
          <a:xfrm>
            <a:off x="488880" y="3718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5400" y="793800"/>
            <a:ext cx="85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h Ala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7080" y="1058760"/>
            <a:ext cx="441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has a facility which can be used to ensure that the front desk is notified whe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is in trouble. If the handset is left off-hook for a period of time then, an alarm will ring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ption and the Front Desk staff can take appropriate actio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1698480"/>
            <a:ext cx="38736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lease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release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685880"/>
            <a:ext cx="0" cy="166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5440" y="151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35240" y="151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84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0840" y="4484520"/>
            <a:ext cx="40388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ed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 (To Be Cleaned)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50840" y="4456080"/>
            <a:ext cx="0" cy="270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9600" y="4287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9400" y="4287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040" y="44546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6280" y="3870360"/>
            <a:ext cx="44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a guest has checked out of a room, the maid status is automatically changed to 'Dirty'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fore, when the maid has finished cleaning the room, he/she can change the maid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'Clean' from the guest's extension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720" y="36291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d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53068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ed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30864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 (To Be Cleaned)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hold" descr=""/>
          <p:cNvPicPr/>
          <p:nvPr/>
        </p:nvPicPr>
        <p:blipFill>
          <a:blip r:embed="rId1"/>
          <a:stretch/>
        </p:blipFill>
        <p:spPr>
          <a:xfrm>
            <a:off x="51768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48" name="hold" descr=""/>
          <p:cNvPicPr/>
          <p:nvPr/>
        </p:nvPicPr>
        <p:blipFill>
          <a:blip r:embed="rId2"/>
          <a:stretch/>
        </p:blipFill>
        <p:spPr>
          <a:xfrm>
            <a:off x="501480" y="67993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249" name="trans" descr=""/>
          <p:cNvPicPr/>
          <p:nvPr/>
        </p:nvPicPr>
        <p:blipFill>
          <a:blip r:embed="rId3"/>
          <a:stretch/>
        </p:blipFill>
        <p:spPr>
          <a:xfrm>
            <a:off x="488880" y="1773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50" name="trans" descr=""/>
          <p:cNvPicPr/>
          <p:nvPr/>
        </p:nvPicPr>
        <p:blipFill>
          <a:blip r:embed="rId4"/>
          <a:stretch/>
        </p:blipFill>
        <p:spPr>
          <a:xfrm>
            <a:off x="488880" y="453060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3280" y="797040"/>
            <a:ext cx="207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Bar &amp; Mini-Bar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673280"/>
            <a:ext cx="403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bar charge at Service Station or mini-bar charge a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6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at Service Station: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f guests to be char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de (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st (up to 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60680"/>
            <a:ext cx="0" cy="135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5440" y="149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5240" y="149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5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1760" y="1058760"/>
            <a:ext cx="44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may pay for charge at service station or mini-bar in time of check-out. Bar term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or registers guest's charge using the following procedure. Mini-bar charge of each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egistered by system attendant (Front Desk service station) and service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3244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 from group as above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111560"/>
            <a:ext cx="0" cy="115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5440" y="3943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5240" y="3943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10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20" y="3510000"/>
            <a:ext cx="44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split the hotel rooms into groups for internal calls, this can be done from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. Once the groups have been set up then only guests in the same group can call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internall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32846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630720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room rate at the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5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cost and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28488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40" y="611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611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6283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360" y="568332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500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speed" descr=""/>
          <p:cNvPicPr/>
          <p:nvPr/>
        </p:nvPicPr>
        <p:blipFill>
          <a:blip r:embed="rId1"/>
          <a:stretch/>
        </p:blipFill>
        <p:spPr>
          <a:xfrm>
            <a:off x="504720" y="245916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hold" descr=""/>
          <p:cNvPicPr/>
          <p:nvPr/>
        </p:nvPicPr>
        <p:blipFill>
          <a:blip r:embed="rId2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4" name="hold" descr=""/>
          <p:cNvPicPr/>
          <p:nvPr/>
        </p:nvPicPr>
        <p:blipFill>
          <a:blip r:embed="rId3"/>
          <a:stretch/>
        </p:blipFill>
        <p:spPr>
          <a:xfrm>
            <a:off x="525600" y="4724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5" name="hold" descr=""/>
          <p:cNvPicPr/>
          <p:nvPr/>
        </p:nvPicPr>
        <p:blipFill>
          <a:blip r:embed="rId4"/>
          <a:stretch/>
        </p:blipFill>
        <p:spPr>
          <a:xfrm>
            <a:off x="533520" y="6915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trans" descr=""/>
          <p:cNvPicPr/>
          <p:nvPr/>
        </p:nvPicPr>
        <p:blipFill>
          <a:blip r:embed="rId5"/>
          <a:stretch/>
        </p:blipFill>
        <p:spPr>
          <a:xfrm>
            <a:off x="488880" y="18637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7" name="trans" descr=""/>
          <p:cNvPicPr/>
          <p:nvPr/>
        </p:nvPicPr>
        <p:blipFill>
          <a:blip r:embed="rId6"/>
          <a:stretch/>
        </p:blipFill>
        <p:spPr>
          <a:xfrm>
            <a:off x="488880" y="41972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8" name="trans" descr=""/>
          <p:cNvPicPr/>
          <p:nvPr/>
        </p:nvPicPr>
        <p:blipFill>
          <a:blip r:embed="rId7"/>
          <a:stretch/>
        </p:blipFill>
        <p:spPr>
          <a:xfrm>
            <a:off x="488880" y="6367320"/>
            <a:ext cx="428760" cy="31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7:41:16Z</dcterms:created>
  <dc:creator>황재희</dc:creator>
  <dc:description/>
  <dc:language>en-US</dc:language>
  <cp:lastModifiedBy>manual_temp</cp:lastModifiedBy>
  <cp:lastPrinted>2001-04-24T06:13:29Z</cp:lastPrinted>
  <dcterms:modified xsi:type="dcterms:W3CDTF">2004-11-01T05:31:34Z</dcterms:modified>
  <cp:revision>72</cp:revision>
  <dc:subject/>
  <dc:title>Hotel Operation</dc:title>
</cp:coreProperties>
</file>