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3430588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C8E3-5DB4-438C-A743-CAB7703C2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30873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1360" y="4091760"/>
            <a:ext cx="30873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DFC5-69AA-4713-891D-E89626161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1360" y="409176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753560" y="409176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FD88-C4E6-44E7-9280-2CD3A2C4F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5360" y="178308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59360" y="178308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71360" y="409176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215360" y="409176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259360" y="409176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67AA-1CB4-4D7A-AA45-04157185F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71360" y="1783080"/>
            <a:ext cx="30873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D4C3-6D98-4482-A8E0-0D7A6D0FA7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30873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7E9A-06F4-4274-95E1-284CC1049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D251-3553-456B-862D-18DCE7116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7293-8ED3-4036-A78E-ED40671BF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71360" y="303840"/>
            <a:ext cx="308736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A106-869D-4A50-A955-6867837E0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71360" y="409176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CFC6-43E4-4CEF-A9B1-A88A04EBA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3560" y="409176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83D2-2D44-46A6-8E1F-85D1E4A14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1360" y="4091760"/>
            <a:ext cx="30873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8AE1-A022-4C34-87E3-95922BFAD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371600" y="7238520"/>
            <a:ext cx="7142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77A1-C49D-412B-ADEB-1E72993E2F6F}" type="slidenum">
              <a:rPr b="0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76320" y="20952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rcRect l="2040" t="12166" r="47681" b="77823"/>
          <a:stretch/>
        </p:blipFill>
        <p:spPr>
          <a:xfrm>
            <a:off x="324000" y="1093680"/>
            <a:ext cx="2819160" cy="830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08000" y="514440"/>
            <a:ext cx="320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prevent the unexpected danger or damage, please read this information before installing and repairing the phone. There are “Caution” and “Warning”, it means as follows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rcRect l="53682" t="13086" r="3061" b="78515"/>
          <a:stretch/>
        </p:blipFill>
        <p:spPr>
          <a:xfrm>
            <a:off x="581040" y="1957320"/>
            <a:ext cx="24256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12526" t="24827" r="10611" b="71062"/>
          <a:stretch/>
        </p:blipFill>
        <p:spPr>
          <a:xfrm>
            <a:off x="263520" y="2951280"/>
            <a:ext cx="2895480" cy="230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6454" t="28942" r="52040" b="2532"/>
          <a:stretch/>
        </p:blipFill>
        <p:spPr>
          <a:xfrm>
            <a:off x="152280" y="3257640"/>
            <a:ext cx="1470240" cy="35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55008" t="28942" r="4244" b="2532"/>
          <a:stretch/>
        </p:blipFill>
        <p:spPr>
          <a:xfrm>
            <a:off x="1752480" y="3274920"/>
            <a:ext cx="1444680" cy="358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084C-58D4-4EBB-AA5B-17B7FDD4AA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93680" y="68580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cing an Outside Cal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193680" y="990720"/>
            <a:ext cx="30448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, press OHD/Speaker or dial from live keypad.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193680" y="205740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cing an Intercom Cal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193680" y="301608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cing an Outside Call on Hol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193680" y="390060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rieving a Outside Call on Hol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193680" y="4997520"/>
            <a:ext cx="3044880" cy="426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-directing an Incoming Cal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Call Pick-up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93680" y="653904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swering an Waiting Cal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09440" y="22860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Fun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92960" y="2360520"/>
            <a:ext cx="297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, press OHD/Speaker or dial from active keypa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97280" y="3321000"/>
            <a:ext cx="285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le connected to an external call, press [HOL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96920" y="4206960"/>
            <a:ext cx="28252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flashing flexible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calls will automatically recall after pre-defined tim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93320" y="5484960"/>
            <a:ext cx="28555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you hear another phone ringing in your area,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, press OHD/Speaker or dial from live keypa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extension number of the ringing stati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be connected automatically to the call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93680" y="6811920"/>
            <a:ext cx="289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flashing CO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8FA6-E86C-45AD-9107-237B9CC48C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09440" y="22860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Fun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06280" y="68580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ll Wait (Camp-on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206280" y="990720"/>
            <a:ext cx="2895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eceiving station busy tone, dia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＊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-on tone is heard in the called stati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called party answers, talk or hang up to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 another call to the called party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206280" y="175248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 Number Redia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206280" y="259092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ring Station Speed Dial Numbers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206280" y="400212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ing Station Speed Dial Numbers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206280" y="4307040"/>
            <a:ext cx="28958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SPEED]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speed dial bin number.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206280" y="494496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oup Call Pick-up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06280" y="5249880"/>
            <a:ext cx="29718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hearing an unattended phone ringing in your area,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be connected automatically to the call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you must be in the same pick-up group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206280" y="2057400"/>
            <a:ext cx="3222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, press OHD/Speaker or dial from active keypa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5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 press speed button + dial ‘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＊’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Hold/Save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206280" y="2895480"/>
            <a:ext cx="2895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TRANS/PGM] and [SPEE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speed bin number. Range (XXX-ZZZ)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speed dial number you wish to stor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name associated to the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hear confirmation ton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F000-34A2-411B-9F8C-099AF05FE0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96840" y="228600"/>
            <a:ext cx="314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Code for Flexible Button Programming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06280" y="69696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Register of Flexibl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787320" y="1392120"/>
            <a:ext cx="505080" cy="262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2480" y="121932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76240" y="1955880"/>
            <a:ext cx="298440" cy="212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0" t="25000" r="0" b="0"/>
          <a:stretch/>
        </p:blipFill>
        <p:spPr>
          <a:xfrm>
            <a:off x="797040" y="3852720"/>
            <a:ext cx="501480" cy="262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15320" y="3672000"/>
            <a:ext cx="67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277560" y="136512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286920" y="187956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2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1389960" y="1405080"/>
            <a:ext cx="154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[Trans/Pgm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90680" y="1943280"/>
            <a:ext cx="139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Flexibl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0" t="25000" r="0" b="0"/>
          <a:stretch/>
        </p:blipFill>
        <p:spPr>
          <a:xfrm>
            <a:off x="787320" y="2500200"/>
            <a:ext cx="505080" cy="263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72480" y="233028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90160" y="247500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3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389960" y="2516040"/>
            <a:ext cx="154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[Trans/Pgm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286920" y="309708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4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1392120" y="3137040"/>
            <a:ext cx="107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code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838080" y="3048120"/>
            <a:ext cx="425520" cy="428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90160" y="380376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5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1391760" y="3841920"/>
            <a:ext cx="151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103C-7E09-40AF-A149-79CDE4E1DA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96840" y="228600"/>
            <a:ext cx="314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Code for Flexible Button Programming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206280" y="68580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Button Assignment for LDP- 4N/4D, 8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90080" y="1447920"/>
            <a:ext cx="12837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 butt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BK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ND/FWD 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LASH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UTE 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 butt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DIAL butt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ing Typ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nblock mode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ar-Mic Headse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 Rin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 Rin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S Dow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alking CO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uth. Code Registe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uth. Code Chang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et Wake-up Tim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et Pre-selected MS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et Customer MS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wo way Recor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cord User Greetin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isten Time &amp; Dat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isten Station Numbe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isten Station Statu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cord Page MS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rase User Greetin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rase Page MS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CD Display Languag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gister Station Nam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akerphone/Headse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eadset Ring Mod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ccount Cod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D Call Wai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 Hol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OOP butt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mp-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Log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ctivate CONF Ro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eactivate CONF Ro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046240" y="144792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7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1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/PGM + 1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/PGM + 17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18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19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2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2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3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3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4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5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5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/PGM + 5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7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8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/PGM + 8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8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8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8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57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4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4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90440" y="1144440"/>
            <a:ext cx="1524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144440"/>
            <a:ext cx="13334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de Number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1EBA-4B9B-440A-8526-37D16E87C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050" t="32876" r="53541" b="2109"/>
          <a:stretch/>
        </p:blipFill>
        <p:spPr>
          <a:xfrm>
            <a:off x="152280" y="3189240"/>
            <a:ext cx="1568520" cy="381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2526" t="24827" r="10611" b="71062"/>
          <a:stretch/>
        </p:blipFill>
        <p:spPr>
          <a:xfrm>
            <a:off x="262080" y="685800"/>
            <a:ext cx="2895480" cy="2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6050" t="5598" r="54681" b="71758"/>
          <a:stretch/>
        </p:blipFill>
        <p:spPr>
          <a:xfrm>
            <a:off x="152280" y="914400"/>
            <a:ext cx="1524240" cy="132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12220" t="28383" r="12630" b="67186"/>
          <a:stretch/>
        </p:blipFill>
        <p:spPr>
          <a:xfrm>
            <a:off x="262080" y="2743200"/>
            <a:ext cx="2920680" cy="262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rcRect l="55090" t="32876" r="6459" b="2109"/>
          <a:stretch/>
        </p:blipFill>
        <p:spPr>
          <a:xfrm>
            <a:off x="1828800" y="3216240"/>
            <a:ext cx="1495440" cy="381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20952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0FD9-61EB-45DD-82E8-377C1D9C8E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721" t="98277" r="42842" b="0"/>
          <a:stretch/>
        </p:blipFill>
        <p:spPr>
          <a:xfrm>
            <a:off x="279360" y="7075440"/>
            <a:ext cx="2825640" cy="14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2220" t="28383" r="12630" b="67186"/>
          <a:stretch/>
        </p:blipFill>
        <p:spPr>
          <a:xfrm>
            <a:off x="255600" y="654120"/>
            <a:ext cx="2921040" cy="260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6721" t="5743" r="53781" b="2983"/>
          <a:stretch/>
        </p:blipFill>
        <p:spPr>
          <a:xfrm>
            <a:off x="228600" y="1015920"/>
            <a:ext cx="1454040" cy="5079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54724" t="5743" r="2013" b="25782"/>
          <a:stretch/>
        </p:blipFill>
        <p:spPr>
          <a:xfrm>
            <a:off x="1758960" y="1015920"/>
            <a:ext cx="1593720" cy="3811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320" y="20952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63FB-F5E0-4D60-8048-00E9BD6A8D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760" y="954000"/>
            <a:ext cx="281952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286080"/>
            <a:ext cx="266688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5502240"/>
            <a:ext cx="2666880" cy="1736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6840" y="200160"/>
            <a:ext cx="2666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-7000 Series Mod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96560" y="300348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4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96560" y="69372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8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96560" y="521172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4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BE2B-76DF-4D56-A47D-15D54AC8B5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111240" y="206280"/>
            <a:ext cx="3127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198000" y="69516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8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96920" y="4578480"/>
            <a:ext cx="3047760" cy="2671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6920" y="4578480"/>
            <a:ext cx="380880" cy="26715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880" y="4600440"/>
            <a:ext cx="248184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eadphone Socket (Ear/Mic Mode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oop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Message Waiting LE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Dnd/Fw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Call Back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sfree Microphone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6084" t="0" r="0" b="0"/>
          <a:stretch/>
        </p:blipFill>
        <p:spPr>
          <a:xfrm>
            <a:off x="428760" y="1338120"/>
            <a:ext cx="2571480" cy="257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9800" y="120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99800" y="141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198360" y="238752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199800" y="25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99800" y="310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99800" y="331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99800" y="354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982600" y="17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2982600" y="1965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2928960" y="2962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925720" y="308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925720" y="3413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925720" y="2727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2925720" y="2847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2925720" y="3794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7AB3-739F-48D0-9630-0E9AEE5FDB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16000" y="5410080"/>
            <a:ext cx="3028680" cy="1828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06280" y="5410080"/>
            <a:ext cx="304920" cy="1828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20200" y="5442120"/>
            <a:ext cx="2207520" cy="17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CD Display (LDP-7004D only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OH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Message Waiting LE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Flexible Button(Loop Button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11240" y="206280"/>
            <a:ext cx="3127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98000" y="69516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4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5360" y="1521000"/>
            <a:ext cx="2438280" cy="2288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7720" y="139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07720" y="160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07720" y="28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207720" y="344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207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916000" y="223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916000" y="302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2916000" y="314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2916000" y="326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916000" y="3381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CA64-B100-4C61-A228-5DACCD083E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1077840"/>
            <a:ext cx="2095560" cy="62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Used for handset call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The optional earphone into the handset to provide a hands-free phone conversation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Outputs tones and voic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Used to access speed dialing, speed programming, saved number redial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The DND (Do Not Disturb) feature blocks all incoming calls. When DND is active, the red LED in this button is illuminated.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 is also used to activate call forward, e.g. to another station or voicemail. When call forward is activated, the red LED flashes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button put a call on hold or save information whe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gramming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Speaker toggles the speakerphone state, and the red LED is illuminated when the speakerphone is activ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 Hook Dial allows 7004N&amp;D users to dial and monitor call state without lifting the handset.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77840"/>
            <a:ext cx="1257480" cy="57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Earphone-Jac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Dnd/Fw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OH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90440" y="696960"/>
            <a:ext cx="99072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696960"/>
            <a:ext cx="194328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11240" y="206280"/>
            <a:ext cx="3127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65C3-DD98-439A-98C6-21A5D5F3E1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228680" y="1111320"/>
            <a:ext cx="2100240" cy="64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ws dialed and incoming numbers (where applicable) and on the 7008D it will display other information about call status, dialing directories and message information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button is used to initiate a call transfer (TRS) or to enter programming mode (PGM)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last two (7004D/7004N) or six (7008D) flex buttons can be assigned outside line presentation or as one-touch feature access. (See codes at rear of guide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A station can initiate a call back request to a busy station. Once that station becomes idle, the initiating station is signal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The volume button adjusts the audio levels for ringing, handset and speakerphone or OHD functions 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Microphone for hands-free speakerphone function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p Button(s) are required for presentation of outside lines to the telephone.  At least one is required per telephon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1111320"/>
            <a:ext cx="1181160" cy="59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Call back Button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-free Microphone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oop Button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90440" y="696960"/>
            <a:ext cx="99072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696960"/>
            <a:ext cx="194328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11240" y="206280"/>
            <a:ext cx="3127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7321-78AC-4F60-921D-EEB71D3597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667240" cy="2617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7480" y="2062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ble Conn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667960" y="3257640"/>
            <a:ext cx="31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90440" y="4267080"/>
            <a:ext cx="3048120" cy="2971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343400"/>
            <a:ext cx="30099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 conn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nect the  telephone cord (curly cord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the handset and the other end to the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ndset jack at the bottom of the telephon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nect the line cable to the port at the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tom of telephone and the other end to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wall socket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nnect the Headphone to the headphone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ck on the left side of the telephon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s viewed from the front.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7004N and 7004D does not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support integral headphone mod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200240"/>
            <a:ext cx="31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324160" y="1305000"/>
            <a:ext cx="31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3D38-B34F-4ADE-8030-557C0559E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9:50:00Z</dcterms:created>
  <dc:creator>user</dc:creator>
  <dc:description/>
  <dc:language>en-US</dc:language>
  <cp:lastModifiedBy>user</cp:lastModifiedBy>
  <dcterms:modified xsi:type="dcterms:W3CDTF">2004-11-01T01:48:04Z</dcterms:modified>
  <cp:revision>45</cp:revision>
  <dc:subject/>
  <dc:title>PowerPoint 프레젠테이션</dc:title>
</cp:coreProperties>
</file>