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РУКОВОДСТВО ПОЛЬЗОВАТЕЛЯ                    GSX/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90880" y="74008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38796A4-256E-473C-8899-22BF037DB1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43000" y="1239840"/>
            <a:ext cx="3110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од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доступа к внешней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на ваш звонок ответят, поднимите труб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говорите с помощью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48560" y="804960"/>
            <a:ext cx="19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3720" y="1252440"/>
            <a:ext cx="825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1~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/36/46 :1~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Или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отдельная кнопка внешней лин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: 01~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27360"/>
            <a:ext cx="449892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129120"/>
            <a:ext cx="0" cy="893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2962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3840" y="2962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2963880"/>
            <a:ext cx="106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26040" y="3129120"/>
            <a:ext cx="0" cy="893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129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78080"/>
            <a:ext cx="3048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спикер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Если вы запрограммировали функцию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дельные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то вы можете ответить на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сто подняв трубк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275000"/>
            <a:ext cx="449568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1200240"/>
            <a:ext cx="0" cy="1276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6040" y="1200240"/>
            <a:ext cx="0" cy="1276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036800"/>
            <a:ext cx="99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5360" y="467532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4320" y="4514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3840" y="4514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4419720"/>
            <a:ext cx="838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26040" y="4675320"/>
            <a:ext cx="0" cy="103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675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2280" y="4724280"/>
            <a:ext cx="307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интеркома или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Гудки в тональном режиме. Подождите, по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ая сторона не ответит на ваш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3 сигнала в режиме HF(громкоговорящая связь)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V(конфиденциальный режим). Говорите после сигнал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923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25360" y="6310440"/>
            <a:ext cx="0" cy="1081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4320" y="6149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4560" y="6149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26040" y="6310440"/>
            <a:ext cx="0" cy="1081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10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38320" y="6359400"/>
            <a:ext cx="30704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ключен интерком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TN(тональный), после звонка по интерком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PV , после 3 тональных сигналов и после того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услышите голос звонящего,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HF (Handsfree), после 3 тональных сигнал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после того, как услышите голос звонящего, подним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убку или воспользуйтесь громкоговорящей связь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6138720"/>
            <a:ext cx="914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7120" y="130032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7120" y="318924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5720" y="4764240"/>
            <a:ext cx="344520" cy="26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6360" y="5122800"/>
            <a:ext cx="361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295280" y="4764240"/>
            <a:ext cx="20764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3520" y="792000"/>
            <a:ext cx="283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нференция (многосторонний разговор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5360" y="1782720"/>
            <a:ext cx="0" cy="3475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4320" y="16225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560" y="1622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16178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26040" y="1790640"/>
            <a:ext cx="0" cy="3467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782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" y="1049400"/>
            <a:ext cx="375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уют два типа конференци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ычная = 3 внутренних станции или 1 из внешней линии и 2 внутренни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ширенная  = 1 внутренняя станция и 2 из внешней линии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функция расширенной конференции включен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795320"/>
            <a:ext cx="31240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ча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 (внешний или внутренн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Первый номер ставится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ще раз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ременно выйти из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е номера останутс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вторное подключение к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Теперь вы опять подключилис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конференции и подтверждающий сигнал услыша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 участники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закончи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если в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вляетесь инициатором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200" y="429084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4672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5360" y="6270480"/>
            <a:ext cx="0" cy="892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320" y="6110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73840" y="6110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6040" y="6270480"/>
            <a:ext cx="0" cy="892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627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28812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по интеркому занят.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говаривающий по телефону, номер которого занят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ышит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он может ответить на ваш звонок, нажав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Вы можете поговорить с ним или повесить трубку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перевести поступивший звонок на его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61056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9920" y="5799240"/>
            <a:ext cx="390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станции, который вы набираете, занят, вы можете предупреди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я этого телефон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5516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ожидания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560" y="2062080"/>
            <a:ext cx="311400" cy="128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5320" y="677052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128240" y="4464000"/>
            <a:ext cx="276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воспользоваться этой функцией, вы должн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едварительно запрограммировать кнопку CONF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CONF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6 * + Мягкая кнопка + 7 6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00320" y="3938760"/>
            <a:ext cx="20761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6400" y="792000"/>
            <a:ext cx="342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звонок, находящийся на ожида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25360" y="1204920"/>
            <a:ext cx="0" cy="85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26040" y="1204920"/>
            <a:ext cx="0" cy="852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122220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и замигает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о вторы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утренняя линия разъединяется, а внешняя ли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вится на 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10396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2971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25360" y="2870280"/>
            <a:ext cx="0" cy="19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4320" y="2709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73840" y="2709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26040" y="2870280"/>
            <a:ext cx="0" cy="1930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2878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7050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360" y="253512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, который вы набираете, занят, вы можете сообщ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360" y="3478320"/>
            <a:ext cx="1768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6734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5360" y="5738760"/>
            <a:ext cx="0" cy="153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320" y="5578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74560" y="5578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26040" y="5738760"/>
            <a:ext cx="0" cy="1538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5738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5788080"/>
            <a:ext cx="312408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в режиме DND,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общение о вашем звонке будет оставлен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в режиме DND,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общение о вашем звонке будет оставлен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55738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50403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0560" y="5272200"/>
            <a:ext cx="43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бранный вами номер занят или находится в режиме DND, вы можете остави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общение о вашем звонке. На одном телефоне можно оставить до 5 сообще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360" y="6299280"/>
            <a:ext cx="1768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6488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25320" y="1376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1560" y="296244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25320" y="322416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25320" y="41148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601560" y="57913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625320" y="6024600"/>
            <a:ext cx="262080" cy="209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143000" y="2919240"/>
            <a:ext cx="3276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по интеркому занят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услышите, что номер по интеркому занят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или нажмите запрограммированную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CALLBK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 6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6869160"/>
            <a:ext cx="213336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82680" y="2629080"/>
            <a:ext cx="22226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25360" y="1204920"/>
            <a:ext cx="0" cy="157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26040" y="1204920"/>
            <a:ext cx="0" cy="157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1039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0640" y="792000"/>
            <a:ext cx="227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960" y="1785960"/>
            <a:ext cx="15271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25360" y="3433680"/>
            <a:ext cx="0" cy="3881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4320" y="3273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74560" y="3273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26040" y="3433680"/>
            <a:ext cx="0" cy="3881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3433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3443400"/>
            <a:ext cx="3048120" cy="37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охранить номер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е номера, которые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сигнал подтвержде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В GHX-36/46, на любой станции можно запрограммировать 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омеров скоростного набора, удалив номера скоростного наб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а других станциях. Таким образом, число номеров скоростн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абора на станции составляет 20 (00~1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спользова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тере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. набора, который нужно стереть.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SPE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2688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07320" y="3741840"/>
            <a:ext cx="849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скор. наб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8A : 00~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 : 00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 : 00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16 : 00-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0020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2120" y="6645240"/>
            <a:ext cx="2631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GSX/E 8 кнопок, GK-8S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1981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1227240"/>
            <a:ext cx="30481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ветить на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телефоне, с которого было оставлено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дастся тональны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ам было оставлено сообщение, будет мигать инд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тор MSG и/или запрограммированная кнопка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тавивший сообщение пользователь услышит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CALLBK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6* + Мягкая кнопка + 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68342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01560" y="1419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01560" y="35812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601560" y="396252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25360" y="1484280"/>
            <a:ext cx="0" cy="1639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4320" y="1324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4560" y="1324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6040" y="1484280"/>
            <a:ext cx="0" cy="1639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484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1501920"/>
            <a:ext cx="3124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время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регулярный) или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один раз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время (HHMM) в 24-часовом режиме. (HH = 00~23,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M = 0~59) (Вы услышите сигнал подтверждения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установленное время, на вашей станции раздас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1319040"/>
            <a:ext cx="838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1280" y="1042920"/>
            <a:ext cx="420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автоматически звонит на станцию, на которой был установлен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типа таких звонков: звонок один раз и регулярный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2438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ключить будильник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подтверждения 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00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удильни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4572000"/>
            <a:ext cx="289548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4320" y="3952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74560" y="3952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113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114800"/>
            <a:ext cx="29718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ще раз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имя (до 7 букв с помощью указанных кодов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39481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26040" y="4113360"/>
            <a:ext cx="0" cy="2287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384804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20" y="3633840"/>
            <a:ext cx="426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рограммировать свое имя. Если вы сделаете это, то у пользовател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ов с дисплеем на нем будет появляться ваше имя, а не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5360" y="4113360"/>
            <a:ext cx="0" cy="2287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89720" y="4597560"/>
            <a:ext cx="2865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1] [2]  B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C = [#] [2]  D = [1] [3]  E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F = [#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1] [4]  H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4]  I = [#] [4]   J = [1] [5]   K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5]  L = [#] [5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1] [6]  N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6] O = [#] [6]  P = [1] [7]  Q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  R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#] [7]   T = [1] [8] U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8]  V = [#] [8]  W = [1] [9]  X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9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#] [9]   Z = [#] [1]  .  = [1] [3]  ,  = [1] [1]  пробел = [#] [#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28240" y="5270400"/>
            <a:ext cx="23637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стереть ваше имя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3382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вашег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25320" y="19810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601560" y="4191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609480" y="535464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219320" y="3933720"/>
            <a:ext cx="2666880" cy="171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58840" y="3456000"/>
            <a:ext cx="312408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Сообщения II тип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Только для GHX-36/46/616. Вы можете выбрать сообщения I или 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типа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  отменить сообщен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 LUNCH  RETURN AT (обедаю, вернусь в) xx: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 VACATION RETURN ON (в отпуске, вернусь) xx:xx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или дата (4 цифры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 ABSENT, RETURN AT CLK (ушел, вернусь в) xx:xx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 ABSENT, RETURN AT DATE (ушел, вернусь) xx:xx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дата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 OUT OF OFFICE  - BACK  TOM (ушел, буду завт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 CALL  TO (перезвоните) xxxx (макс. 12 цифр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 IN OFFICE (в офисе) xxx (3 цифры внутр. номе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 MEETING CLK (встреча) xx:xx 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: AT HOME (д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: AT BRANCH OFFICE  (в филиал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~2 0 : собственные сообщения пользователя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ыключить дисплей с сообщениями,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1400" y="2104920"/>
            <a:ext cx="2674800" cy="1400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1471680"/>
            <a:ext cx="3048120" cy="20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нужного сообщения. (00~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ообщения II ти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 Отмена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OUT OF LUNCH (обедаю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ON VACATION (в отпуск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OUT OF OFFICE-BACK AM (ушел - вернусь в...а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OUT OF OFFICE-BACK PM (ушел - вернусь в...р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OUT OF OFFICE-BACK TOM (ушел - вернусь завт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OUT OF OFFICE-BACK UNKN (ушел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OUT OF TOWN (уехал из город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IN A MEETING (на переговорах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AT HOME (д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AT BRANCH OFFICE (в филиал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~ 2 0  используются  для сообщений, программируемых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амим пользователем.(См. “Как создать сообщение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3880" y="792000"/>
            <a:ext cx="177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4320" y="130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74560" y="130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465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1300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25360" y="1459080"/>
            <a:ext cx="0" cy="4941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26040" y="1465200"/>
            <a:ext cx="0" cy="4935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2160" y="1042920"/>
            <a:ext cx="450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предварительно составленное сообщение, которое будет появля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телефона, который звонит ва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25320" y="152892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517680" y="124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1270080"/>
            <a:ext cx="304812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GSX/E-21/33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 переключателя громкости звука, которые расположены на передней панели телефона. Громкость увеличивается, если сдвинуть переключатель вправ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авый переключатель - настраивает громкость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евый  - регулирует громкость спикера и микро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GK-24/36/8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кнопки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а, когда телефон звон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кнопки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а, когда вы им пользуетес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кнопки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ука, когда вы говорите по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040" y="101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2080" y="792000"/>
            <a:ext cx="153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громк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4320" y="1063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74560" y="1063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1224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10587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5360" y="1217520"/>
            <a:ext cx="0" cy="2097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26040" y="1224000"/>
            <a:ext cx="0" cy="2090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8360" y="38433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4320" y="3870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74560" y="3870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4030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4056120"/>
            <a:ext cx="3048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внешней линии, кнопку скоростного набора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нции или набираете номер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8656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25360" y="4032360"/>
            <a:ext cx="0" cy="691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26040" y="4032360"/>
            <a:ext cx="0" cy="691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5030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Горячая линия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4320" y="5308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73840" y="5308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5468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5502240"/>
            <a:ext cx="30481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не набираете номер с запрограммированным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тервалами, то функция горячей линии включае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втоматичес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 режиме горячей линии можно запрограммирова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ки по интеркому, выбор внешней линии, вы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 внешних линий, функции, программируемые с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мощью мягкой кнопки, и функция скоростного набор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оспользоваться этой функцией, ее над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53038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25360" y="5470560"/>
            <a:ext cx="0" cy="144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26040" y="5470560"/>
            <a:ext cx="0" cy="1447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3598920"/>
            <a:ext cx="4495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3520" y="3592440"/>
            <a:ext cx="168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выбо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12640" y="2327400"/>
            <a:ext cx="55260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87320" y="1816200"/>
            <a:ext cx="295200" cy="244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28480" y="1816200"/>
            <a:ext cx="260640" cy="244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623880" y="5626080"/>
            <a:ext cx="2649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88360" y="104292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4320" y="1076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4560" y="1076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123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126216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лагодаря этой функции, при разговоре по внешне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инии каждые 3 минуты дается периодический звуков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функцию необходимо запрограммировать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1071720"/>
            <a:ext cx="838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25360" y="1238400"/>
            <a:ext cx="0" cy="742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26040" y="1238400"/>
            <a:ext cx="0" cy="742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27160" y="2933640"/>
            <a:ext cx="312408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поднимая трубку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 3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 в 36/46/616)/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 7 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в 308A) или нажм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нную кноп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 3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 в 36/46/616)/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 7 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в 308A) или нажм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нную кнопку, чтобы отключить музы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4320" y="2759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4560" y="2759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2919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2754360"/>
            <a:ext cx="914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25360" y="2919240"/>
            <a:ext cx="0" cy="92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26040" y="2919240"/>
            <a:ext cx="0" cy="928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23223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" y="2567160"/>
            <a:ext cx="3321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а функция должна быть предварительно запрограммирован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4600" y="79200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минутное предупрежде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57200" y="1147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менение сигнала интерко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4320" y="1425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74560" y="1425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" y="1585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1600200"/>
            <a:ext cx="327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время внутреннего звонка, нажм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станция в тональном режиме, то она переключ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режим громкоговорящей связи (Handsfree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она в режиме громкоговорящей связи (Handsf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конфиденциальном режиме (Privacy), то переключитс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ональный режи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42092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5360" y="1587600"/>
            <a:ext cx="0" cy="88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26040" y="1587600"/>
            <a:ext cx="0" cy="888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6040" y="792000"/>
            <a:ext cx="32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Следующие функции имеет только GHX-36/4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2703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вод звонка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4320" y="2930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73840" y="2930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3090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3103560"/>
            <a:ext cx="3124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 (только если функ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н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3-значный номер станции или нажмите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D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слеживаемый перев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абранный номер занят или не отвечает, вы може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ять поговорить со звонящим, нажав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29257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25360" y="3092400"/>
            <a:ext cx="0" cy="1282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26040" y="3092400"/>
            <a:ext cx="0" cy="1282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16160" y="5927760"/>
            <a:ext cx="1936800" cy="60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4320" y="4923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73840" y="4923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5083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43000" y="5100480"/>
            <a:ext cx="3124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можете делать вызов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зону вызова. (См. таблицу ниже.) И вы услыш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сигнал прекратится,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49179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25360" y="5083200"/>
            <a:ext cx="0" cy="2135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26040" y="5083200"/>
            <a:ext cx="0" cy="2135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95640" y="5907240"/>
            <a:ext cx="1945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: # 0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1    : # 1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2    : # 2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вызов     : # 5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ий вызов : #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7160" y="6532560"/>
            <a:ext cx="29876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ветить на выз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ойдите к ближайшему кнопочному телеф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(‘# #’ в GHX-308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вы соединитесь 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зывающим вас лиц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619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01560" y="33847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625320" y="5241960"/>
            <a:ext cx="2620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312920" y="1685880"/>
            <a:ext cx="19684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19040" y="2460600"/>
            <a:ext cx="19688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4320" y="1227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73840" y="1227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" y="1387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12222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25360" y="1389240"/>
            <a:ext cx="0" cy="2006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26040" y="1389240"/>
            <a:ext cx="0" cy="2006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8840" y="1036800"/>
            <a:ext cx="416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можете поставить звонок по интеркому на удержание с помощью кнопк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1360" y="2100240"/>
            <a:ext cx="1844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2295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45680" y="792000"/>
            <a:ext cx="334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625320" y="183816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35080" y="140328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ы могли воспользоваться этой функцией, у теле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на должна быть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IC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+ SPEED + Мягкая кнопка +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2298600"/>
            <a:ext cx="3124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зможно, если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вляется мягкой кнопко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ировать кнопку IC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 +  Мягкая кнопка +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должить разговор,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ICM, которая запрограммирована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ягкая кнопка, еще раз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851200" y="6121440"/>
            <a:ext cx="1568520" cy="94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1360" y="4091040"/>
            <a:ext cx="3597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прямого доступа  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на ожидание     700~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710~7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а        7 7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дентификационны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                       7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                      7 4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локировка звонка          7 4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блокировки        7 4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од кода регистра         7 5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втонабор                       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в. сообщения          7200 ~722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альный ответ     7 7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кличная кнопка           7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ICM                     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остной на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. наб. станции        SPEED + номер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19)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. наб. системы       SPEED + номер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20~9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торный на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его номера      SPEED +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 GK-24/36)       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                  SPEED +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4240" y="792000"/>
            <a:ext cx="236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39040" y="1235160"/>
            <a:ext cx="259704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запрограммировать мягкие кноп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зучите таблицу и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стереть мягкую кнопку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, которую нужно стере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6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зучите таблицу и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7456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10652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25360" y="1230480"/>
            <a:ext cx="0" cy="227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26040" y="1230480"/>
            <a:ext cx="0" cy="2274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786120"/>
            <a:ext cx="4495680" cy="214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680" y="4083120"/>
            <a:ext cx="448308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076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53000" y="407664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7680" y="2527200"/>
            <a:ext cx="1844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27226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59120" y="612144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74880" y="4076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01560" y="139536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01560" y="20098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601560" y="2235240"/>
            <a:ext cx="311400" cy="1299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703600" y="4086360"/>
            <a:ext cx="253044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узыка                         7 7 3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 7 3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брос                           7 7 5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внеш. лин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группам        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1                     8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2                     8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3                     8 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4                    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5                    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6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8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7                     8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(Группы #4~#7 только у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дивидуальная лини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лавиатура GSX/E, GK-8-кнопочн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                        7 6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ONF                           7 6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ALLBK                       7 6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DND/FOR                    7 6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FLASH                         7 6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UTE                           7 6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ON                             7 6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671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звонок из внешней линии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5360" y="3059280"/>
            <a:ext cx="0" cy="34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4320" y="2898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74560" y="2898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59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1920" y="3108240"/>
            <a:ext cx="3128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Два раза, если хотите поставить на удержание тольк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лин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Один раз, если хотите поставить на удержание систе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в обратном порядке, в зависимости от того,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на эта функц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28875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520" y="4319640"/>
            <a:ext cx="2214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24280" y="4511520"/>
            <a:ext cx="30556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двухзначный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находящейся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держа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Таким способом можно восстановить находящийся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держании звонок только с той станции, которая е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авила на удержание.)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6240" y="4467240"/>
            <a:ext cx="67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: 01~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516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6040" y="3059280"/>
            <a:ext cx="0" cy="3493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1204920"/>
            <a:ext cx="0" cy="1233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6040" y="1204920"/>
            <a:ext cx="0" cy="1233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0335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080" y="792000"/>
            <a:ext cx="333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1249200"/>
            <a:ext cx="22147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4640" y="1457280"/>
            <a:ext cx="3125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дается звонок по интеркому.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можете выбрать режим TN (тональный) или HF (громко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ящая связь), если нажмете подряд кнопк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6 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зволяет переключатся между тональным и конфиден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альным режимо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конфиденциальном режиме вы услышите три сигнала, 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ональном режим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430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520" y="5551560"/>
            <a:ext cx="2214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5360" y="5743440"/>
            <a:ext cx="30531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лько с той станции, которая поставила этот звонок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ание (если вы нажмете на такой станции мигающу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у). Вы также можете нажать кнопк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8 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8 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сти двухзначный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которая поставлена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6240" y="5899320"/>
            <a:ext cx="67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: 01-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7484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6800" y="5199120"/>
            <a:ext cx="301068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лин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" y="32050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2080" y="79200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5360" y="1204920"/>
            <a:ext cx="0" cy="2681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6040" y="1204920"/>
            <a:ext cx="0" cy="2681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2640" y="1243080"/>
            <a:ext cx="305028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огда на линии внешний звонок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вонок будет поставлен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прямо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мый перевод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лицо, дополнительный номер которого был набран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ит, сообщите о переводе звонка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весьте трубку, чтобы законч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наберете номер станции или нажме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и услышите гуд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ветить на отслеживаемый перевод звон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вашем телефоне раздается такой звонок, который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н вами в режиме ответа на звонки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ьте на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дающий звонок повесит трубку и звонок буде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единен  с ва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0335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090880"/>
            <a:ext cx="89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слеживае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ый 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7280" y="2440080"/>
            <a:ext cx="8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е 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аем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5360" y="4546440"/>
            <a:ext cx="0" cy="939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26040" y="4546440"/>
            <a:ext cx="0" cy="939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2640" y="4587840"/>
            <a:ext cx="2946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памяти телефона сохраняется последний набранный в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юю линию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набрать такой последний номер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 GK-24/3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если не запрограммирован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8230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абранно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5360" y="6210360"/>
            <a:ext cx="0" cy="1157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320" y="6049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73840" y="6049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604512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26040" y="6210360"/>
            <a:ext cx="0" cy="1157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210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0120" y="6259680"/>
            <a:ext cx="3117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набора номера не клад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4320" y="4397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3840" y="4397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39272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554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170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560" y="137160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1560" y="4992840"/>
            <a:ext cx="311400" cy="112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560" y="521172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01560" y="647712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1560" y="7010280"/>
            <a:ext cx="31140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9920" y="7272360"/>
            <a:ext cx="1218960" cy="152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04960"/>
            <a:ext cx="23623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0840" y="1523880"/>
            <a:ext cx="283212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Dial Memo, набер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+ SPEED + Мягкая кнопка + 7 7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нова, чтобы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вери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режиме ожидания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ный номер появится на дисплее (если есть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548240"/>
            <a:ext cx="2057400" cy="380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5320" y="792000"/>
            <a:ext cx="204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а в памя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5360" y="1494000"/>
            <a:ext cx="0" cy="1652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4320" y="1333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3840" y="1333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3446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26040" y="1494000"/>
            <a:ext cx="0" cy="1652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494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9880" y="104292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 или по интеркому вы можете сохранить номер в памя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5360" y="3979800"/>
            <a:ext cx="0" cy="1658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4320" y="3819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4560" y="3819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814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6040" y="3979800"/>
            <a:ext cx="0" cy="1658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979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" y="3557520"/>
            <a:ext cx="44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а внешней линии занят или не отвечает, система может набрать номер ещ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 автоматически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300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набор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802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ключение микро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25360" y="6494400"/>
            <a:ext cx="0" cy="93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320" y="6334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74560" y="6334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63295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6040" y="6494400"/>
            <a:ext cx="0" cy="93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494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52788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ключить микроф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еще раз, чтобы включить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20" y="6019920"/>
            <a:ext cx="448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разговариваете по телефону, но хотите что-нибудь сказать присутствующим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шем разговоре лицам, вы можете сделать так, что звонящий ничего не услыш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9040" y="6973920"/>
            <a:ext cx="305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MUTЕ, чтобы вы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8840" y="6810480"/>
            <a:ext cx="14882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9930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9120" y="7115040"/>
            <a:ext cx="214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MU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6* + Flex. button + 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560" y="4076640"/>
            <a:ext cx="311400" cy="11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560" y="6600960"/>
            <a:ext cx="3114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43000" y="4022640"/>
            <a:ext cx="3200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 GK-24/3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жмите запрограммированную кнопку Auto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клавиатуре GSX/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автоматического набор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+ SPEED + Мягкая кнопка +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нятый или неотвечающий номер будет набран автомат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ески еще раз после определенного интервала (загор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номер ответит, поднимите трубку и говорит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42800" y="792000"/>
            <a:ext cx="1271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1525680"/>
            <a:ext cx="0" cy="162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4320" y="1365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73840" y="1365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3604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26040" y="1525680"/>
            <a:ext cx="0" cy="1620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525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1558800"/>
            <a:ext cx="312408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нажме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запрограммировали кнопку CALLBK на 8-кнопоч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й клавиатуре,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160" y="1066680"/>
            <a:ext cx="439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бы подключится к линии, когда о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дится, проделай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2520" y="2227320"/>
            <a:ext cx="14882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42244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5360" y="3868560"/>
            <a:ext cx="0" cy="855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4320" y="3708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73840" y="3708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703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6040" y="3868560"/>
            <a:ext cx="0" cy="855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868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90996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лин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ждаетс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гудки и загорится кнопка это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внешней линии 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чение 15 секун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430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апрос в очеред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4320" y="5248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74560" y="5248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40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2434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5408640"/>
            <a:ext cx="0" cy="1144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26040" y="5408640"/>
            <a:ext cx="0" cy="1144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50040"/>
            <a:ext cx="30481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700~7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отмен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700~7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970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на определенную станцию для ожидан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560" y="18334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25320" y="196992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01560" y="560556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25320" y="60246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05000" y="2295360"/>
            <a:ext cx="2047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360" y="798480"/>
            <a:ext cx="158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 (кнопка FLAS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4320" y="1368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74560" y="1368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528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7788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соединении с внешней линией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13636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5360" y="1530360"/>
            <a:ext cx="0" cy="1136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26040" y="1530360"/>
            <a:ext cx="0" cy="1136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680" y="1023840"/>
            <a:ext cx="467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ъединяет внешнюю линию. Может использоваться для повторного набора, если систе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ключена к мини-АТ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040" y="1785960"/>
            <a:ext cx="1997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8108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8880" y="3741840"/>
            <a:ext cx="258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ключить спик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4320" y="3571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74560" y="3571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732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5672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25360" y="373212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26040" y="373212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800" y="317664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 кнопку внешней линии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го набора, кнопку станции или набираете номер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913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пикер (громкоговорител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087960"/>
            <a:ext cx="31240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вой старый четырехзначный код 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вой новый четырехзначный код 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14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5360" y="5319720"/>
            <a:ext cx="0" cy="1805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4320" y="51595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4560" y="5159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6040" y="5319720"/>
            <a:ext cx="0" cy="1805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319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345280"/>
            <a:ext cx="31240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четырехзначный код доступа. (Вы услыш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1544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" y="4853160"/>
            <a:ext cx="449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избежание неавторизованного использования вашей станции, в системе предусматр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тся система блокировки станции с помощью идентификационного кода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1560" y="1644480"/>
            <a:ext cx="311400" cy="128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5320" y="389088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25320" y="579132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25320" y="6724800"/>
            <a:ext cx="262080" cy="209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143000" y="202104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соединении с внешней линией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 FLAS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FLASH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 +  Мягкая кнопка  + 7 6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4267080"/>
            <a:ext cx="31240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тип переадресации звонка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0 - Unconditional (без услов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- No answer calls (если номер 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- Busy calls (если номер заня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- Busy / no answer calls (если номер занят/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- Follow me (отслеживание)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- Off-net (Переадресация на внешнюю линию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В GHX-308A, можно установить только тип 0. Вам не нужно выбирать тип переадресации звонк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(100~69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вы выбрали тип  5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SPEED и введите номер скоростного набор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жмите кнопку внешней линии и набер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HO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25360" y="1407960"/>
            <a:ext cx="0" cy="687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4320" y="1247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74560" y="1247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26040" y="1407960"/>
            <a:ext cx="0" cy="687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407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44144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4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UTE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дет мига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Теперь вы не сможете сдела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шний звонок, только звонки по интерком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12430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160" y="1017720"/>
            <a:ext cx="3659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Необходимо установить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316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347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25360" y="2747880"/>
            <a:ext cx="0" cy="795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4320" y="2587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74560" y="2587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26040" y="2747880"/>
            <a:ext cx="0" cy="795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747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278136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аш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огас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2590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25360" y="4218120"/>
            <a:ext cx="0" cy="2585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4320" y="4057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73840" y="4057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4218120"/>
            <a:ext cx="0" cy="2585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218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0528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8178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6673680"/>
            <a:ext cx="18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25320" y="16812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560" y="440388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1181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360" y="93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5360" y="1389240"/>
            <a:ext cx="0" cy="3182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2640" y="93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2520" y="1195560"/>
            <a:ext cx="132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4320" y="1019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74560" y="1019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10144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6280" y="1376280"/>
            <a:ext cx="371484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35800" y="3276720"/>
            <a:ext cx="24213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переадреса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1560" y="3933720"/>
            <a:ext cx="309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4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жмите запрограммированную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200" y="381312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005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6040" y="1149480"/>
            <a:ext cx="0" cy="3422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6040" y="792000"/>
            <a:ext cx="253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5360" y="5192640"/>
            <a:ext cx="0" cy="2198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4320" y="5032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74560" y="5032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26040" y="5192640"/>
            <a:ext cx="0" cy="2198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192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5226120"/>
            <a:ext cx="3124080" cy="22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 вашем телефоне, запрограммирована эта функц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ли во время звонка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индикатор, указывающий на режим DN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запрограммированну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данную функцию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е поднимая трубку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ндикатор погаснет и функция будет отключе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запрограммированну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50277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4773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нкция “не беспокоить” (Do Not Distur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9200" y="563076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58374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9200" y="682776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7010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25320" y="29718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01560" y="359568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01560" y="53802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01560" y="6568920"/>
            <a:ext cx="311400" cy="12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05000" y="1828800"/>
            <a:ext cx="22762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28960" y="1411200"/>
            <a:ext cx="3112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5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запрограммированную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DND/F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тип переадресации. (0~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В GHX-308A, можно установить только тип 0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Вам не нужно выбирать тип переадресации звонк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станции (100~699) или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вы выбрали тип переадресации 5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SPEED и введите номер скоростного набор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жмите кнопку внешней линии и наберите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25360" y="1211400"/>
            <a:ext cx="0" cy="1011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320" y="105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6040" y="1211400"/>
            <a:ext cx="0" cy="1011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124452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главной станцией и он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ходится в режиме DND (“не беспокоить”), то вс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и будут передаваться на станцию-секретар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станцией-секретарем, то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ожете сообщить на главную станцию, которая наход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DND, о поступившем звонке с помощью функ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жидания звонк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10526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508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25360" y="2908440"/>
            <a:ext cx="0" cy="89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4320" y="2747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3840" y="2747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27576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26040" y="2908440"/>
            <a:ext cx="0" cy="901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08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95740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должны находится в той же группе станций, что и стан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я, на которую поступил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слышите поступающий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 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74560" y="105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6400" y="792000"/>
            <a:ext cx="303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25360" y="4600440"/>
            <a:ext cx="0" cy="962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4320" y="4440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73840" y="4440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6040" y="4600440"/>
            <a:ext cx="0" cy="962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600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46497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слышите звонок по интеркому или из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ругой групп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введите номер станции, на которую поступи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 соединится с вашим телефон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4355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4038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звонок, поступающий в другую группу стан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0200" y="4243320"/>
            <a:ext cx="3598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ответить на звонок, поступающий в другую группу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27120" y="329076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27120" y="4892760"/>
            <a:ext cx="2602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08:39:32Z</dcterms:created>
  <dc:creator>USER</dc:creator>
  <dc:description/>
  <dc:language>en-US</dc:language>
  <cp:lastModifiedBy>lg</cp:lastModifiedBy>
  <cp:lastPrinted>1998-02-23T02:29:20Z</cp:lastPrinted>
  <dcterms:modified xsi:type="dcterms:W3CDTF">1998-04-04T05:22:44Z</dcterms:modified>
  <cp:revision>170</cp:revision>
  <dc:subject/>
  <dc:title>ЅЅ¶уАМµе Б¦ёс ѕшАЅ</dc:title>
</cp:coreProperties>
</file>