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ДЕЙСТВИЯ ОПЕРАТОРА СИСТЕМЫ         в системе GDK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54600" y="74325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BEBEFEB-C35D-4EAD-926D-3331CE1BC7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0280" y="792000"/>
            <a:ext cx="335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активна, пока не будет отключе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8098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 (HH/час = 00~23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1680"/>
            <a:ext cx="0" cy="2189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8640" y="1201680"/>
            <a:ext cx="451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44680"/>
            <a:ext cx="3110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4 2. (Вы услышите подтверждающий сигнал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ерестан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3683160"/>
            <a:ext cx="44496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мешательство оператора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160" y="4113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275000"/>
            <a:ext cx="0" cy="1935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160" y="4116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9480" y="4313160"/>
            <a:ext cx="36417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настроить мягкую кнопку для вызова этой функ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8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воспользоваться этой функцией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й станции, на которую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хотите позвонить (Вы услышите короткие гудки)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ATD INTRUS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а такой станции будет слышен предупреждающий сигнал, посл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его будет установлена 3-сторонняя конферен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000" y="3938760"/>
            <a:ext cx="357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вмешиваться в разговор по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640" y="4267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5320" y="206208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560" y="446256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5320" y="487692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5680" y="792000"/>
            <a:ext cx="3515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16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198440"/>
            <a:ext cx="0" cy="112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160" y="103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39760" y="1238400"/>
            <a:ext cx="38703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блокировку на исходящ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кнопка внешней линии заблокирова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торите процедуры, чтобы отменить блокиров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680" y="26161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 и 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0160" y="2894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5360" y="3056040"/>
            <a:ext cx="0" cy="1592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160" y="2897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9760" y="3084480"/>
            <a:ext cx="4022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даты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9760" y="3808440"/>
            <a:ext cx="3641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времени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49687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160" y="5246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5440" y="524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5446800"/>
            <a:ext cx="3641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11~20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указанных ниже 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5360" y="5415120"/>
            <a:ext cx="0" cy="1852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5920" y="6134040"/>
            <a:ext cx="289548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4920" y="615168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30607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54133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40" y="12002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1560" y="1397160"/>
            <a:ext cx="324000" cy="14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560" y="321948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1560" y="39625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01560" y="55213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25320" y="591660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4240" y="792000"/>
            <a:ext cx="183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0160" y="1065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76160" y="106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9480" y="12556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1233360"/>
            <a:ext cx="0" cy="189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127240"/>
            <a:ext cx="3962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б отчетных группа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1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345744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ирание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160" y="3735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5440" y="3738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9480" y="39355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Стирание отчетов 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5360" y="3903840"/>
            <a:ext cx="0" cy="2277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9480" y="46306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Стирание информации об отчетной групп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отчетной групп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8840" y="5326200"/>
            <a:ext cx="3794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Как узнать оплату за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12254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38955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5320" y="1604880"/>
            <a:ext cx="276480" cy="220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5320" y="2438280"/>
            <a:ext cx="276480" cy="220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5320" y="4395960"/>
            <a:ext cx="276480" cy="22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25320" y="5081760"/>
            <a:ext cx="276480" cy="22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25320" y="5691240"/>
            <a:ext cx="2764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6760" y="792000"/>
            <a:ext cx="283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(C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527120"/>
            <a:ext cx="350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5360" y="1468440"/>
            <a:ext cx="0" cy="1579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320" y="132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3840" y="383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" y="14875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2360" y="1042920"/>
            <a:ext cx="471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льзователь станции может временно изменить класс услуг, чтобы защитить себя от неав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ризованного пользования станции (Сначала необходимо установить 5-значный код доступ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212920"/>
            <a:ext cx="37339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Отключение ,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#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030560"/>
            <a:ext cx="373392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# 4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DVU, наберите 0 1 для сообщения 1 , наберите 0 2 для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или 0 3 для сообщения 3. (Сообщение 3 воспроизводится, ес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занят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EDVU вам предлагается 31 (01~31) системн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~9 : для поиска или информации о компа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 : для неправильной информ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 : для Timeout message (сообщение об окончании разговорного времен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 : для Try again message (попробуйте еще раз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 : для Transfer to attendant message  (перевод звонка на станцию операто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 : для Leave message (оставь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 : для Record message (запиши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 : для Enter authorization message (введите сообщение о разрешени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 : для MOH message (сообщение МОН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 : для Busy message (сообщение “занято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прослушает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шите сообщение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25360" y="1506600"/>
            <a:ext cx="0" cy="16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320" y="3825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3840" y="132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39924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3800" y="3633840"/>
            <a:ext cx="301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и сообщения может записать только оператор системы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3992400"/>
            <a:ext cx="0" cy="2570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680" y="3346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8444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5320" y="200484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560" y="405288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25320" y="610560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440" y="79200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из траф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0160" y="2633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6160" y="2637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9480" y="2843280"/>
            <a:ext cx="364176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данную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распечатать результаты анализа траф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менить распечатку результат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25360" y="2801880"/>
            <a:ext cx="0" cy="2379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020600"/>
            <a:ext cx="4419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истема будет отслеживать и записывать различную информацию о рабочих нагрузках (трафике), которую затем можно распечатать. С помощью этой информации можно определить, правильно ли работает систе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данная функция включена, то информация о работе системы будет записываться  до тех пор, пока не будет отключена. Информация о трафике направляется на порт RS232C. Информация о трафике бывает двух типов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первому типу относится информация о том, сколько раз выполнялась та или иная операция. Информация имеет цифровые значение в пределах от  00000 до 99999. Ко второму типу относится информация о времени использования того или иного устройства, т.е. станций, внешних линий, ресиверов DTMF и т.д. Время использования дается в секундах от  00000 дo 99999. Данная информация накапливается со времени, когда функция была включена, и сбрасывается только после выключения функции или после того, как значения превысят указанные предел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627048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Чтобы включить/выключить дневной/ночной режим вручную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4320" y="6064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3840" y="6064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640" y="62308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80" y="5729400"/>
            <a:ext cx="462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я оператора имеет ночной режим обслуживания, которая позволяет воспользова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ециальными функциями тем станциям, которые не имеют таких привилегий дне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575400"/>
            <a:ext cx="3962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Чтобы включать/выключать дневной/ночной режим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#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НЕВНОЕ + НОЧНОЕ ВРЕМЯ, или ДНЕВНОЕ + * или НОЧНОЕ + *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 формате HHMM (HH(часы) = 00~23, mm (минуты) =  00~59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5360" y="6230880"/>
            <a:ext cx="0" cy="112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680" y="5479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" y="28065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560" y="301608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5320" y="328140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560" y="6370560"/>
            <a:ext cx="324000" cy="13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560" y="67183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25320" y="713592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160" y="1344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75440" y="1328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54476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5360" y="1512720"/>
            <a:ext cx="0" cy="63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040" y="1017720"/>
            <a:ext cx="455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Группу номеров скоростного набора можно сохранить в системе. К ним будут иметь досту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лько определенные станции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1840" y="1671480"/>
            <a:ext cx="98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2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3680" y="2374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0160" y="2805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6160" y="280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9480" y="30052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ключ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музыкальный канал (0,1,2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2973240"/>
            <a:ext cx="0" cy="912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3800" y="2630520"/>
            <a:ext cx="338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выбрать источник музыкального канала для IC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3680" y="4165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160" y="4691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5440" y="4694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5360" y="48592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360" y="4421160"/>
            <a:ext cx="457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отключить функции DND, CALL FORWARD и предваритель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й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6520" y="4894200"/>
            <a:ext cx="3771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мигать, а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гореть постоянно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разброс станций, на который вы хотите стереть сообщен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сигнал подтверждения и станция автоматически перейд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 ожида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880" y="792000"/>
            <a:ext cx="2114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8640" y="15048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640" y="29718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8640" y="48578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560" y="1647720"/>
            <a:ext cx="324000" cy="13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1560" y="313380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5320" y="342900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01560" y="492120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25320" y="537696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6480" y="792000"/>
            <a:ext cx="383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с помощью кнопок 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12016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231920"/>
            <a:ext cx="38098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5360" y="1201680"/>
            <a:ext cx="0" cy="66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3680" y="21081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бщение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0160" y="2386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5440" y="238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9480" y="258588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ажите свое сообще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5360" y="2554200"/>
            <a:ext cx="0" cy="798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680" y="361944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внешнего звонка на другую стан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160" y="3897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75440" y="3900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8840" y="4095720"/>
            <a:ext cx="39466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звонок по внешней линии. Нажмите кнопку прямого доступа DS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подождать, пока на звонок ответят, чтобы объявить о перевод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5360" y="40654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680" y="50101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упповой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160" y="528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76160" y="529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640" y="54482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4864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INTERCOM GRO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о свободной станцией в групп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5360" y="5456160"/>
            <a:ext cx="0" cy="639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" y="6381720"/>
            <a:ext cx="4568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160" y="6659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76160" y="666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685800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(Вы услышите гудки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5360" y="6827760"/>
            <a:ext cx="0" cy="563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" y="2548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8640" y="40719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" y="68198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844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520" y="1119240"/>
            <a:ext cx="24480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…..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06760" y="1119240"/>
            <a:ext cx="252396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 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ставленные сообщения 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 34 Скоростной набор на станции 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…..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...................................................… 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внешнего звонка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звонка по интеркому  ..............…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ок по интеркому с помощью кнопок DSS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по интеркому 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рупповой звонок по интеркому 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 к станции в режиме DND 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ператора 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 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lg</cp:lastModifiedBy>
  <cp:lastPrinted>1998-03-04T11:35:14Z</cp:lastPrinted>
  <dcterms:modified xsi:type="dcterms:W3CDTF">1998-04-04T05:41:38Z</dcterms:modified>
  <cp:revision>38</cp:revision>
  <dc:subject/>
  <dc:title>ЅЅ¶уАМµе Б¦ёс ѕшАЅ</dc:title>
</cp:coreProperties>
</file>