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5335588" cy="8002588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АНАЛОГОВЫЕ КНОПОЧНЫЕ ТЕЛЕФОНЫ / ДЕЙСТВИЯ ОПЕРАТОРА СИСТЕМЫ                 GSX/E, G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40120" y="741348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1A820D6-5368-4D34-8C56-BAED12B1F99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43880" y="792000"/>
            <a:ext cx="1555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 будильник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143000" y="1211400"/>
            <a:ext cx="380988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установить время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3 1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регулярный) или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3 2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только один раз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зону станций. (6 цифр) Если одна, наберите номер дважд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время, после того, как услышите подтверждающий сигнал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HHMM=час и минуты) в 24-часовом режим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HH/час = 00~23,  MM/минуты = 0~59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25360" y="1200240"/>
            <a:ext cx="0" cy="1923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7688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201680"/>
            <a:ext cx="452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173320"/>
            <a:ext cx="35053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звонок будильни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3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зону станций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3680" y="345456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давление функции DND (“не беспокоить”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0160" y="38847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25360" y="4044960"/>
            <a:ext cx="0" cy="717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76160" y="38876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58840" y="4084560"/>
            <a:ext cx="364176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того, как вы услышите сигнал DND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Ждите, пока не ответит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600" y="3710160"/>
            <a:ext cx="267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 системы может подавить функцию DND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038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3680" y="505476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ключение доступа к внешней лин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0160" y="5332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25360" y="5492880"/>
            <a:ext cx="0" cy="793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75440" y="5319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58840" y="5524560"/>
            <a:ext cx="3794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4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и внешних линий, которые вы хотите отключ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Блокированная внешняя линия постоянно горит на станции оператор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ругие станции не будут иметь доступа к блокированной внешне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5486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5320" y="192420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25320" y="259560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6400" y="792000"/>
            <a:ext cx="288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0160" y="10368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25360" y="1197000"/>
            <a:ext cx="0" cy="1927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76520" y="1039680"/>
            <a:ext cx="607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8840" y="1236600"/>
            <a:ext cx="3641760" cy="17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3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омер, под которым вы хотите сохранить свое сообщ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1~20)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сообщение с помощью кодов, которые указаны ниж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Сообщение не должно превышать 24 символа, включая пробелы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ож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3680" y="330192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становка времени/дат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0160" y="3579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5360" y="3740040"/>
            <a:ext cx="0" cy="870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76160" y="35830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3780000"/>
            <a:ext cx="36417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3 9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10 цифр  YY(год) MM(месяц) DD(дата) HH(час) mm(минуты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YY(год) = 90~99, MM(месяц) = 01~12, DD(дата) = 01~31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H(час) = 00~23, mm(минуты) = 00~59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 подтверждающий сигнал и увидите новую дату и врем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3440" y="1914480"/>
            <a:ext cx="2819520" cy="6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1830240"/>
            <a:ext cx="304812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 = [1] [2]  B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2]  C = [#] [2]  D = [1] [3]  E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3]  F = [#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= [1] [4]  H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4]  I = [#] [4]   J = [1] [5]   K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5]  L = [#] [5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 = [1] [6]  N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6] O = [#] [6]  P = [1] [7]  Q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1]  R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7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 = [#] [7]   T = [1] [8] U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8]  V = [#] [8]  W = [1] [9]  X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9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 = [#] [9]   Z = [#] [1]  .  = [1] [3]  ,  = [1] [1]  пробел = [#] [#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3746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2002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3680" y="480996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даление парол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0160" y="5240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5360" y="5400720"/>
            <a:ext cx="0" cy="780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5440" y="52434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5440320"/>
            <a:ext cx="36417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3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зону станций (6 цифр). (Вы услышите подтверждающи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407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7760" y="5065560"/>
            <a:ext cx="432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забыли пароль, то удалить его можно  только со станции оператора систем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0160" y="6691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76160" y="66945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25360" y="6858000"/>
            <a:ext cx="0" cy="40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686736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на станции оператора системы, чтоб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ключить или выключить функци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851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3680" y="6413400"/>
            <a:ext cx="4483080" cy="241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3520" y="6418440"/>
            <a:ext cx="168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очной перевод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52320" y="2671920"/>
            <a:ext cx="262080" cy="207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25320" y="569124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1560" y="6961320"/>
            <a:ext cx="311400" cy="1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60160" y="12114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75440" y="12142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9480" y="1401840"/>
            <a:ext cx="3946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4 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и ваш 4-значный код. (Вы услышите сигнал подтвержден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5360" y="1378080"/>
            <a:ext cx="0" cy="2660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58840" y="1690560"/>
            <a:ext cx="387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поставить пароль на внешние звон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4 7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. (Вы услышите подтверждающий сигнал, а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U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удет мигать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перь вы сможете сделать только звонки по интеркому. Если пароль не за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егистрирован, то другие станции не могут воспользоваться этой функцией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3716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3080" y="1042920"/>
            <a:ext cx="410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стема может заблокировать станции других пользователей с помощью парол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840" y="251460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пароль блокировки внешних звонков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4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и ваш пароль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пароль не зарегистрирован, то другие станции не могут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оспользоваться этой функцией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58840" y="3205080"/>
            <a:ext cx="3794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изменить пароль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4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и ваш старый пароль. (Вы услышите подтверждающи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гнал, если он правильный.) Введите новый пароль(4 цифр: 0000~999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пароль не зарегистрирован, то другие станции не могут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оспользоваться этой функцие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032440"/>
            <a:ext cx="37339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ва раза.  (Или нажмите кнопку SPEED 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у внешней лин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. (20~9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омер, который нужно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25360" y="4991040"/>
            <a:ext cx="0" cy="723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4320" y="4826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928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160" y="4519440"/>
            <a:ext cx="465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системе можно сохранить группу номеров, которые могут быть доступны для станций. Эт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омера дают доступ к наиболее часто набираемым номерам внешних лин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73840" y="48261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3680" y="426708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коростной набор из систем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3520" y="792000"/>
            <a:ext cx="186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становка пароля доступ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73840" y="6429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6657840"/>
            <a:ext cx="38862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3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омер сообщения пользователя (10-20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сообщение. (До 24 букв. См. коды в “Программирование ваше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мени”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4320" y="64674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6340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3880" y="6161040"/>
            <a:ext cx="398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 может запрограммировать сообщение, которое будет появляться 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исплее телефона, пользователь которого звонит на вашу станци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5360" y="6626160"/>
            <a:ext cx="0" cy="689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3680" y="5931000"/>
            <a:ext cx="4483080" cy="24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800" y="5915160"/>
            <a:ext cx="309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граммирование сообщений пользовател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5320" y="146844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1560" y="507672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25320" y="6969240"/>
            <a:ext cx="262080" cy="2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71520" y="1119240"/>
            <a:ext cx="244800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набор последнего номера 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матический выбор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их звонков 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удильник 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звратный звонок .....................................……..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зов ................................................................…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сстановление внешних звонков 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Горячая линия  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...........................…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дентификационный код пользователя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сигнала интеркома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..............…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внешний звонок .............................…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апрос в очереди 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нференция 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узыка ...........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стройка громкости 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чередь  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групповой звонок 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вонок на ожидании.....................…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жидание звонка 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ключение микрофона ..................................… 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вонки, поступающие в другую группу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адресация 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на ожидание 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..................................................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-секретарь 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по интеркому 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 .......…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имени 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6120" y="792000"/>
            <a:ext cx="168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лфавитный указател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8440" y="1119240"/>
            <a:ext cx="239076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ежим DND ...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ставленные сообщения ...........................…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пикер ............................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ов ........................................…11 Скоростной набор на станции 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брос ...........................................................…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об ожидании 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держание внешнего звонка..............................….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держание звонка по интеркому  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Действия оператора систем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авление функции DND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ключение доступа к внешним линиям ............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даление пароля ...................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становка времени/даты ............................…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из системы 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становка пароля доступа 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сообщений пользователя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будильника ..............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7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очной перевод звонков 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2T07:37:16Z</dcterms:created>
  <dc:creator>USER</dc:creator>
  <dc:description/>
  <dc:language>en-US</dc:language>
  <cp:lastModifiedBy>lg</cp:lastModifiedBy>
  <cp:lastPrinted>1998-04-04T05:26:24Z</cp:lastPrinted>
  <dcterms:modified xsi:type="dcterms:W3CDTF">1998-04-04T05:26:36Z</dcterms:modified>
  <cp:revision>42</cp:revision>
  <dc:subject/>
  <dc:title>ЅЅ¶уАМµе Б¦ёс ѕшАЅ</dc:title>
</cp:coreProperties>
</file>