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РУКОВОДСТВО ПОЛЬЗОВАТЕЛ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в системе GD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1800" y="739440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33FFE72-87B4-4723-A560-B959A391F1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57400" y="1219320"/>
            <a:ext cx="31096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од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доступа к внешней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на ваш звонок ответят, поднимите труб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говорите с помощью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затем введите сначала 1 цифру, потом 2 цифру дл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шагового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1800" y="804960"/>
            <a:ext cx="19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56200" y="1252440"/>
            <a:ext cx="84132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Или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58960"/>
            <a:ext cx="449892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068640"/>
            <a:ext cx="0" cy="969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2901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4560" y="2901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9034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49720" y="3068640"/>
            <a:ext cx="0" cy="969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6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102120"/>
            <a:ext cx="3048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спользоваться спикер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вы запрограммировали функцию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дельные лин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то вы можете ответить на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дняв трубк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329000"/>
            <a:ext cx="449568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4713120"/>
            <a:ext cx="0" cy="696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4320" y="4557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3840" y="4556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5514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9720" y="4713120"/>
            <a:ext cx="0" cy="696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713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360" y="4745160"/>
            <a:ext cx="286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делать групповой звонок по интеркому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групповой номер интерко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6200" y="477216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5360" y="1200240"/>
            <a:ext cx="0" cy="1200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9720" y="1200240"/>
            <a:ext cx="0" cy="1200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0368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4880" y="6170760"/>
            <a:ext cx="2972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4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1 для Handsfree, 2 для тонального звонка или 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конфиденциального режим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5360" y="6134040"/>
            <a:ext cx="0" cy="85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6480" y="6134040"/>
            <a:ext cx="0" cy="857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4320" y="5969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3840" y="5969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59706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135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726160"/>
            <a:ext cx="4495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440" y="5715000"/>
            <a:ext cx="335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3880" y="129852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560" y="195264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3880" y="312732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23880" y="484200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01560" y="622944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25320" y="6539040"/>
            <a:ext cx="2635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43000" y="4243320"/>
            <a:ext cx="31240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 вашем телефоне, запрограммирована эта функц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ли во время звонка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индикатор, указывающий на режим D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запрограммированну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данную функцию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е поднимая трубку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ндикатор погаснет и функция будет отключе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нажмите  запрограммированну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35800" y="2082960"/>
            <a:ext cx="2421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переадреса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8480" y="798480"/>
            <a:ext cx="213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5360" y="1204920"/>
            <a:ext cx="0" cy="2338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73840" y="1028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26040" y="1204920"/>
            <a:ext cx="0" cy="2338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1039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8400" y="1324080"/>
            <a:ext cx="285012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тип переадреса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станции или номер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8400" y="2765520"/>
            <a:ext cx="3083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4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ли нажмите запрограммированную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25360" y="4202280"/>
            <a:ext cx="0" cy="246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4320" y="4041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74560" y="4041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26040" y="4202280"/>
            <a:ext cx="0" cy="2465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4202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40370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37828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нкция “не беспокоить” (Do Not Distur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9560" y="12207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403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9560" y="26463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8288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9560" y="468792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48704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9560" y="590724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0897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25320" y="14526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01560" y="233208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01560" y="438948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25360" y="1204920"/>
            <a:ext cx="0" cy="3672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6040" y="1204920"/>
            <a:ext cx="0" cy="3672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1235160"/>
            <a:ext cx="320040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охранить номера скор. набора на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а, которые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для набора по имени. (Доп. оп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 кнопку 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спользовать номера скор. набора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спользовать номера скор. набора системы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тере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, который нужно стере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05880" y="3875040"/>
            <a:ext cx="824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омера ск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а систем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388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642636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змен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старый  5-значный идентификационный к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ведите  новый 5-знач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ржу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1055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25360" y="5810400"/>
            <a:ext cx="0" cy="1500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4320" y="5649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73840" y="5649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26040" y="5810400"/>
            <a:ext cx="0" cy="1500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5810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584676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5-значный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ржу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56451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9560" y="5343480"/>
            <a:ext cx="449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избежание неавторизованного использования вашей станции, в системе предусматр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тся система блокировки станции с помощью идентификационного кода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01560" y="133812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01560" y="152712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25320" y="18334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625320" y="29718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601560" y="320040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601560" y="60008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625320" y="6222960"/>
            <a:ext cx="2635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25360" y="1370160"/>
            <a:ext cx="0" cy="763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4320" y="1209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3840" y="1209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26040" y="1370160"/>
            <a:ext cx="0" cy="763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1370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13921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жд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будет гореть до тех пор, пока блокиров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будет снят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204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160" y="1017720"/>
            <a:ext cx="3659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Необходимо установить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316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2419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25360" y="2819520"/>
            <a:ext cx="0" cy="795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4680" y="2658960"/>
            <a:ext cx="461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3840" y="2658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26040" y="2819520"/>
            <a:ext cx="0" cy="795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819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846520"/>
            <a:ext cx="259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аш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огасне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2654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5360" y="4532400"/>
            <a:ext cx="0" cy="1792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4320" y="4371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74560" y="4371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26040" y="4532400"/>
            <a:ext cx="0" cy="1792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532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572000"/>
            <a:ext cx="31240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время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4 1 и 4 цифры времени (HHMM) в 24-часово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ежиме. (HH(часы) = 00~23, MM(минуты) = 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ля того, чтобы звонок был “оди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” ил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затем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“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давался регулярно, пока эта функция не буде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менена”. (Вы услышите подтверждающий сигнал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3671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1280" y="4091040"/>
            <a:ext cx="420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автоматически звонит на станцию, на которой был установлен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типа таких звонков: звонок один раз и регулярны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563868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383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01560" y="13939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25320" y="15764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601560" y="293544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601560" y="469260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625320" y="50338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66840" y="2287440"/>
            <a:ext cx="2895480" cy="836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4320" y="1362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74560" y="1362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522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571760"/>
            <a:ext cx="2971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 0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ый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имя (до 7 букв с помощью указанных кодов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135720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26040" y="1522440"/>
            <a:ext cx="0" cy="2021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5748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9120" y="1042920"/>
            <a:ext cx="426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рограммировать свое имя. Если вы сделаете это, то у пользовател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ов с дисплеем на нем будет появляться ваше имя, а не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25360" y="1522440"/>
            <a:ext cx="0" cy="2021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76040" y="227484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25720" y="3144960"/>
            <a:ext cx="141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5320" y="792000"/>
            <a:ext cx="234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вашег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5067360"/>
            <a:ext cx="2819160" cy="1523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3801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сообщени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4320" y="427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74560" y="4276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4437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4470480"/>
            <a:ext cx="30481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ообщения, а также дату, время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станции, если необходим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LUNCH, RTN HH:MM (обедаю, вернусь в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ON VACATION/RTN DATE (MM:DD) (в отпуске, вернусь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OUT OF OFFICE/RTN TIME (HH:MM) (ушел, вернусь в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OUT OF OFFICE/RTN DATE (MM:DD) (уехал, вернусь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OUT OF OFFICE/RTN UNKNOWN (уехал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CALL : XXXXX (позвоните по номеру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IN OFFICE/STA XXXX (в офисе 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IN A MEETING/RTN TIME (HH:MM) (на встрече, вернусь в 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AT HOME (дом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AT BRANCH OFFICE  (в филиал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#    to cancel (отмен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~ 2 0 используются  для сообщений, программируемых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амим пользователем.(См. “Как создать сообщение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42721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5360" y="4430880"/>
            <a:ext cx="0" cy="2693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26040" y="4437000"/>
            <a:ext cx="0" cy="2687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4600" y="4014720"/>
            <a:ext cx="450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предварительно составленное сообщение, которое будет появля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телефона, с которого вам звоня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1920" y="6620040"/>
            <a:ext cx="231984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далить сообщение с дисплея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95440" y="1604880"/>
            <a:ext cx="311040" cy="1317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01560" y="180036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625320" y="198612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595440" y="4495680"/>
            <a:ext cx="311040" cy="1317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625320" y="4805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601560" y="6784920"/>
            <a:ext cx="31140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343160" y="2095560"/>
            <a:ext cx="2209680" cy="1638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7456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1251000"/>
            <a:ext cx="31240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можете делать вызов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зону вызова. (См. таблицу ниже.) И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ышите 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сигнал прекратится,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   GDK-100   GDK-FP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10526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25360" y="1217520"/>
            <a:ext cx="0" cy="3125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26040" y="1217520"/>
            <a:ext cx="0" cy="3125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2305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9060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542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2960" y="2303640"/>
            <a:ext cx="2151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         4    9          4    9         4  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1          4 0 1          4 0 1         4 0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          :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05        4 0 5          4 0 5         4 0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15        4 1 5          4 1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20        4 2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общ.вызов       4    3          4    3         4   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яя зона 1         4    6          4    6         4    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яя зона 2         4    7          4    7           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.общ.вызов       4    8          4    8          4    8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25360" y="3733920"/>
            <a:ext cx="2627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ветить на выз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ойдите к ближайшему кнопочному телеф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720" y="792000"/>
            <a:ext cx="60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114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4320" y="4873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73840" y="4873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5033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43400" y="48690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5079960"/>
            <a:ext cx="30481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ступил внешний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осстановить внешний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ON/OFF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07320" y="5329080"/>
            <a:ext cx="732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25360" y="5033880"/>
            <a:ext cx="0" cy="118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26040" y="5033880"/>
            <a:ext cx="0" cy="1182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4648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01560" y="5230800"/>
            <a:ext cx="31140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44320" y="1089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74560" y="1089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1249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3000" y="128736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 Ес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яя линия не установлена, наберите 6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оединитесь с внешней лин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1084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25360" y="1251000"/>
            <a:ext cx="0" cy="7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26040" y="1251000"/>
            <a:ext cx="0" cy="793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1560" y="2743200"/>
            <a:ext cx="14511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4320" y="2556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74560" y="2556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5827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5509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25360" y="2716200"/>
            <a:ext cx="0" cy="56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26040" y="2716200"/>
            <a:ext cx="0" cy="560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2316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" y="3581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164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73840" y="4164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4324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43000" y="435780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внешний звонок.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1590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25360" y="4325760"/>
            <a:ext cx="0" cy="47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26040" y="4325760"/>
            <a:ext cx="0" cy="474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3880" y="3868560"/>
            <a:ext cx="461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ъединяет внешнюю линию. Может использоваться для повторного набора, если систе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ключена к мини-АТ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3880" y="792000"/>
            <a:ext cx="208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ниверсальный ночной отв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51735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пикер (громкоговоритель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36160" y="5859360"/>
            <a:ext cx="258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ключить спик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4320" y="5667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73840" y="5667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2716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43400" y="5683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25360" y="5827680"/>
            <a:ext cx="0" cy="64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26040" y="5827680"/>
            <a:ext cx="0" cy="649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9200" y="539892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 кнопку внешней линии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го набора, кнопку станции или набирае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27120" y="130032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601560" y="27860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601560" y="441468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627120" y="5992920"/>
            <a:ext cx="2602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46400" y="792000"/>
            <a:ext cx="258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ция DVU (системных сообщен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34000" y="1243080"/>
            <a:ext cx="3034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 “This is station XXXX.” (Номер станции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4320" y="105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74560" y="105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1046160"/>
            <a:ext cx="893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 станц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25360" y="1211400"/>
            <a:ext cx="0" cy="5379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26040" y="1211400"/>
            <a:ext cx="0" cy="5379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9760" y="2630520"/>
            <a:ext cx="302256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ваших сообщений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кончить запись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автоматически стирается через 48 час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запись сохраняется, пока не будет стерт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сообщение записано, то звонящий услышит ваш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общение, если вы не ответите на его звонок в теч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енного периода времени. (4 сек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стереть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проиграть ваше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(Вы услышите свое сообще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ус станции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7.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услышите следующи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(a) по (h). Пункты c-g будут пропущены, если э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 не включен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Номер станции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Сообщения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Время будильника XXXX AM или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Функция D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Переадресация на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 Переадресация на номер скоростного набора 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Блокировка (временное изменение CO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ызов вашего сообщен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, чтобы записать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27120" y="2900520"/>
            <a:ext cx="260280" cy="207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625320" y="31240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25320" y="60958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37400" y="3176640"/>
            <a:ext cx="226836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прямого доступа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номер ожидания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ожидание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162 :601~61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поиск внутр. групп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а      TRANS + 8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жидание                      TRANS +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(постоян.)    TRANS + 4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                         TRANS + 4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зов                             См. страницу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дентиф. код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                     TRANS +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                   TRANS + 4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локировка звонка       TRANS + 4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блокировки     TRANS + 4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90640" y="5670720"/>
            <a:ext cx="2033640" cy="99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4240" y="792000"/>
            <a:ext cx="236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4080" y="1219320"/>
            <a:ext cx="2565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запрограммировать мягкие кноп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уководствуясь таблицей,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стереть мягкую кнопку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456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4800" y="1065240"/>
            <a:ext cx="893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 станц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25360" y="1230480"/>
            <a:ext cx="0" cy="1398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26040" y="1230480"/>
            <a:ext cx="0" cy="1398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" y="2871720"/>
            <a:ext cx="4495680" cy="2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3680" y="3168720"/>
            <a:ext cx="448308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29080" y="316224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3162240"/>
            <a:ext cx="0" cy="3390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28960" y="316224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25720" y="5697360"/>
            <a:ext cx="0" cy="882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01560" y="137160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25320" y="167652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625840" y="3176640"/>
            <a:ext cx="253044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общения                     TRANS/PGM + 7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узыка                            TRANS/PGM + 7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ание интеркома   TRANS/PGM + 8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альн. звонок      6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кличная кнопка          TRANS/PGM +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остной набор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внеш. линии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овой доступ                9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1                         8 0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2                         8 0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                                  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48                       8 4 8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До группы #24 в GDK-1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дельный доступ к         8 8 +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№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ин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лавиатура GSX/E, GK-8 кноп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                             TRANS + 9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ONF                                TRANS + 9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ALLBK                            TRANS + 9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DND/FOR                          TRANS + 9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FLASH                               TRANS + 9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UTE                                TRANS + 9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ON/OFF                             TRANS + 9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25360" y="1211400"/>
            <a:ext cx="0" cy="107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4320" y="105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4560" y="105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0461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1211400"/>
            <a:ext cx="0" cy="1074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2280" y="1260360"/>
            <a:ext cx="3043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интеркома или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Гудки в тональном режиме. Подождите, по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ая сторона не ответит на ваш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3 сигнала в режиме HF(громкоговорящая связь)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V(конфиденциальный режим). Говорите после сигна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280" y="2550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7440" y="2954160"/>
            <a:ext cx="0" cy="12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" y="2793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5920" y="2793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8120" y="2954160"/>
            <a:ext cx="0" cy="1208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280" y="2954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38320" y="2986200"/>
            <a:ext cx="30704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ключен интерком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TN(тональный), после звонка по интерком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PV , после 3 тональных сигналов и после того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услышите голос звонящего,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HF (Handsfree), после 3 тональных сигнал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после того, как услышите голос звонящего, подним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убку или воспользуйтесь громкоговорящей связь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7828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4244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5360" y="4811760"/>
            <a:ext cx="0" cy="1969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4320" y="4651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3840" y="4651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11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1920" y="4836960"/>
            <a:ext cx="312804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Два раза, если хотите поставить на удержание тольк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лин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Один раз, если хотите поставить на удержание систе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в обратном порядке, в зависимости от того,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на эта функц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мигающую кнопку внешн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инии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6404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880" y="792000"/>
            <a:ext cx="23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2520" y="6093000"/>
            <a:ext cx="1147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8600" y="6273720"/>
            <a:ext cx="217944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8 # # или  8 # +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линии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6600" y="6310440"/>
            <a:ext cx="63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289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6040" y="4811760"/>
            <a:ext cx="0" cy="1969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5320" y="4881600"/>
            <a:ext cx="263520" cy="20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9600" y="3078000"/>
            <a:ext cx="341280" cy="255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8440" y="3433680"/>
            <a:ext cx="361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1517760"/>
            <a:ext cx="243864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" y="792000"/>
            <a:ext cx="3382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поставить  звонок по интеркому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1193760"/>
            <a:ext cx="0" cy="1473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6040" y="1193760"/>
            <a:ext cx="0" cy="1473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39400" y="1235160"/>
            <a:ext cx="311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авиатура GSX/E должна включать запрограммированну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ягк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IC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TRANS + Мягкая кнопка + TRANS + 8 3 +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загорится и вы услышите сигнал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должить разгово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43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5360" y="3230640"/>
            <a:ext cx="0" cy="252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4320" y="3070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3840" y="3070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26040" y="3230640"/>
            <a:ext cx="0" cy="2528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230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2640" y="3268800"/>
            <a:ext cx="305028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огда на линии внешний звонок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вонок будет поставлен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прямо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мый перевод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лицо, дополнительный номер которого был набран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ит, сообщите о переводе звонка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весьте трубку, чтобы законч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наберете номер станции или нажме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и услышите гуд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ветить на отслеживаемый перевод звон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вашем телефоне раздается такой звонок, который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н вами в режиме ответа на звонки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ьте на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дающий звонок повесит трубку и звонок буде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единен с ва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0592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06960" y="3544920"/>
            <a:ext cx="717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STA No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560" y="412740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920" y="4508640"/>
            <a:ext cx="75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е 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956200"/>
            <a:ext cx="44989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4320" y="6365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3840" y="6365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526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1200" y="6559560"/>
            <a:ext cx="3053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разговариваете по интеркому или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поступает второй звонок, то будет гореть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сигнала вы соединитесь с обеими звонящи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бы поговорить с новым звонящи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бы переключиться на другой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635472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25360" y="6526080"/>
            <a:ext cx="0" cy="852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26040" y="6534000"/>
            <a:ext cx="0" cy="844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640" y="6173640"/>
            <a:ext cx="3036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а функция должна быть запрограммирована на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0368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5320" y="190980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1560" y="33973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25320" y="668016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4240" y="792000"/>
            <a:ext cx="259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1193760"/>
            <a:ext cx="0" cy="939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193760"/>
            <a:ext cx="0" cy="939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2640" y="1235160"/>
            <a:ext cx="2946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амяти телефона сохраняется последний набранный в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нешнюю линию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набрать такой последний номер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на GK-24/36 или если запро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аммирована на GSX/Е.)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3414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абранно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5360" y="2728800"/>
            <a:ext cx="0" cy="1157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4320" y="2568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560" y="2568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2563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2728800"/>
            <a:ext cx="0" cy="1157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28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0120" y="2746440"/>
            <a:ext cx="3117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набора номера не клад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1039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83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а в памя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5360" y="4875120"/>
            <a:ext cx="0" cy="153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4320" y="4714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73840" y="4714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47102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6040" y="4875120"/>
            <a:ext cx="0" cy="1538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875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0840" y="4908600"/>
            <a:ext cx="283212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снова, чтобы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провери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ожидания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храненный номер появится на дисплее (если есть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040" y="4408560"/>
            <a:ext cx="450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 или по интеркому вы можете сохранить номер в памя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9480" y="1620720"/>
            <a:ext cx="311400" cy="11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3360" y="1857240"/>
            <a:ext cx="311040" cy="12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1560" y="3048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01560" y="555300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01560" y="350532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95280" y="1968480"/>
            <a:ext cx="228600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5360" y="1509840"/>
            <a:ext cx="0" cy="1461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4320" y="1349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3840" y="1341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13604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26040" y="1509840"/>
            <a:ext cx="0" cy="1461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509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542960"/>
            <a:ext cx="3200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GSX/E нужно запрограммировать мягкую кнопку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REDIA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 + Мягкая кнопка + TRANS + 8 8 +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то он будет набран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автоматически после определенного период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аются кнопки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нача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" y="1042920"/>
            <a:ext cx="44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а внешней линии занят или не отвечает, система может набрать номер ещ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236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ключение микро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5360" y="3929040"/>
            <a:ext cx="0" cy="871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320" y="3768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3840" y="3768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37638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26040" y="3929040"/>
            <a:ext cx="0" cy="871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9290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95460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ключить микроф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еще раз, чтобы в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520" y="3506760"/>
            <a:ext cx="448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разговариваете по телефону, но хотите что-нибудь сказать присутствующим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шем разговоре лицам, вы можете сделать так, что звонящий ничего не услыш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4240" y="792000"/>
            <a:ext cx="214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набор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00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черед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5360" y="5695920"/>
            <a:ext cx="0" cy="1506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320" y="5535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3840" y="5535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5530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6040" y="5695920"/>
            <a:ext cx="0" cy="1506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695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5737320"/>
            <a:ext cx="3124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нажме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запрограммировали кнопку CALLBK на 8-кнопоч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й клавиатуре,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160" y="5222880"/>
            <a:ext cx="439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бы подключится к линии, когда о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дится, проделай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1200" y="4379760"/>
            <a:ext cx="284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ключить микрофон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0720" y="64911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9560" y="422928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18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666576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1560" y="1622520"/>
            <a:ext cx="311400" cy="112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1560" y="264492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01560" y="402444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25320" y="5759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01560" y="6031080"/>
            <a:ext cx="311400" cy="12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75200" y="798480"/>
            <a:ext cx="188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апрос в очеред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5360" y="2760840"/>
            <a:ext cx="0" cy="1049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4320" y="2600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73840" y="2600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6040" y="2760840"/>
            <a:ext cx="0" cy="1049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60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0188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главной станцией и он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ходится в режиме DND (“не беспокоить”), то вс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и будут передаваться на станцию-секретар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станцией-секретарем, то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ожете сообщить на главную станцию, которая наход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DND, о поступившем звонке с помощь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ункции ожидания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5956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075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шагов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25360" y="4475160"/>
            <a:ext cx="0" cy="107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4320" y="4314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73840" y="4314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309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26040" y="4475160"/>
            <a:ext cx="0" cy="1074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475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4508640"/>
            <a:ext cx="31240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нутренни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услышите сигнал ICM, указывающий на то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 линия занята, введите последнюю цифру нуж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в той же группе номер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апример, если занят номер “112”, нажмите  “4”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рать номер  “114”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внешнем звонке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ледню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фр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5842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группово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25360" y="6242040"/>
            <a:ext cx="0" cy="820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4320" y="6081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73840" y="6081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60768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26040" y="6242040"/>
            <a:ext cx="0" cy="820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62420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2769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должны находится в той же группе станций, что и станция, на которую поступил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лышите поступающий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30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5360" y="1217520"/>
            <a:ext cx="0" cy="776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7456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10526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26040" y="1217520"/>
            <a:ext cx="0" cy="776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125100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лин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ждаетс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гудки и загорится кнопка это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27120" y="6626160"/>
            <a:ext cx="260280" cy="208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1560" y="523548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7120" y="792000"/>
            <a:ext cx="376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поступающий в другую группу стан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25360" y="1197000"/>
            <a:ext cx="0" cy="93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32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73840" y="1036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26040" y="1197000"/>
            <a:ext cx="0" cy="936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197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121932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слышите звонок по интеркому или из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другой групп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введите номер станции, на которую поступи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 соединится с вашим телефон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10317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06960" y="130824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3828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5360" y="2770200"/>
            <a:ext cx="0" cy="4316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4320" y="2610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3840" y="2610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26049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2778120"/>
            <a:ext cx="0" cy="4308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770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819520"/>
            <a:ext cx="304812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ча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 (внешний или внутренн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Первый номер ставится на удержани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горитс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одключить к конференции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ременно выйти из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е номера останутся в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вторное подключение к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ключить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должны участвовать в конференции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того лица, которое в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тите отключить от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закончи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1920" y="6572160"/>
            <a:ext cx="282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воспользоваться этой функцией, вам нужн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ть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как мягкую кноп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9560" y="640404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65800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25320" y="13366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1560" y="3065400"/>
            <a:ext cx="311400" cy="127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25320" y="495612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601560" y="6175440"/>
            <a:ext cx="311400" cy="12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601560" y="6718320"/>
            <a:ext cx="3114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42440" y="792000"/>
            <a:ext cx="128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жидание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25360" y="1477800"/>
            <a:ext cx="0" cy="1113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320" y="1317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74560" y="1317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26040" y="1477800"/>
            <a:ext cx="0" cy="1113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477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527120"/>
            <a:ext cx="31240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по интеркому занят.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“*”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оследнюю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фру номера или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говаривающий по телефону, номер которого занят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ышит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он может ответить на ваш звонок .Вы може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говорить с ним или повесить трубку, чтобы перевес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тупивший звонок на его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312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000" y="1042920"/>
            <a:ext cx="390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станции, который вы набираете, занят, вы можете предупреди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я этого 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68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с функци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25360" y="3344760"/>
            <a:ext cx="0" cy="846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4320" y="3184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73840" y="3184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6040" y="3344760"/>
            <a:ext cx="0" cy="846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344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339084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ожидания и 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о вторым звонящ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ервый звонок ставится на 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можете продолжить первый разговор, когда законч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торой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31798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4456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25360" y="5021280"/>
            <a:ext cx="0" cy="1227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4320" y="4861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73840" y="4861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6040" y="5021280"/>
            <a:ext cx="0" cy="1227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5029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5046840"/>
            <a:ext cx="31240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 +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48560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360" y="468648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, который вы набираете, занят, вы можете сообщ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9560" y="52275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230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5320" y="34718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01560" y="508176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601560" y="543564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25320" y="583740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25360" y="4386240"/>
            <a:ext cx="0" cy="2776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320" y="4226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74560" y="4226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26040" y="4386240"/>
            <a:ext cx="41040" cy="2776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4386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4419720"/>
            <a:ext cx="31240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горитс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тип переадресаци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0 - Follow me (отслежива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- Unconditional (без услов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- Busy calls (если номер заня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- No answer calls (если номер 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- Busy/no answer calls (если номер занят/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 - Station off-net (если станция вне сети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- Incoming outside line to off-net (system attendant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ходящий внешний звонок на станцию, котор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ходится вне сети - только со станции оператор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- DVU forward (переадресация DVU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нажмите кнопку прямого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группы интерко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установлен тип Follow-me, наберит идентифика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онный код доступ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, а на друго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ции 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2210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25360" y="1204920"/>
            <a:ext cx="0" cy="252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26040" y="1204920"/>
            <a:ext cx="0" cy="2529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238400"/>
            <a:ext cx="304812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не отвечает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другом телефоне загорится индикатор CALLBK 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 +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ветить на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телефоне, с которого было оставлено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дастся тональны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ам было оставлено сообщение, будет мигать инд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тор MSG и/или запрограммированная кнопка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тавивший сообщение пользователь услышит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3520" y="792000"/>
            <a:ext cx="1486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3986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03720" y="5460840"/>
            <a:ext cx="73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Станция 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06600" y="5932440"/>
            <a:ext cx="884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Группа интерко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2520" y="273672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919240"/>
            <a:ext cx="3657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2520" y="152568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708200"/>
            <a:ext cx="3657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01560" y="12654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01560" y="175248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01560" y="24084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612720" y="444348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601560" y="46753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601560" y="662940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08:39:32Z</dcterms:created>
  <dc:creator>USER</dc:creator>
  <dc:description/>
  <dc:language>en-US</dc:language>
  <cp:lastModifiedBy>lg</cp:lastModifiedBy>
  <cp:lastPrinted>1998-02-23T00:27:24Z</cp:lastPrinted>
  <dcterms:modified xsi:type="dcterms:W3CDTF">1998-04-04T06:29:42Z</dcterms:modified>
  <cp:revision>124</cp:revision>
  <dc:subject/>
  <dc:title>ЅЅ¶уАМµе Б¦ёс ѕшАЅ</dc:title>
</cp:coreProperties>
</file>