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5335588" cy="8002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СЕРИИ GSX/E,G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70160" y="76168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59640" y="74628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5B2688-5645-4C87-9B33-920AABC228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1960" y="792000"/>
            <a:ext cx="1140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41360" y="1119240"/>
            <a:ext cx="4587840" cy="61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Клавиатура аналоговых кнопочных телефонов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…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  ............................................................................................................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...............................................................................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звонок на удержание 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.............................................................................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 .........................................................................................…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абранного номера 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а в памяти .....................................................................................................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ий набор номера ............................................................................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ключение микрофона 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в линии 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апрос в очереди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на определенную станцию для ожидания ..............................................................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.....................................................................................…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доступа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......................................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 ..................................................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звонков ........................................................................................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 “не беспокоить” 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 секретарь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групповой звонок ..................................................................................................…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, поступающий в другую группу станций 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 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ожидания звонка 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, находящийся на ожидании 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 звонке ...............................................................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на станции 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удильник 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вашего имени на дисплее 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едварительно составленное сообщение 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ий выбор 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орячая линия” ..................................................................................................................................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-минутное предупреждение 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 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сигнала интеркома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по звонка интеркому 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..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звонок по интеркому на удержание............................................................................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 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ействия оператора систем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авление функции DND 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ключение доступа к внешней линии 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 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становка времени/даты 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аление пароля 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очной перевод звонков 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становка пароля доступа 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сообщений пользователя 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Алфавитный указатель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1360" y="1119240"/>
            <a:ext cx="4587840" cy="61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налоговый кнопочный телефон в системе GDK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групповой звонок по интеркому 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режима ответа на звонки по интеркому 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 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звонок по интеркому на удержание 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Voice Over  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 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последнего номера 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ий набор номера 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ключение микрофона 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апрос в очереди  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 секретарь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шаговый звонок 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групповой звонок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, поступивший в другую группу номеров 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звонка 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, находящийся на ожидании 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 звонке 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звонка 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DND  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на станции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доступа 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 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имени 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едварительно составленные сообщения 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 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и постановка на ожидание 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ниверсальный ночной ответ 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ция DVU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 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ействия оператора систем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мешательство оператора  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ящих звонков 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формата даты и времени 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 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спечатка отчетов SMDR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ирание отчетов SMDR  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г 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ветствия, записанные в системе 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нализ трафика 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невной/ночной режим обслуживания (ручной/автоматический) 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8280" y="792000"/>
            <a:ext cx="110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1360" y="1119240"/>
            <a:ext cx="4587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 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 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с помощью кнопок DSS 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по интеркому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рупповой звонок по интеркому 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учение доступа к телефону, который находится в режиме DND 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Алфавитный указатель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280" y="792000"/>
            <a:ext cx="110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03:21:08Z</dcterms:created>
  <dc:creator>USER</dc:creator>
  <dc:description/>
  <dc:language>en-US</dc:language>
  <cp:lastModifiedBy>lg</cp:lastModifiedBy>
  <cp:lastPrinted>1998-04-04T06:14:58Z</cp:lastPrinted>
  <dcterms:modified xsi:type="dcterms:W3CDTF">1998-04-04T06:15:14Z</dcterms:modified>
  <cp:revision>22</cp:revision>
  <dc:subject/>
  <dc:title>ЅЅ¶уАМµе Б¦ёс ѕшАЅ</dc:title>
</cp:coreProperties>
</file>