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54600" y="74674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8A3D0D4-5FF2-4D3D-A02D-C4D474AFE94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02120" y="522360"/>
            <a:ext cx="4496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                                                                СЕРИИ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39560" y="716040"/>
            <a:ext cx="239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8400" y="2706840"/>
            <a:ext cx="449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3-кнопочный расширенны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3-кнопочный управляющи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SS/DLS Панель управле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8920" y="1049400"/>
            <a:ext cx="44377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SX/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- кнопочный             </a:t>
            </a: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1- кнопочный расширенный           </a:t>
            </a: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1- кнопочный управля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9320" y="5715000"/>
            <a:ext cx="455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36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36S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SS-DLS Панель управле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3480" y="4038480"/>
            <a:ext cx="2948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24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24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2000" y="722160"/>
            <a:ext cx="322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аналоговых кнопочных телефон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042920"/>
            <a:ext cx="172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SX/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" y="1295280"/>
            <a:ext cx="422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SX/E-8 кнопо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SX/E-21 кнопо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SX/E-33 кнопо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8880" y="4002120"/>
            <a:ext cx="415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8(E/S)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24(E/S)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36(E/S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6:31:22Z</dcterms:created>
  <dc:creator>USER</dc:creator>
  <dc:description/>
  <dc:language>en-US</dc:language>
  <cp:lastModifiedBy>lg</cp:lastModifiedBy>
  <cp:lastPrinted>1998-04-04T06:13:42Z</cp:lastPrinted>
  <dcterms:modified xsi:type="dcterms:W3CDTF">1998-04-04T06:14:32Z</dcterms:modified>
  <cp:revision>14</cp:revision>
  <dc:subject/>
  <dc:title>ЅЅ¶уАМµе Б¦ёс ѕшАЅ</dc:title>
</cp:coreProperties>
</file>