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F9D9-F935-49A8-A409-491C664F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182-9F2C-4777-9226-3D201E76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579-79AB-406F-BDA1-6552809A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97D-3DF2-4C2C-BCA7-F362B0B2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674-EBDA-4C37-AC24-97577AAB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253D-79EF-4FE9-8A4E-82D3BF6C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F6F-0DEE-46AF-A93E-1BF2E74F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E5B-392E-4F36-A8D0-75343347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04C2-3C50-4C6A-B35C-1024EAD7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B795-DBAB-4E77-B1BE-303B3B20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A817-7940-4C8E-A58E-B59EE413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8F3A-7131-498B-BA13-E95B35E9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48CF1E-E157-45B5-ABAE-6A9821128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154160" y="119052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АНАЛОГОВЫЙ КНОПОЧНЫЙ ТЕЛЕФОН / Краткое руководство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СЕРИИ GS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X/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E, G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137160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5600" y="1690560"/>
            <a:ext cx="2349720" cy="18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ноп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используется для прекращения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азгово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еспечивает доступ к функциям ско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остного набора, сохранения номера для пов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орного набора и повторного набора послед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его номера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(TRANSFER) используется для пере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да звонка с одной станции на другую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(CALLBACK) позволяет оставить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ение о вашем звонке, если номер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анят или находится в режиме DND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используется для конференций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(FORWARD) позволяет вам пере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дресовывать звонки на другой телефон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371600"/>
            <a:ext cx="4267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раткое руководство по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налоговый кнопочной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телефон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68520" y="1792440"/>
            <a:ext cx="23274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MUTE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зволяет отключать микрофон или спике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 разговор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позволяет сделать звонок или ответить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 звонок без поднятия трубки. Включает и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ключает спикер.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позволяет поставить входящий звонок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 удержани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REDIAL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зволяет автоматически набрать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следний набранный вами номе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HF-P-T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зволяет выбрать режим интерком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ISM, режимы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ands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ree,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rivacy и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зволяет настроить громкость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вонка и спике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3530520"/>
            <a:ext cx="4419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7160" y="3605040"/>
            <a:ext cx="2349360" cy="48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адресация звон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DND/FOR и введите тип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адресации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0 : Unconditional (без условий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1 : No answer calls (если номер не отвечает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2 : Busy calls (если номер занят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3 : Busy/no answer calls (если занят/не отвечает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4 : Follow me (отслеживани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5 : Off-net (находится вне сети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 GHX-308A тип переадресации выбирать н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ужно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танции (Вы услыш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тверждающий сигнал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вы выберете тип 5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и введите номер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го набо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HOL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ли, нажмите кнопку внешней линии и набер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елефонный номер.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HOLD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ункция ожида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номер занят вы можете сообщить о вашем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вонк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Пользователь станции, номер которой занят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слышит сигнал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он ответит, говорите с ним или повесьте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рубку, чтобы перевести звонок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онференц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первого пользовател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нешний или внутренний). Когда он ответит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CONF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берите другую линию, чтобы подключить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ще одного пользователя к конференции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он ответит, нажмите CONF два раз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Чтобы установить конференцию с внешним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линиями, необходима мультик анальная линия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Чтобы закончить конференцию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акончить конференцию должен ее инициато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ложите трубку или нажмите кнопку M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81480" y="3605040"/>
            <a:ext cx="248580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ообщение об ожида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номер занят, не отвечает или находится 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ежиме DND, вы можете оставить сообщение о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ашем звонк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интеркома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CALLBK. На телефоне другог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льзователя будет мигать индикатор CALLBK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Чтобы ответить на звонок, находящийся на ожидани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мигающую кнопку CALLBK. На станци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торая оставила сообщение, раздастся звонок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станция не отвечает, нажмите кнопку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CALLBK один раз, чтобы оставить сообщени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поставить внешний звонок на удержа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 разговоре по внешней лини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HOL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Два раза, чтобы поставить на удержани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дельную линию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Один раз, чтобы поставить на удержание систем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оборот, если кнопка запрограммирована 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ратном порядк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овторный набор последнего номе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следний набранный во внешнюю линию номе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яется в памяти системы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REDIAL. (GK-24/36) ил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 и нажмите *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охранение повторного набора номе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вы хотите сохранить последний набранный вами номер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сле набора номера во внешнюю линию не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лад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два раз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Чтобы набрать сохраненный номер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и нажмите #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27160" y="1676520"/>
            <a:ext cx="234936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вод звон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 разговоре по внешней лини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TRAN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танции или кнопку прямог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доступа DS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ы можете выбрать отслеживаемый перевод ил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е отслеживаемый перевод 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Отслеживаемый перевод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лицо, на номер которого переводится звонок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ит, сообщите ему о переводе и положите трубку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Неотслеживаемый перевод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вы услышите гудки, положите трубку, чтобы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ести звонок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охранение номеров скоростного набо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два раз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коростного набо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00~19 скор. набор со станции  (GHX-308A/6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0~09 скор. набор со станции (GHX-36/4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20~99  номера скор. набора из системы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Программируются оператором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телефонные номера, которые в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хотите сохранить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Чтобы стереть номер скоростного набора,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два раз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коростного набора, которы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хотите стереть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два раз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абор номера скоростного набор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 и наберите номе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го набора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номер ответит, поднимите трубку или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спользуйтесь спикером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озвратный звоно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номер занят, вы можете оставить сообщение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CALLBK и повесьте трубку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занятый номер прекратит разговор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елефон сообщит вам об этом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 M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3627360"/>
            <a:ext cx="2349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рограммирование мягких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SPEED два раз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мягкую кноп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 соответствии с таблицей введите код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HOL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14680" y="4324320"/>
            <a:ext cx="2124000" cy="19940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89480" y="4294080"/>
            <a:ext cx="266688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д прямого доступа  100~107 (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~127 (GHX-36)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~139 (GHX-4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жидание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700~7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иск группы               710~7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. набор со стан.   SPEED + 00~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00~09 в GHX-36/4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. набор из сист.   SPEED + 20~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ниверс. ночной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7  7  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т. набор номера  SPEED +  *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омера  SPEED + #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щий вызов             #  0  (нет у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. зона 1              #  1 (нет у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. зона 2              #  2 (нет у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. все                   #  5 (нет у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ешний вызов          #  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ндивид. вызов         #  7  (## в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11800" y="6324480"/>
            <a:ext cx="16599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Чтобы стереть мягкую кнопку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SPEED два раз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нужную мягкую кноп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FLAS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M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3160" y="1676520"/>
            <a:ext cx="2606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Очередь в ли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Если линия занята и вы хотите встать в очередь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что-бы подключится к линии, когда она освободится, проделайте следующее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занятой внешней линии ил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у группы линий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огда вы нажмете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, она загоритс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и вы услышите подтверждающий сигнал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Как ответить на звонок, находящийся в очеред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огда внешняя линия или одна из линий группы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линий освобождается, вы услышите гудки и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загорится кнопка этой линии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однимите трубку и нажмите эту кноп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1363680"/>
            <a:ext cx="4038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раткое руководство по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налоговый кнопочной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телефон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3T08:04:16Z</dcterms:created>
  <dc:creator>USER</dc:creator>
  <dc:description/>
  <dc:language>en-US</dc:language>
  <cp:lastModifiedBy>lg</cp:lastModifiedBy>
  <cp:lastPrinted>1998-03-29T13:12:56Z</cp:lastPrinted>
  <dcterms:modified xsi:type="dcterms:W3CDTF">1998-04-04T06:56:18Z</dcterms:modified>
  <cp:revision>27</cp:revision>
  <dc:subject/>
  <dc:title>ЅЅ¶уАМµе Б¦ёс ѕшАЅ</dc:title>
</cp:coreProperties>
</file>