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5335588" cy="8002588"/>
  <p:notesSz cx="673893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0A7-47B2-4D76-8CD8-32A9175A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04E-BA76-4912-ABA5-6C52EF7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95F-7182-4F80-95D4-8928A8FE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850-88BE-47C0-8E08-E89004D5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74D-3534-4C64-B748-471BEA75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ECC-262B-4A4B-BE1D-D8C04B39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897-0BF8-40DF-8138-662C035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59C-F644-4267-A8B0-7FECFC01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33E-5908-452F-95E0-8835A351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A19-B44A-4A82-BE34-27F739C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F92-32A7-4C17-BBE6-EE000EC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605-7132-4402-8912-23DBA25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69D074-6D3B-4E3B-A98F-5F1D44806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6840" y="619200"/>
            <a:ext cx="4814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/ ДЕЙСТВИЯ ОПЕРАТОРА                   СЕРИИ KD, KD/E, LK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92400" y="744552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54CFE0-AAEB-43DA-AD39-B56AFF04DF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4320" y="792000"/>
            <a:ext cx="328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активна, пока не будет отмене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195560"/>
            <a:ext cx="39625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установ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на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 (HH/час = 00~23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для одного раза) или 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постоянно, пока не будет отменен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5360" y="1203480"/>
            <a:ext cx="0" cy="6226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468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6068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выбрать мен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8840" y="29019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2200" y="2925720"/>
            <a:ext cx="980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КОСТЬ ДИСПЛЕ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О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Е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5600" y="34686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88160" y="34574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4004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780000"/>
            <a:ext cx="37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402912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2840" y="4052880"/>
            <a:ext cx="8067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БУ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ИТЬ ДАТ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. ВРЕ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25600" y="459576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8160" y="45846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83040"/>
            <a:ext cx="3962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СТ. БУДИЛЬНИ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иапазон станций (XXX-YYY), которые будут получать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 (HHmm) в 24-часовом режи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для одного раза) или 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постоянно, пока не будет отменена)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583240"/>
            <a:ext cx="3110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4 2. (Вы услышите подтверждающий сигнал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диапазон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ерестан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520" y="643248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720" y="6605640"/>
            <a:ext cx="2536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БУ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400" y="25909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" y="66229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ranspgm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66" name="holdsave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04920" cy="20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39480" y="29178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23720" y="290988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1840" y="35244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2200" y="344484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6240" y="4044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21560" y="403704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7880" y="46512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45720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oldsave" descr=""/>
          <p:cNvPicPr/>
          <p:nvPr/>
        </p:nvPicPr>
        <p:blipFill>
          <a:blip r:embed="rId3"/>
          <a:stretch/>
        </p:blipFill>
        <p:spPr>
          <a:xfrm>
            <a:off x="609480" y="527832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76" name="holdsave" descr=""/>
          <p:cNvPicPr/>
          <p:nvPr/>
        </p:nvPicPr>
        <p:blipFill>
          <a:blip r:embed="rId4"/>
          <a:stretch/>
        </p:blipFill>
        <p:spPr>
          <a:xfrm>
            <a:off x="609480" y="619272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77" name="transpgm" descr=""/>
          <p:cNvPicPr/>
          <p:nvPr/>
        </p:nvPicPr>
        <p:blipFill>
          <a:blip r:embed="rId5"/>
          <a:stretch/>
        </p:blipFill>
        <p:spPr>
          <a:xfrm>
            <a:off x="533520" y="57150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78" name="holdsave" descr=""/>
          <p:cNvPicPr/>
          <p:nvPr/>
        </p:nvPicPr>
        <p:blipFill>
          <a:blip r:embed="rId6"/>
          <a:stretch/>
        </p:blipFill>
        <p:spPr>
          <a:xfrm>
            <a:off x="609480" y="703116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19320" y="3639960"/>
            <a:ext cx="2743200" cy="3065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58840" y="2887560"/>
            <a:ext cx="379404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[TRANS/PGM] +  5 1  + номер станции (начало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+ номер станции (конец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+ Введите (00~25)  +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[HOLD/SAVE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 (00~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  GDK-FPII/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              0 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глий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              0 1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корей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              0 2             италья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              0 3             англий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              0 4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швед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              0 5             норвеж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              0 6             фи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              0 7             голланд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              0 8             испа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              0 9             корей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              1 0             дат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1 1             немец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1 2             немец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3                1 3             эсто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2                1 4             эсто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4                1 5             швед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5                1 6             италья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6                1 7             норвеж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7                1 8             фи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8                1 9             голланд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 0                2 0             рус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                 2 1             испа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 1                2 2             рус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               2 3             дат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2 4             португаль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2 5             португаль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54240" y="3786120"/>
            <a:ext cx="27176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38360" y="3651120"/>
            <a:ext cx="0" cy="3025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79520" y="3652920"/>
            <a:ext cx="0" cy="3025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0160" y="1297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75440" y="1300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1467000"/>
            <a:ext cx="0" cy="72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360" y="1030320"/>
            <a:ext cx="457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отключить функции DND, CALL FORWARD и предваритель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й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37600" y="1471680"/>
            <a:ext cx="172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0440" y="14698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200" y="792000"/>
            <a:ext cx="239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800" y="2438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Язык диспле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0160" y="2697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5440" y="270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440" y="2860560"/>
            <a:ext cx="4416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5360" y="2867040"/>
            <a:ext cx="0" cy="406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ranspgm" descr=""/>
          <p:cNvPicPr/>
          <p:nvPr/>
        </p:nvPicPr>
        <p:blipFill>
          <a:blip r:embed="rId1"/>
          <a:stretch/>
        </p:blipFill>
        <p:spPr>
          <a:xfrm>
            <a:off x="533520" y="153684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320" name="holdsave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60160" y="3916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75440" y="391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560" y="4076640"/>
            <a:ext cx="441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25360" y="4078440"/>
            <a:ext cx="0" cy="684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4320" y="1039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73840" y="103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0440" y="12063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246320"/>
            <a:ext cx="380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нужной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законч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о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25360" y="1208160"/>
            <a:ext cx="0" cy="66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21398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бщение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160" y="2416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75440" y="2419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264492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ажите свое сообще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2585880"/>
            <a:ext cx="0" cy="797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0440" y="2577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" y="3638520"/>
            <a:ext cx="44924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внешнего звонка на другую стан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4145040"/>
            <a:ext cx="4022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звонок по внешней линии. Нажмите кнопку прямого доступа DS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подождать, пока на звонок ответят, чтобы объявить о перевод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5840" y="792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0160" y="528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5440" y="529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0440" y="54482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55166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INTERCOM GRO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 будет соединен со свободной станцией в систе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25360" y="5457960"/>
            <a:ext cx="0" cy="676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3680" y="638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0160" y="6659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75440" y="666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6560" y="6819840"/>
            <a:ext cx="441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688824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(Вы услышите гудки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25360" y="6829560"/>
            <a:ext cx="0" cy="676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3680" y="5029200"/>
            <a:ext cx="440676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000" y="5027760"/>
            <a:ext cx="223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упповой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mon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353" name="mon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354" name="mon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304920" cy="19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612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143000"/>
            <a:ext cx="244800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…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……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е собственное сообщение 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…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 ....................…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звонка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спикера 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 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3840" y="1119240"/>
            <a:ext cx="229536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дартные сообщения ............................…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по имени 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Только для большого диспле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будильника 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лендарь ..........................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дифференциального кольца 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oor Open 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яркости дисплея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языка 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аршрутиризация линии  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ные сообщения 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ор по имени (для ICM) .................…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бслуживающего лица 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ов ………………………………………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Язык дисплея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 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1720" y="792000"/>
            <a:ext cx="164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истем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424160"/>
            <a:ext cx="37339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#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DVU, наберите 0 1 для сообщения 1, наберите 0 2 для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или 0 3 для сообщения 3. (Сообщение 3 воспроизводится, ес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занят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EDVU вам предлагается 31 (01~31) системн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~9 : для поиска или информации о компа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 : для неправильной информ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 : для Timeout message (сообщение об окончании разговорного времен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 : для Try again message (попробуйте еще раз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 : для Transfer to attendant message  (перевод звонка на станцию операто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 : для Leave message (оставь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 : для Record message (запиши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 : для Enter authorization message (введите сообщение о разрешени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 : для MOH message (сообщение МОН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 : для Busy message (сообщение “занято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прослушает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шите сообщение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5360" y="1387440"/>
            <a:ext cx="0" cy="2651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320" y="1219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3840" y="121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0440" y="13860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880" y="1042920"/>
            <a:ext cx="298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и сообщения может записать только оператор систем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680" y="434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(для IC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0160" y="4621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4784760"/>
            <a:ext cx="0" cy="1933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440" y="4616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7912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 введите имя с помощью этих 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8240" y="5283360"/>
            <a:ext cx="289548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4240" y="530856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5360" y="6275520"/>
            <a:ext cx="169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440" y="4782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ranspgm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96" name="transpgm" descr=""/>
          <p:cNvPicPr/>
          <p:nvPr/>
        </p:nvPicPr>
        <p:blipFill>
          <a:blip r:embed="rId2"/>
          <a:stretch/>
        </p:blipFill>
        <p:spPr>
          <a:xfrm>
            <a:off x="549360" y="485136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97" name="holdsave" descr=""/>
          <p:cNvPicPr/>
          <p:nvPr/>
        </p:nvPicPr>
        <p:blipFill>
          <a:blip r:embed="rId3"/>
          <a:stretch/>
        </p:blipFill>
        <p:spPr>
          <a:xfrm>
            <a:off x="609480" y="629928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405080"/>
            <a:ext cx="39625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3 раза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5360" y="1219320"/>
            <a:ext cx="0" cy="1904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080" y="792000"/>
            <a:ext cx="261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(для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8840" y="18795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54320" y="1903320"/>
            <a:ext cx="94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НАБЕРИТЕ И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АВТО ДЕНЬ-НОЧ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24462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3080" y="24354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703600"/>
            <a:ext cx="3071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 введите имя с помощью кодов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680" y="33526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мешательство операто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3782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5360" y="3946680"/>
            <a:ext cx="0" cy="1768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75440" y="3786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0920" y="3963960"/>
            <a:ext cx="364176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настроить мягкую кнопку для вызова этой функ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хотите запрограммиров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8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воспользоваться этой функцией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й станции, на которую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позвонить (Вы услышите короткие гудки)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ATD INTRU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На такой станции будет слышен предупреждающий сигнал, посл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его будет установлена 3-сторонняя конферен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840" y="3608280"/>
            <a:ext cx="354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вмешиваться в разговор по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59691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0160" y="6246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6410160"/>
            <a:ext cx="0" cy="98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5440" y="6249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8840" y="6427800"/>
            <a:ext cx="38703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блокировку на исходящ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кнопка внешней линии заблокирова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торите процедуру, чтобы отменить блокиров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520" y="12286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0440" y="64134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440" y="39495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1640" y="1897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720" y="1897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5080" y="250524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1280" y="24321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holdsave" descr=""/>
          <p:cNvPicPr/>
          <p:nvPr/>
        </p:nvPicPr>
        <p:blipFill>
          <a:blip r:embed="rId1"/>
          <a:stretch/>
        </p:blipFill>
        <p:spPr>
          <a:xfrm>
            <a:off x="633240" y="277956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transpgm" descr=""/>
          <p:cNvPicPr/>
          <p:nvPr/>
        </p:nvPicPr>
        <p:blipFill>
          <a:blip r:embed="rId2"/>
          <a:stretch/>
        </p:blipFill>
        <p:spPr>
          <a:xfrm>
            <a:off x="533520" y="411336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130" name="holdsave" descr=""/>
          <p:cNvPicPr/>
          <p:nvPr/>
        </p:nvPicPr>
        <p:blipFill>
          <a:blip r:embed="rId3"/>
          <a:stretch/>
        </p:blipFill>
        <p:spPr>
          <a:xfrm>
            <a:off x="609480" y="455148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131" name="transpgm" descr=""/>
          <p:cNvPicPr/>
          <p:nvPr/>
        </p:nvPicPr>
        <p:blipFill>
          <a:blip r:embed="rId4"/>
          <a:stretch/>
        </p:blipFill>
        <p:spPr>
          <a:xfrm>
            <a:off x="557280" y="6559560"/>
            <a:ext cx="417600" cy="1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16880" y="784080"/>
            <a:ext cx="430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380960"/>
            <a:ext cx="39625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1 раз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203480"/>
            <a:ext cx="0" cy="195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8840" y="18669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2880" y="1890720"/>
            <a:ext cx="957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БЛОКИРОВА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СТЕРЕТЬ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ВЫБОР МУЗ. К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АН. ВРЕМЕН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ТОЛЬКО ИНТЕРК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25600" y="24336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23080" y="24224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37960" y="2727360"/>
            <a:ext cx="3688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БЛОКИРОВАТ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680" y="33782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/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0160" y="3656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5360" y="3819600"/>
            <a:ext cx="0" cy="250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5440" y="3659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3844800"/>
            <a:ext cx="3641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даты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520" y="4554360"/>
            <a:ext cx="38145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722840"/>
            <a:ext cx="3886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1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ИЗМЕНИТЬ ДАТ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8840" y="5549760"/>
            <a:ext cx="3641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времени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520" y="121284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13971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440" y="38163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" y="473868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38400" y="187632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30560" y="18684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1840" y="248436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20120" y="24033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ranspgm" descr=""/>
          <p:cNvPicPr/>
          <p:nvPr/>
        </p:nvPicPr>
        <p:blipFill>
          <a:blip r:embed="rId1"/>
          <a:stretch/>
        </p:blipFill>
        <p:spPr>
          <a:xfrm>
            <a:off x="577800" y="4038480"/>
            <a:ext cx="417600" cy="152640"/>
          </a:xfrm>
          <a:prstGeom prst="rect">
            <a:avLst/>
          </a:prstGeom>
          <a:ln w="0">
            <a:noFill/>
          </a:ln>
        </p:spPr>
      </p:pic>
      <p:pic>
        <p:nvPicPr>
          <p:cNvPr id="160" name="transpgm" descr=""/>
          <p:cNvPicPr/>
          <p:nvPr/>
        </p:nvPicPr>
        <p:blipFill>
          <a:blip r:embed="rId2"/>
          <a:stretch/>
        </p:blipFill>
        <p:spPr>
          <a:xfrm>
            <a:off x="593640" y="5715000"/>
            <a:ext cx="417600" cy="1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39392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5360" y="1203480"/>
            <a:ext cx="0" cy="1882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28840" y="17463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4320" y="1770120"/>
            <a:ext cx="9594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БУ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ИТЬ ДАТ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. ВРЕ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25600" y="23130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3080" y="23018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7160" y="2590920"/>
            <a:ext cx="294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ИЗМЕН. ВРЕМ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280" y="792000"/>
            <a:ext cx="3195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/даты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800" y="32767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160" y="357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5440" y="3583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808440"/>
            <a:ext cx="36417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11~20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кодов, указанных в пункте “Набор п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ни (для ICM)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25360" y="3749760"/>
            <a:ext cx="0" cy="9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49593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160" y="5237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5440" y="5240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544212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5407200"/>
            <a:ext cx="0" cy="1031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2520" y="12254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0440" y="37530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440" y="5403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41640" y="176688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3800" y="1758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5080" y="237492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23360" y="229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transpgm" descr=""/>
          <p:cNvPicPr/>
          <p:nvPr/>
        </p:nvPicPr>
        <p:blipFill>
          <a:blip r:embed="rId1"/>
          <a:stretch/>
        </p:blipFill>
        <p:spPr>
          <a:xfrm>
            <a:off x="533520" y="387036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191" name="holdsave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92" name="holdsave" descr=""/>
          <p:cNvPicPr/>
          <p:nvPr/>
        </p:nvPicPr>
        <p:blipFill>
          <a:blip r:embed="rId3"/>
          <a:stretch/>
        </p:blipFill>
        <p:spPr>
          <a:xfrm>
            <a:off x="609480" y="58118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139392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8840" y="17463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2160" y="1770120"/>
            <a:ext cx="990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ВНУТР.ВЫЗОВ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ЕШ. ОБЩ.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ЕШ/ВНУТР.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Ь МЕНЯ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25600" y="23130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080" y="23018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203480"/>
            <a:ext cx="0" cy="485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200" y="792000"/>
            <a:ext cx="265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07040" y="1741320"/>
            <a:ext cx="910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 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612880"/>
            <a:ext cx="388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8840" y="283212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3960" y="2855880"/>
            <a:ext cx="981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ЕЧАТЬ SMDR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ЕЧАТЬ SMDR ГРУП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ДАЛИТЬ SMDR СТАН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ДАЛИТЬ SMR ГРУП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ОИМОСТЬ ЗВОН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25600" y="339876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23080" y="33876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67992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ЕЧАТЬ SMDR СТА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137120"/>
            <a:ext cx="4038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б отчетных группа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1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7360" y="4230720"/>
            <a:ext cx="872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2520" y="494676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146560"/>
            <a:ext cx="388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261040"/>
            <a:ext cx="3657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ЕЧАТЬ SMDR ГРУ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680" y="5430960"/>
            <a:ext cx="872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" y="123192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" y="512460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41640" y="1758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33800" y="175104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080" y="23670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3360" y="22860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8400" y="285912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0560" y="2851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21840" y="346716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20120" y="33861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holdsave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28" name="holdsave" descr=""/>
          <p:cNvPicPr/>
          <p:nvPr/>
        </p:nvPicPr>
        <p:blipFill>
          <a:blip r:embed="rId2"/>
          <a:stretch/>
        </p:blipFill>
        <p:spPr>
          <a:xfrm>
            <a:off x="609480" y="451656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229" name="holdsave" descr=""/>
          <p:cNvPicPr/>
          <p:nvPr/>
        </p:nvPicPr>
        <p:blipFill>
          <a:blip r:embed="rId3"/>
          <a:stretch/>
        </p:blipFill>
        <p:spPr>
          <a:xfrm>
            <a:off x="609480" y="55832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60160" y="1065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5440" y="106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0920" y="126360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тирание отчетов 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25360" y="1235160"/>
            <a:ext cx="0" cy="4822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360" y="792000"/>
            <a:ext cx="1731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ирание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2520" y="201924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2181240"/>
            <a:ext cx="3962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SMDR СТА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8840" y="28177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тирание информации об отчетной групп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отчетной групп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2520" y="355608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718080"/>
            <a:ext cx="40384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SMDR ГРУ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58840" y="4417920"/>
            <a:ext cx="29559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знать оплату за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520" y="50227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5184720"/>
            <a:ext cx="38862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ТОИМОСТЬ ЗВОН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0440" y="12384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" y="220968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" y="37465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" y="520704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holdsave" descr=""/>
          <p:cNvPicPr/>
          <p:nvPr/>
        </p:nvPicPr>
        <p:blipFill>
          <a:blip r:embed="rId1"/>
          <a:stretch/>
        </p:blipFill>
        <p:spPr>
          <a:xfrm>
            <a:off x="617400" y="168588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48" name="holdsave" descr=""/>
          <p:cNvPicPr/>
          <p:nvPr/>
        </p:nvPicPr>
        <p:blipFill>
          <a:blip r:embed="rId2"/>
          <a:stretch/>
        </p:blipFill>
        <p:spPr>
          <a:xfrm>
            <a:off x="609480" y="260028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49" name="holdsave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04920" cy="218880"/>
          </a:xfrm>
          <a:prstGeom prst="rect">
            <a:avLst/>
          </a:prstGeom>
          <a:ln w="0">
            <a:noFill/>
          </a:ln>
        </p:spPr>
      </p:pic>
      <p:pic>
        <p:nvPicPr>
          <p:cNvPr id="250" name="holdsave" descr=""/>
          <p:cNvPicPr/>
          <p:nvPr/>
        </p:nvPicPr>
        <p:blipFill>
          <a:blip r:embed="rId4"/>
          <a:stretch/>
        </p:blipFill>
        <p:spPr>
          <a:xfrm>
            <a:off x="609480" y="413856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51" name="holdsave" descr=""/>
          <p:cNvPicPr/>
          <p:nvPr/>
        </p:nvPicPr>
        <p:blipFill>
          <a:blip r:embed="rId5"/>
          <a:stretch/>
        </p:blipFill>
        <p:spPr>
          <a:xfrm>
            <a:off x="609480" y="4734000"/>
            <a:ext cx="304920" cy="218880"/>
          </a:xfrm>
          <a:prstGeom prst="rect">
            <a:avLst/>
          </a:prstGeom>
          <a:ln w="0">
            <a:noFill/>
          </a:ln>
        </p:spPr>
      </p:pic>
      <p:pic>
        <p:nvPicPr>
          <p:cNvPr id="252" name="holdsave" descr=""/>
          <p:cNvPicPr/>
          <p:nvPr/>
        </p:nvPicPr>
        <p:blipFill>
          <a:blip r:embed="rId6"/>
          <a:stretch/>
        </p:blipFill>
        <p:spPr>
          <a:xfrm>
            <a:off x="609480" y="5648400"/>
            <a:ext cx="30492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40640" y="792000"/>
            <a:ext cx="283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(C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546200"/>
            <a:ext cx="36576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1508040"/>
            <a:ext cx="0" cy="1501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320" y="133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3840" y="133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0440" y="15066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2000" y="1042920"/>
            <a:ext cx="437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ь станции может временно изменить класс услуг, чтобы защитить себя о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еавторизованного пользования станц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232000"/>
            <a:ext cx="38862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#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680" y="32259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из траф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0160" y="4724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75440" y="4727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8840" y="4952880"/>
            <a:ext cx="36417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данную функцию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распечатать результаты анализ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менить распечат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25360" y="4894200"/>
            <a:ext cx="0" cy="2460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360" y="3481560"/>
            <a:ext cx="443556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будет отслеживать и записывать различную информацию о рабочих нагрузках (трафике), которую затем можно распечатать. С помощью этой информации можно определить, правильно ли работает система.  Если данная функция включена, то информация о работе системы будет записываться  до тех пор, пока не будет отключена. Информация о трафике направляется на порт RS232C. Информация о трафике бывает двух типов. К первому типу относится информация о том, сколько раз выполнялась та или иная операция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нформация имеет цифровые значения в пределах от  00000 до 99999. Ко второму типу относится информация о времени использования того или иного устройства, т.е. станций, внешних линий, ресиверов DTMF и т.д. Время использования дается в секундах от  00000 дo 99999. Данная информация накапливается со времени, когда функция была включена, и сбрасывается только после выключения функции или после того, как значения превысят указанные пределы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440" y="48974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transpgm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269" name="holdsave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70" name="transpgm" descr=""/>
          <p:cNvPicPr/>
          <p:nvPr/>
        </p:nvPicPr>
        <p:blipFill>
          <a:blip r:embed="rId3"/>
          <a:stretch/>
        </p:blipFill>
        <p:spPr>
          <a:xfrm>
            <a:off x="533520" y="504972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271" name="holdsave" descr=""/>
          <p:cNvPicPr/>
          <p:nvPr/>
        </p:nvPicPr>
        <p:blipFill>
          <a:blip r:embed="rId4"/>
          <a:stretch/>
        </p:blipFill>
        <p:spPr>
          <a:xfrm>
            <a:off x="609480" y="53546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41360" y="792000"/>
            <a:ext cx="42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35080" y="1622520"/>
            <a:ext cx="37940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включить/выключить ночной/дневной режим или режи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по требованию вручну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тем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мигает. (Система стоит в режиме “по требованию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нажме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ще раз, система перейдет в ночной режи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бслуживания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 “по требованию” нельзя установить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0160" y="1415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89680" y="1415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6280" y="15825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" y="1042920"/>
            <a:ext cx="462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я оператора имеет ночной режим обслуживания, которая позволяет воспользова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ециальными функциями тем станциям, которые не имеют таких привилегий дне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5080" y="2590920"/>
            <a:ext cx="4022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зменить режим автоматичес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#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НЕВНОЕ + НОЧНОЕ ВРЕМЯ, или ДНЕВНОЕ + * или НОЧНОЕ + *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 формате HHMM (HH(часы) = 00~23, mm (минуты) =  00~5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1584360"/>
            <a:ext cx="0" cy="207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9520" y="39625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6000" y="454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1280" y="4548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0920" y="477360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1560" y="4714920"/>
            <a:ext cx="0" cy="63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6920" y="4218120"/>
            <a:ext cx="455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Группу номеров скоростного набора можно сохранить в системе. К ним будут иметь досту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лько определенные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83920" y="4890960"/>
            <a:ext cx="969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200~2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520" y="56516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6000" y="608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1280" y="608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50920" y="626256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ыбрать канал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музыкальный кана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1560" y="6251400"/>
            <a:ext cx="0" cy="1013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3600" y="5907240"/>
            <a:ext cx="338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выбрать источник музыкального канала для IC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82840" y="6629400"/>
            <a:ext cx="774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6280" y="471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2546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50800" y="2854440"/>
            <a:ext cx="43992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dndfor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298" name="holdsave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99" name="speed" descr=""/>
          <p:cNvPicPr/>
          <p:nvPr/>
        </p:nvPicPr>
        <p:blipFill>
          <a:blip r:embed="rId4"/>
          <a:stretch/>
        </p:blipFill>
        <p:spPr>
          <a:xfrm>
            <a:off x="557280" y="480060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00" name="transpgm" descr=""/>
          <p:cNvPicPr/>
          <p:nvPr/>
        </p:nvPicPr>
        <p:blipFill>
          <a:blip r:embed="rId5"/>
          <a:stretch/>
        </p:blipFill>
        <p:spPr>
          <a:xfrm>
            <a:off x="609480" y="640080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301" name="holdsave" descr=""/>
          <p:cNvPicPr/>
          <p:nvPr/>
        </p:nvPicPr>
        <p:blipFill>
          <a:blip r:embed="rId6"/>
          <a:stretch/>
        </p:blipFill>
        <p:spPr>
          <a:xfrm>
            <a:off x="685800" y="670572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4-03T12:57:32Z</cp:lastPrinted>
  <dcterms:modified xsi:type="dcterms:W3CDTF">1998-04-03T15:31:16Z</dcterms:modified>
  <cp:revision>21844</cp:revision>
  <dc:subject/>
  <dc:title>Заголовок слайда отсутствует</dc:title>
</cp:coreProperties>
</file>