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12F-43D8-4043-8D8F-32DA9275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2CBE-346C-4BB6-8AA3-E2F07306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DD6-0B17-4E01-91AA-B26C7E84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057-4E76-43A1-A7A3-699BB591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D74-7F4A-4660-BD71-B7759634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1F7-6686-4006-83F5-81F58B5A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C65-2F3D-4713-A36C-FA883C77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FFF-794C-488B-B71C-753848CD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909-42E3-4CE7-822F-CB6CFA0A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3F9-0677-4225-AAC4-12DA2BAE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15D-7957-4974-874E-35D64C1D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F2D-B523-4193-AE4E-51ADE2D3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E05E-4DC3-4F8E-AE82-6A1B3A6EF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9880" y="990720"/>
            <a:ext cx="36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Key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’s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: KD,KD/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7360" y="2698920"/>
            <a:ext cx="40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 Key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’s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: GSX/E, GK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0960" y="4314960"/>
            <a:ext cx="382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G Key Telephon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T User’s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: GHX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K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3840" y="990720"/>
            <a:ext cx="42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Key Telephon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: GDK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2760" y="2698920"/>
            <a:ext cx="429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Key Telephon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M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: GHX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3840" y="4572000"/>
            <a:ext cx="42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Key Telephon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: GDK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2760" y="6280200"/>
            <a:ext cx="429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Key Telephon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M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: GHX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9T13:17:08Z</dcterms:created>
  <dc:creator>lg</dc:creator>
  <dc:description/>
  <dc:language>en-US</dc:language>
  <cp:lastModifiedBy>lg</cp:lastModifiedBy>
  <dcterms:modified xsi:type="dcterms:W3CDTF">1998-04-03T08:12:38Z</dcterms:modified>
  <cp:revision>2</cp:revision>
  <dc:subject/>
  <dc:title>Заголовок слайда отсутствует</dc:title>
</cp:coreProperties>
</file>