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5335588" cy="8002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71CA-8BAC-45F5-83FE-96DF9FB9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FDF1-1658-43D8-B132-63938A63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0115-5F1C-472E-B112-45D64CD3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74A0-63D8-48FE-84CD-BA88C0D6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754D-34C5-46EA-813E-465ED9CE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2ACA-6CD7-4AE4-9039-46BC0F82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5B56-E8EB-4259-8EED-540DCF51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29E6-93A3-420F-A2E4-D8952D19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7887-64C2-4EA0-BEF4-3A7346C9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A87C-3E93-49CA-A7E3-DAC69894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9D33-A7A2-445E-8EEE-42194E83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F9D0-033E-459E-A60F-C1966B08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80520" y="7277040"/>
            <a:ext cx="1143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828440" y="7277040"/>
            <a:ext cx="1676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809520" y="7277040"/>
            <a:ext cx="1143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8C5CF84-06F0-40C8-B1AC-EE844FE28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09480"/>
            <a:ext cx="4738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ЦИФРОВЫЕ КНОПОЧНЫЕ ТЕЛЕФОНЫ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                                 СЕРИИ KD, KD/E, LK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80028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78440" y="7388280"/>
            <a:ext cx="707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6612AED-1536-4236-ABE6-96FF1751E2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32720" y="793800"/>
            <a:ext cx="1105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360" y="1119240"/>
            <a:ext cx="4664160" cy="65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Цифровые кнопочные телефоны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……....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Клавиатура цифрового кнопочного телефона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………..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делать внешний звонок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внешний звонок 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делать групповой звонок по интеркому .....................................................................……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зменение режима ответа на звонки по интеркому ...................................................................…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делать звонок по интеркому 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звонок по интеркому 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поставить внешний звонок на удержание 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поставить звонок по интеркому на удержание .....................................................................…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звонка 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Функция Voice Over  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торный набор последнего номера 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хранение последнего номера 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хранение номеров 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втоматический набор номера 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ключение микрофона 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чередь ......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 на запрос в очереди  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главная станция/станция-секретарь 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шаговый звонок 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 на групповой звонок 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 на звонок, поступивший в другую группу номеров 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нференция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жидание звонка 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 на звонок, находящийся на ожидании 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озвратный звонок 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общение о звонке 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адресация звонка 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Функция DND  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коростной набор на станции 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дентификационный код доступа 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Блокировка внешних звонков 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мена блокировки внешних звонков 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Функция будильника 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хранение номеров по имени 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ор по имени 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ограммирование имени 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тандартные сообщения 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здание своих собственных сообщений 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зов  ........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звонка и постановка на ожидание 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ниверсальный ночной ответ 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Музыка........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брос .........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пикер .......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стройка громкости спикера 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стройка громкости звонка  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танция DVU (цифровых сообщений) 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DISA (Прямой внутренний системный доступ) 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зменение дифференциального звонка 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стройка яркости дисплея 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брос будильника 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Open doors 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Маршрутиризация прямой связи 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лендарь .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зменение языка дисплея 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ограммирование мягких кнопок 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41360" y="1090440"/>
            <a:ext cx="4511520" cy="24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Действия оператора систем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Функция будильника ....................................................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Системные сообщения ...............................................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бор по имени (для ICM) ..........................................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Вмешательство оператора .......................................................................................................…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Блокировка внешней линии для исходящих звонков 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Изменение формата даты и времени ........................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ак создать свои собственные сообщения ................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спечатка отчетов SMDR ..........................................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Стирание отчетов SMDR  .............................................................................................................…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Временное изменение класса услуг ...........................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Анализ трафика ........................................................................................................................…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невной/ночной режим обслуживания (ручной/автоматический) ........................................…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Скоростной набор из системы ....................................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Выбор музыкального канала оператором ..................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ак стереть сообщение на станции ............................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Язык дисплея ...............................................................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Управление кнопками прямого доступа .....................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Алфавитный указатель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…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9960" y="792000"/>
            <a:ext cx="1105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g</cp:lastModifiedBy>
  <cp:lastPrinted>1998-03-29T13:22:30Z</cp:lastPrinted>
  <dcterms:modified xsi:type="dcterms:W3CDTF">1998-04-03T13:23:16Z</dcterms:modified>
  <cp:revision>21837</cp:revision>
  <dc:subject/>
  <dc:title>Заголовок слайда отсутствует</dc:title>
</cp:coreProperties>
</file>