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685-E03F-4BF1-8037-C8C1688D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F09-AF57-4F67-B8BA-CE6BFEC8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2A0-0956-43D9-8B68-A859DBFD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3DB-7BA3-4B74-A3C6-812563F2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1BD-146A-42B3-8E78-EEA4CDEC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2F3-EBBC-4A2B-8B4A-A325A36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ABA-CD88-48B1-8388-082CB36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87B-D750-449C-B736-D9F7FF5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1F8-2282-4144-A62F-0BDAEDC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84C-A8B4-45D6-AC07-98F7CC7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2BA-35F2-4AA7-9827-3E8DF4C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143-134D-4795-A532-312192B3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47D004-ACC6-42A6-8DFB-72704F9C9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54600" y="74199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BB727F-6C43-4FEE-9041-9697D1416D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680" y="522360"/>
            <a:ext cx="4626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СЕРИИ  KD, KD/E, LK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6667560"/>
            <a:ext cx="2895840" cy="60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413240"/>
            <a:ext cx="28958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520" y="2795760"/>
            <a:ext cx="250596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36D : дисплей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36N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24D : дисплей, 12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24N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680" y="10429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ольшие цифровые кнопочные телефон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3L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9800" y="5005440"/>
            <a:ext cx="2713320" cy="23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KD/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36EXE : дисплей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36ENH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24EXE : дисплей, 12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24ENH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8 BTN :  без дисплея, 8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716040"/>
            <a:ext cx="230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8320" y="1303200"/>
            <a:ext cx="84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/E-36L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960" y="3036960"/>
            <a:ext cx="7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24N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5160" y="5257800"/>
            <a:ext cx="84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24E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1040" y="5257800"/>
            <a:ext cx="77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908440"/>
            <a:ext cx="2895840" cy="55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600" y="1042920"/>
            <a:ext cx="283212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L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2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2NS : без дисплея, 2 мягких кнопки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8DS : дисплей, 8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30DS : дисплей, 30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30LD : большой дисплей, 30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48DSS : 44 мягких кнопки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960" y="3557520"/>
            <a:ext cx="4680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ерии KE/C, KD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и телефонов серий KE/C и KD/C имеют такие же функции, что и кнопки KD, KD/E и C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омпьютерно-телефонная интеграция = СTI), для подключения к компьютеру (RS-232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интерфейса). При подключении к модулю CTI, кнопки телефонов серий КE/C и KD/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назначены для получения или передачи информации на компьют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уководство по подключению модуля CTI к клавиатуре KE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  Подключите клавиатуру KE/C, KD/C к порту KTU модуля CTI с помощью 6-контакт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бе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  Подключите KSU к порту KSU модуля CTI с помощью 4-контактного кабе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  Подключите последовательный порт компьютера к последовательному порту модуля C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помощью  9-контактного кабеля RS-232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6320" y="722160"/>
            <a:ext cx="230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120" y="1295280"/>
            <a:ext cx="7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8D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1160" y="1295280"/>
            <a:ext cx="71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3160" y="716040"/>
            <a:ext cx="308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66680"/>
            <a:ext cx="242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ольшие цифровые кнопочные телефон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3L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00" y="4110120"/>
            <a:ext cx="793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K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36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8320" y="1303200"/>
            <a:ext cx="84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/E-36L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5320" y="435132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2640" y="435780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24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640" y="435276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2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3160" y="716040"/>
            <a:ext cx="308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1066680"/>
            <a:ext cx="1387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KD/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5160" y="1319040"/>
            <a:ext cx="84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24E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1040" y="1319040"/>
            <a:ext cx="77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040" y="4038480"/>
            <a:ext cx="14637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L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2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1120" y="4290840"/>
            <a:ext cx="7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8D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1160" y="4290840"/>
            <a:ext cx="71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dcterms:modified xsi:type="dcterms:W3CDTF">1998-04-03T08:06:36Z</dcterms:modified>
  <cp:revision>21830</cp:revision>
  <dc:subject/>
  <dc:title>Заголовок слайда отсутствует</dc:title>
</cp:coreProperties>
</file>