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5335588" cy="8002588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ЦИФРОВЫЕ КНОПОЧНЫЕ ТЕЛЕФОНЫ / РУКОВОДСТВО ПОЛЬЗОВАТЕЛЯ                                     СЕРИИ KD, KD/E, LK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35520" y="743256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257B03-98EB-464F-87CC-06EAB001CA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48560" y="804960"/>
            <a:ext cx="1979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делать внешни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1239840"/>
            <a:ext cx="32004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или 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код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доступа к внешней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ужны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на ваш звонок ответят, поднимите труб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говорите с помощью спике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03720" y="1252440"/>
            <a:ext cx="8413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9, 8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Или, 88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81280"/>
            <a:ext cx="449100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5360" y="3068640"/>
            <a:ext cx="0" cy="1046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4320" y="2901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3840" y="2901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2903400"/>
            <a:ext cx="622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49720" y="3068640"/>
            <a:ext cx="0" cy="1046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37240" y="3117960"/>
            <a:ext cx="2800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оспользоваться спикер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Если вы запрограммировали функцию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Ответ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отдельные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то вы можете ответить на звон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осто подняв трубку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67160"/>
            <a:ext cx="449100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делать групповой звонок по интеркому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4751280"/>
            <a:ext cx="0" cy="735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4320" y="4595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73840" y="4594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458964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49720" y="4751280"/>
            <a:ext cx="0" cy="735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751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360" y="4791240"/>
            <a:ext cx="286452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сделать групповой звонок по интеркому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групповой номер интерком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07320" y="4834080"/>
            <a:ext cx="732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танция 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25360" y="1200240"/>
            <a:ext cx="0" cy="1133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49720" y="1200240"/>
            <a:ext cx="0" cy="1133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036800"/>
            <a:ext cx="838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075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mon" descr=""/>
          <p:cNvPicPr/>
          <p:nvPr/>
        </p:nvPicPr>
        <p:blipFill>
          <a:blip r:embed="rId1"/>
          <a:stretch/>
        </p:blipFill>
        <p:spPr>
          <a:xfrm>
            <a:off x="609480" y="1251000"/>
            <a:ext cx="304920" cy="199800"/>
          </a:xfrm>
          <a:prstGeom prst="rect">
            <a:avLst/>
          </a:prstGeom>
          <a:ln w="0">
            <a:noFill/>
          </a:ln>
        </p:spPr>
      </p:pic>
      <p:pic>
        <p:nvPicPr>
          <p:cNvPr id="66" name="mon" descr=""/>
          <p:cNvPicPr/>
          <p:nvPr/>
        </p:nvPicPr>
        <p:blipFill>
          <a:blip r:embed="rId2"/>
          <a:stretch/>
        </p:blipFill>
        <p:spPr>
          <a:xfrm>
            <a:off x="609480" y="3168720"/>
            <a:ext cx="304920" cy="199800"/>
          </a:xfrm>
          <a:prstGeom prst="rect">
            <a:avLst/>
          </a:prstGeom>
          <a:ln w="0">
            <a:noFill/>
          </a:ln>
        </p:spPr>
      </p:pic>
      <p:pic>
        <p:nvPicPr>
          <p:cNvPr id="67" name="mon" descr=""/>
          <p:cNvPicPr/>
          <p:nvPr/>
        </p:nvPicPr>
        <p:blipFill>
          <a:blip r:embed="rId3"/>
          <a:stretch/>
        </p:blipFill>
        <p:spPr>
          <a:xfrm>
            <a:off x="609480" y="4905360"/>
            <a:ext cx="30492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39920" y="792000"/>
            <a:ext cx="208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на стан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25360" y="1204920"/>
            <a:ext cx="0" cy="4129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7384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26040" y="1204920"/>
            <a:ext cx="0" cy="41292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1219320"/>
            <a:ext cx="32004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охранить номера скор. набора со ста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й номера, которые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имя для набора по имени. (Доп. опц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или кнопку г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й номер, который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имя для набора по имени. (Доп. опц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использовать номера скор. набора ста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использовать номера скор. набора системы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тереть номера скоростного набор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, который нужно стере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67080" y="10396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07320" y="4027320"/>
            <a:ext cx="732600" cy="6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омера ско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бора со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танц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56023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дентификационный код досту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25360" y="6307200"/>
            <a:ext cx="0" cy="931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4320" y="61466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73840" y="61466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26040" y="6307200"/>
            <a:ext cx="0" cy="931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6307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6356520"/>
            <a:ext cx="3124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Загор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 5-значный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61419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9560" y="5840280"/>
            <a:ext cx="4578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о избежание неавторизованного использования вашей станции, в системе предусмотре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стема блокировки станции с помощью идентификационного кода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transpgm" descr=""/>
          <p:cNvPicPr/>
          <p:nvPr/>
        </p:nvPicPr>
        <p:blipFill>
          <a:blip r:embed="rId1"/>
          <a:stretch/>
        </p:blipFill>
        <p:spPr>
          <a:xfrm>
            <a:off x="577800" y="1384200"/>
            <a:ext cx="380880" cy="139680"/>
          </a:xfrm>
          <a:prstGeom prst="rect">
            <a:avLst/>
          </a:prstGeom>
          <a:ln w="0">
            <a:noFill/>
          </a:ln>
        </p:spPr>
      </p:pic>
      <p:pic>
        <p:nvPicPr>
          <p:cNvPr id="364" name="speed" descr=""/>
          <p:cNvPicPr/>
          <p:nvPr/>
        </p:nvPicPr>
        <p:blipFill>
          <a:blip r:embed="rId2"/>
          <a:stretch/>
        </p:blipFill>
        <p:spPr>
          <a:xfrm>
            <a:off x="533520" y="1544760"/>
            <a:ext cx="457200" cy="152280"/>
          </a:xfrm>
          <a:prstGeom prst="rect">
            <a:avLst/>
          </a:prstGeom>
          <a:ln w="0">
            <a:noFill/>
          </a:ln>
        </p:spPr>
      </p:pic>
      <p:pic>
        <p:nvPicPr>
          <p:cNvPr id="365" name="holdsave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366" name="speed" descr=""/>
          <p:cNvPicPr/>
          <p:nvPr/>
        </p:nvPicPr>
        <p:blipFill>
          <a:blip r:embed="rId4"/>
          <a:stretch/>
        </p:blipFill>
        <p:spPr>
          <a:xfrm>
            <a:off x="533520" y="3505320"/>
            <a:ext cx="457200" cy="152280"/>
          </a:xfrm>
          <a:prstGeom prst="rect">
            <a:avLst/>
          </a:prstGeom>
          <a:ln w="0">
            <a:noFill/>
          </a:ln>
        </p:spPr>
      </p:pic>
      <p:pic>
        <p:nvPicPr>
          <p:cNvPr id="367" name="speed" descr=""/>
          <p:cNvPicPr/>
          <p:nvPr/>
        </p:nvPicPr>
        <p:blipFill>
          <a:blip r:embed="rId5"/>
          <a:stretch/>
        </p:blipFill>
        <p:spPr>
          <a:xfrm>
            <a:off x="533520" y="4711680"/>
            <a:ext cx="457200" cy="152280"/>
          </a:xfrm>
          <a:prstGeom prst="rect">
            <a:avLst/>
          </a:prstGeom>
          <a:ln w="0">
            <a:noFill/>
          </a:ln>
        </p:spPr>
      </p:pic>
      <p:pic>
        <p:nvPicPr>
          <p:cNvPr id="368" name="transpgm" descr=""/>
          <p:cNvPicPr/>
          <p:nvPr/>
        </p:nvPicPr>
        <p:blipFill>
          <a:blip r:embed="rId6"/>
          <a:stretch/>
        </p:blipFill>
        <p:spPr>
          <a:xfrm>
            <a:off x="593640" y="4549680"/>
            <a:ext cx="381240" cy="139680"/>
          </a:xfrm>
          <a:prstGeom prst="rect">
            <a:avLst/>
          </a:prstGeom>
          <a:ln w="0">
            <a:noFill/>
          </a:ln>
        </p:spPr>
      </p:pic>
      <p:pic>
        <p:nvPicPr>
          <p:cNvPr id="369" name="holdsave" descr=""/>
          <p:cNvPicPr/>
          <p:nvPr/>
        </p:nvPicPr>
        <p:blipFill>
          <a:blip r:embed="rId7"/>
          <a:stretch/>
        </p:blipFill>
        <p:spPr>
          <a:xfrm>
            <a:off x="625320" y="49086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370" name="transpgm" descr=""/>
          <p:cNvPicPr/>
          <p:nvPr/>
        </p:nvPicPr>
        <p:blipFill>
          <a:blip r:embed="rId8"/>
          <a:stretch/>
        </p:blipFill>
        <p:spPr>
          <a:xfrm>
            <a:off x="609480" y="6489720"/>
            <a:ext cx="381240" cy="139680"/>
          </a:xfrm>
          <a:prstGeom prst="rect">
            <a:avLst/>
          </a:prstGeom>
          <a:ln w="0">
            <a:noFill/>
          </a:ln>
        </p:spPr>
      </p:pic>
      <p:pic>
        <p:nvPicPr>
          <p:cNvPr id="371" name="holdsave" descr=""/>
          <p:cNvPicPr/>
          <p:nvPr/>
        </p:nvPicPr>
        <p:blipFill>
          <a:blip r:embed="rId9"/>
          <a:stretch/>
        </p:blipFill>
        <p:spPr>
          <a:xfrm>
            <a:off x="609480" y="680256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40280" y="792000"/>
            <a:ext cx="3313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дентификационный код доступа 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25360" y="1206360"/>
            <a:ext cx="0" cy="495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7384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26040" y="1204920"/>
            <a:ext cx="0" cy="4929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103968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43000" y="1392120"/>
            <a:ext cx="253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28840" y="1606680"/>
            <a:ext cx="7570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2880" y="1630440"/>
            <a:ext cx="8791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ЗВОН. ИНТЕРКОМ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КОР. НАБ. СТА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КОР. НАБ. СИСТ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ПЦИ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22360" y="217332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23800" y="21621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09880" y="160668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02960" y="1630440"/>
            <a:ext cx="920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СТАНЦ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ЯРКОСТЬ ДИСПЛ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ЗВО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СПИ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03400" y="2173320"/>
            <a:ext cx="77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03400" y="21621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2520" y="122544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2446200"/>
            <a:ext cx="312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 и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17680" y="26733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05000" y="2697120"/>
            <a:ext cx="946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ДАЛ.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А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ИЗМЕ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ТОЛЬКО ИНТЕР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11200" y="32400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11200" y="32288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3000" y="3513240"/>
            <a:ext cx="312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ИЗМЕН. ПАРОЛЬ и введите 5-значны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измен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тарый  5-значный идентификационный к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оступа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перь введите  новый 5-знач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подтвержд.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2520" y="495288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43000" y="5126040"/>
            <a:ext cx="2971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ИЗМЕН. ПАРОЛЬ и введите стары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перь введите  новый 5-знач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7040" y="14032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51436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60240" y="1873080"/>
            <a:ext cx="324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Monotype Sorts" charset="2"/>
              <a:buChar char="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44880" y="16207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41640" y="16128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27960" y="22287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34080" y="21477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24120" y="16207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21240" y="16128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07560" y="22287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13680" y="21477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39840" y="27068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44880" y="2698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23280" y="33148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37320" y="323388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holdsave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304920" cy="207720"/>
          </a:xfrm>
          <a:prstGeom prst="rect">
            <a:avLst/>
          </a:prstGeom>
          <a:ln w="0">
            <a:noFill/>
          </a:ln>
        </p:spPr>
      </p:pic>
      <p:pic>
        <p:nvPicPr>
          <p:cNvPr id="413" name="holdsave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414" name="transpgm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417600" cy="154080"/>
          </a:xfrm>
          <a:prstGeom prst="rect">
            <a:avLst/>
          </a:prstGeom>
          <a:ln w="0">
            <a:noFill/>
          </a:ln>
        </p:spPr>
      </p:pic>
      <p:pic>
        <p:nvPicPr>
          <p:cNvPr id="415" name="holdsave" descr=""/>
          <p:cNvPicPr/>
          <p:nvPr/>
        </p:nvPicPr>
        <p:blipFill>
          <a:blip r:embed="rId4"/>
          <a:stretch/>
        </p:blipFill>
        <p:spPr>
          <a:xfrm>
            <a:off x="685800" y="5735520"/>
            <a:ext cx="3049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125360" y="1407960"/>
            <a:ext cx="0" cy="2364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4320" y="1247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3840" y="12477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26040" y="1407960"/>
            <a:ext cx="0" cy="2364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407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457280"/>
            <a:ext cx="32004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Загорится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жд.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будет гореть, пока блокировка не будет снят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124308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9560" y="1017720"/>
            <a:ext cx="3659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Необходимо установить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1360" y="792000"/>
            <a:ext cx="208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7720" y="1898640"/>
            <a:ext cx="36370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2085840"/>
            <a:ext cx="31240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Услышите подтв.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будет гореть, пока блокировка не будет снят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2438280"/>
            <a:ext cx="312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 и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25600" y="26733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13640" y="269712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ДАЛ.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А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ИЗМЕ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ТОЛЬКО ИНТЕР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27040" y="32400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2360" y="32241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25000" y="3481560"/>
            <a:ext cx="16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ТОЛЬКО ИНТЕР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40449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25360" y="4444920"/>
            <a:ext cx="0" cy="2795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4320" y="428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73840" y="428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26040" y="4444920"/>
            <a:ext cx="0" cy="2795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444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4494240"/>
            <a:ext cx="2590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аш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погасне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67080" y="42800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2520" y="5087880"/>
            <a:ext cx="34336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5249880"/>
            <a:ext cx="31240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Ўе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5602320"/>
            <a:ext cx="312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17680" y="583740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05000" y="5861160"/>
            <a:ext cx="9093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ВОССТАН. 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ВАШИ СООБЩ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ОТВЕТ IC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МУЗ. КАНАЛ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СТАНД. СООБЩ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11200" y="64040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1200" y="63928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6621480"/>
            <a:ext cx="25909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ВОССТАН. C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20" y="20955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526572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transpgm" descr=""/>
          <p:cNvPicPr/>
          <p:nvPr/>
        </p:nvPicPr>
        <p:blipFill>
          <a:blip r:embed="rId1"/>
          <a:stretch/>
        </p:blipFill>
        <p:spPr>
          <a:xfrm>
            <a:off x="585720" y="1460520"/>
            <a:ext cx="405000" cy="149040"/>
          </a:xfrm>
          <a:prstGeom prst="rect">
            <a:avLst/>
          </a:prstGeom>
          <a:ln w="0">
            <a:noFill/>
          </a:ln>
        </p:spPr>
      </p:pic>
      <p:pic>
        <p:nvPicPr>
          <p:cNvPr id="452" name="holdsave" descr=""/>
          <p:cNvPicPr/>
          <p:nvPr/>
        </p:nvPicPr>
        <p:blipFill>
          <a:blip r:embed="rId2"/>
          <a:stretch/>
        </p:blipFill>
        <p:spPr>
          <a:xfrm>
            <a:off x="617400" y="161604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453" name="holdsave" descr=""/>
          <p:cNvPicPr/>
          <p:nvPr/>
        </p:nvPicPr>
        <p:blipFill>
          <a:blip r:embed="rId3"/>
          <a:stretch/>
        </p:blipFill>
        <p:spPr>
          <a:xfrm>
            <a:off x="609480" y="2154240"/>
            <a:ext cx="304920" cy="208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239840" y="26938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36960" y="26859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23280" y="33019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26160" y="32209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transpgm" descr=""/>
          <p:cNvPicPr/>
          <p:nvPr/>
        </p:nvPicPr>
        <p:blipFill>
          <a:blip r:embed="rId4"/>
          <a:stretch/>
        </p:blipFill>
        <p:spPr>
          <a:xfrm>
            <a:off x="533520" y="4535640"/>
            <a:ext cx="404640" cy="1490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231920" y="5857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9040" y="58500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15360" y="64659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21480" y="63849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holdsave" descr=""/>
          <p:cNvPicPr/>
          <p:nvPr/>
        </p:nvPicPr>
        <p:blipFill>
          <a:blip r:embed="rId5"/>
          <a:stretch/>
        </p:blipFill>
        <p:spPr>
          <a:xfrm>
            <a:off x="609480" y="682164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41000" y="792000"/>
            <a:ext cx="1519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будильн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25360" y="1484280"/>
            <a:ext cx="0" cy="5411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4320" y="1324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73840" y="1324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26040" y="1484280"/>
            <a:ext cx="0" cy="5411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1484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43000" y="1494000"/>
            <a:ext cx="31240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время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4 1 и 4 цифры времени (HHMM) в 24-часово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ежиме. (HH(часы) = 00~23, MM(минуты) = 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ля того, чтобы звонок бы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дин раз” или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затем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звонок раздавался регулярно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" y="2438280"/>
            <a:ext cx="35812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2619360"/>
            <a:ext cx="312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3665520"/>
            <a:ext cx="312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33520" y="282564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36320" y="2849400"/>
            <a:ext cx="9201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СТАНЦ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РКОСТЬ ДИСПЛ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ЗВО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СПИ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27040" y="33926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03280" y="33814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67080" y="131904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5240" y="1042920"/>
            <a:ext cx="420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стема автоматически звонит на станцию, на которой был установлен будильни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уществуют 2 типа таких звонков: звонок один раз и регулярный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33520" y="386064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21560" y="3884760"/>
            <a:ext cx="9446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ДАЛ.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А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ИЗМЕ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ТОЛЬКО ИНТЕР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27040" y="44276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27040" y="44164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43000" y="46893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УСТ. БУДИЛЬНИ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4 1 и 4 цифры времени (HHMM) в 24-часово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ежиме. (HH(часы) = 00~23, MM(минуты) = 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для того, чтобы звонок бы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дин раз” или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затем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вонок раздавался регулярн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000" y="5527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функцию будильника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2520" y="5987880"/>
            <a:ext cx="35859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613728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УДАЛ. БУДИЛЬ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26290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616572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transpgm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17240" cy="153720"/>
          </a:xfrm>
          <a:prstGeom prst="rect">
            <a:avLst/>
          </a:prstGeom>
          <a:ln w="0">
            <a:noFill/>
          </a:ln>
        </p:spPr>
      </p:pic>
      <p:pic>
        <p:nvPicPr>
          <p:cNvPr id="491" name="holdsave" descr=""/>
          <p:cNvPicPr/>
          <p:nvPr/>
        </p:nvPicPr>
        <p:blipFill>
          <a:blip r:embed="rId2"/>
          <a:stretch/>
        </p:blipFill>
        <p:spPr>
          <a:xfrm>
            <a:off x="585720" y="1981080"/>
            <a:ext cx="304920" cy="208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247760" y="28447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44880" y="28368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31200" y="34527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4080" y="33717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47760" y="38782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44880" y="38703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31200" y="44863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34080" y="44053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transpgm" descr=""/>
          <p:cNvPicPr/>
          <p:nvPr/>
        </p:nvPicPr>
        <p:blipFill>
          <a:blip r:embed="rId3"/>
          <a:stretch/>
        </p:blipFill>
        <p:spPr>
          <a:xfrm>
            <a:off x="533520" y="5614920"/>
            <a:ext cx="417240" cy="154080"/>
          </a:xfrm>
          <a:prstGeom prst="rect">
            <a:avLst/>
          </a:prstGeom>
          <a:ln w="0">
            <a:noFill/>
          </a:ln>
        </p:spPr>
      </p:pic>
      <p:pic>
        <p:nvPicPr>
          <p:cNvPr id="501" name="holdsave" descr=""/>
          <p:cNvPicPr/>
          <p:nvPr/>
        </p:nvPicPr>
        <p:blipFill>
          <a:blip r:embed="rId4"/>
          <a:stretch/>
        </p:blipFill>
        <p:spPr>
          <a:xfrm>
            <a:off x="593640" y="50292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502" name="holdsave" descr=""/>
          <p:cNvPicPr/>
          <p:nvPr/>
        </p:nvPicPr>
        <p:blipFill>
          <a:blip r:embed="rId5"/>
          <a:stretch/>
        </p:blipFill>
        <p:spPr>
          <a:xfrm>
            <a:off x="593640" y="57880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503" name="holdsave" descr=""/>
          <p:cNvPicPr/>
          <p:nvPr/>
        </p:nvPicPr>
        <p:blipFill>
          <a:blip r:embed="rId6"/>
          <a:stretch/>
        </p:blipFill>
        <p:spPr>
          <a:xfrm>
            <a:off x="609480" y="6421320"/>
            <a:ext cx="3049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219320" y="2438280"/>
            <a:ext cx="297180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1360" y="792000"/>
            <a:ext cx="214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омеров по име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4320" y="1362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73840" y="1362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1522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43000" y="1571760"/>
            <a:ext cx="3276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введите номер скоростного набо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ужный 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имя (не более 16 знаков) с помощью следующих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о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267080" y="13572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26040" y="1522440"/>
            <a:ext cx="0" cy="20970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7400" y="1020600"/>
            <a:ext cx="423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ьзователи телефонов с цифровым дисплеем могут сохранить имена других лиц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 тем, чтобы набирать номер автоматически по имен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25360" y="1522440"/>
            <a:ext cx="0" cy="2097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114920" y="2514600"/>
            <a:ext cx="308484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2] [1]  B = [2] [2]  C = [2] [3]  D = [3] [1]  E = [3] [2]  F = [3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4] [1]  H = [4] [2]  I = [4] [3]   J = [5] [1]   K = [5] [2]  L = [5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6] [1]  N = [6] [2] O = [6] [3]  P = [7] [1]  Q = [7]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 R = [7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7] [3]   T = [8] [1] U = [8] [2]  V = [8] [3]  W = [9] [1]  X = [9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9] [3]   Z = [9] [#]  .  = [1] [3]  ,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 :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пробел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 = [0] [0]   1 = [1] [0]  2 = [2] [0]  3 = [3] [0]   4 = [3] [0]   5 = [5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= [6] [0]   7 = [7] [0]  8 = [8] [0]  9 = [9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3878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бор по имен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4320" y="4118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73840" y="4118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26040" y="4278240"/>
            <a:ext cx="0" cy="2960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4278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43000" y="4327560"/>
            <a:ext cx="2590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267080" y="411336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25360" y="3352680"/>
            <a:ext cx="169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78080" y="4692600"/>
            <a:ext cx="13586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61160" y="468144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БОР ПО ИМЕН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M : 1 U_SPD : 2 S_SPD : 3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3000" y="5013360"/>
            <a:ext cx="3048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нужный ти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: Интерком (Имя для звонков по интеркому должн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ыть запрограммировано оператором системы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: Пользователь (Номер скоростного набора со станции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: Система (Номер скоростного набора из системы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 и увидит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8080" y="5835600"/>
            <a:ext cx="13586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54320" y="5824440"/>
            <a:ext cx="1236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 : XXXX  XXXX  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: YYYY  YYYY  YYYYY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3000" y="615636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VOLU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вызвать следующее им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водить символы с помощью кодов, которы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заны в пункте “Сохранение номеров по имени”. 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сплее появится первое имя, которое соответствуе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енным вами символа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линию (1 или 2) и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 наберет номер в линию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5360" y="4278240"/>
            <a:ext cx="0" cy="2960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transpgm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0880" cy="139680"/>
          </a:xfrm>
          <a:prstGeom prst="rect">
            <a:avLst/>
          </a:prstGeom>
          <a:ln w="0">
            <a:noFill/>
          </a:ln>
        </p:spPr>
      </p:pic>
      <p:pic>
        <p:nvPicPr>
          <p:cNvPr id="531" name="speed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500040" cy="166680"/>
          </a:xfrm>
          <a:prstGeom prst="rect">
            <a:avLst/>
          </a:prstGeom>
          <a:ln w="0">
            <a:noFill/>
          </a:ln>
        </p:spPr>
      </p:pic>
      <p:pic>
        <p:nvPicPr>
          <p:cNvPr id="532" name="holdsave" descr=""/>
          <p:cNvPicPr/>
          <p:nvPr/>
        </p:nvPicPr>
        <p:blipFill>
          <a:blip r:embed="rId3"/>
          <a:stretch/>
        </p:blipFill>
        <p:spPr>
          <a:xfrm>
            <a:off x="557280" y="1981080"/>
            <a:ext cx="304560" cy="208080"/>
          </a:xfrm>
          <a:prstGeom prst="rect">
            <a:avLst/>
          </a:prstGeom>
          <a:ln w="0">
            <a:noFill/>
          </a:ln>
        </p:spPr>
      </p:pic>
      <p:pic>
        <p:nvPicPr>
          <p:cNvPr id="533" name="speed" descr=""/>
          <p:cNvPicPr/>
          <p:nvPr/>
        </p:nvPicPr>
        <p:blipFill>
          <a:blip r:embed="rId4"/>
          <a:stretch/>
        </p:blipFill>
        <p:spPr>
          <a:xfrm>
            <a:off x="533520" y="4419720"/>
            <a:ext cx="500040" cy="166680"/>
          </a:xfrm>
          <a:prstGeom prst="rect">
            <a:avLst/>
          </a:prstGeom>
          <a:ln w="0">
            <a:noFill/>
          </a:ln>
        </p:spPr>
      </p:pic>
      <p:pic>
        <p:nvPicPr>
          <p:cNvPr id="534" name="volume" descr=""/>
          <p:cNvPicPr/>
          <p:nvPr/>
        </p:nvPicPr>
        <p:blipFill>
          <a:blip r:embed="rId5"/>
          <a:stretch/>
        </p:blipFill>
        <p:spPr>
          <a:xfrm>
            <a:off x="533520" y="6219720"/>
            <a:ext cx="533160" cy="104760"/>
          </a:xfrm>
          <a:prstGeom prst="rect">
            <a:avLst/>
          </a:prstGeom>
          <a:ln w="0">
            <a:noFill/>
          </a:ln>
        </p:spPr>
      </p:pic>
      <p:pic>
        <p:nvPicPr>
          <p:cNvPr id="535" name="holdsave" descr=""/>
          <p:cNvPicPr/>
          <p:nvPr/>
        </p:nvPicPr>
        <p:blipFill>
          <a:blip r:embed="rId6"/>
          <a:stretch/>
        </p:blipFill>
        <p:spPr>
          <a:xfrm>
            <a:off x="685800" y="6781680"/>
            <a:ext cx="3049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38120" y="792000"/>
            <a:ext cx="328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бор по имени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43000" y="1227240"/>
            <a:ext cx="3124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Звонок по интеркому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Имя должно быть запрограммировано оператором системы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ервую кнопку меню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она запрограммирована, на дисплее вы увидит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67080" y="10526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26040" y="1217520"/>
            <a:ext cx="0" cy="6021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0880" y="95256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25360" y="1217520"/>
            <a:ext cx="0" cy="6021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27160" y="2668680"/>
            <a:ext cx="308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первую букву имени.  (Например, если вы выбе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те НОП, то на дисплее вы увидите: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46120" y="184464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21200" y="1868400"/>
            <a:ext cx="13316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АБВ                  РСТ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ДЕ                  УФХ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ЖЗИ                 ЦЧШ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КЛМ                 ЩЫ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П                ЭЮ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440000" y="241128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23800" y="23842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38200" y="303840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27320" y="3062160"/>
            <a:ext cx="8985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ЕВЗОРОВ В. С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РОСТОВЦЕВ Д.О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ОКОЛИНСКИЙ Д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АЙФУЛЛИН А. В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ТИХОНОВ А. 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32080" y="36050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5880" y="357840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22480" y="3843360"/>
            <a:ext cx="2893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имай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, пока не найдете нужное им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38200" y="409716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26960" y="4121280"/>
            <a:ext cx="92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ОКОЛИНСКИЙ Д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32080" y="466416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23800" y="46450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38200" y="539604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32080" y="596268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15880" y="59356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43000" y="48927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Скоростной набор со стан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втор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13280" y="5425920"/>
            <a:ext cx="1331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АБВ                   РСТ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ДЕ                  УФХ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ЖЗИ                 ЦЧШ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КЛМ                 ЩЫ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П                ЭЮ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25360" y="6172200"/>
            <a:ext cx="286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ледуйте операциям, описанным в пункте «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вонок п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нтеркому»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6440400"/>
            <a:ext cx="3124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Скоростной набор из систем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треть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ледуйте операциям, описанным в пункте «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Скоростн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бор со станции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63960" y="1860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60720" y="18525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47040" y="24685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149920" y="23875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60720" y="30607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57480" y="30528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43800" y="36687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146680" y="35877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60720" y="4119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57480" y="41115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43800" y="47275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146680" y="46465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60720" y="5425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57480" y="54180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43800" y="60339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46680" y="59529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219320" y="4000680"/>
            <a:ext cx="2819160" cy="1523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360" y="792000"/>
            <a:ext cx="234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вашего име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4320" y="1362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73840" y="1362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" y="1522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000" y="15717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0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ваше имя. (до 7 букв с помощью кодов, указанны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“Сохранение номеров по имени»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267080" y="135720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0880" y="1257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7760" y="1042920"/>
            <a:ext cx="426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запрограммировать свое имя. Если вы сделаете это, то у пользователе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ов с дисплеем на нем будет появляться ваше имя, а не 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25360" y="1522440"/>
            <a:ext cx="0" cy="1030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26040" y="1522440"/>
            <a:ext cx="0" cy="10303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16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дартные сообщени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4320" y="3209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373840" y="32097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" y="33703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3419640"/>
            <a:ext cx="30481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ообщения, а также дату, время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станции, если необходим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  ОБЕДАЮ, ВЕРНУСЬ В ЧЧ:ММ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 В ОТПУСКЕ, ВЕРНУСЬ (ДАТ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 ОТСУТСТВУЮ, ВЕРНУСЬ В ЧЧ:ММ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 ОТСУТСТВУЮ, ВЕРНУСЬ (ДД:ММ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 ОТСУТСТВУЮ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 ПЕРЕЗВОНИТЕ ПО НОМЕРУ : 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 В ОФИСЕ, НОМЕР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 НА ВСТРЕЧЕ, ВЕРНУСЬ ЧЧ:ММ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 ДОМ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 В ФИЛИАЛ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#    отмен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 ~ 2 0  используются для создания собственных сообщений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См. “Как создать собственные сообщения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20508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25360" y="3363840"/>
            <a:ext cx="0" cy="3799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26040" y="3370320"/>
            <a:ext cx="0" cy="3792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3240" y="3024360"/>
            <a:ext cx="425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стандартное сообщение, которое будет появляться на диспл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2520" y="5587920"/>
            <a:ext cx="36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38200" y="612288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41000" y="6146640"/>
            <a:ext cx="920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СТАНЦ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ЯРКОСТЬ ДИСПЛ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ЗВО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СПИ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32080" y="668988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15880" y="667080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40120" y="5788080"/>
            <a:ext cx="274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 и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видите на диспле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520" y="57657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transpgm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610" name="speed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23720" cy="141120"/>
          </a:xfrm>
          <a:prstGeom prst="rect">
            <a:avLst/>
          </a:prstGeom>
          <a:ln w="0">
            <a:noFill/>
          </a:ln>
        </p:spPr>
      </p:pic>
      <p:pic>
        <p:nvPicPr>
          <p:cNvPr id="611" name="holdsave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612" name="transpgm" descr=""/>
          <p:cNvPicPr/>
          <p:nvPr/>
        </p:nvPicPr>
        <p:blipFill>
          <a:blip r:embed="rId4"/>
          <a:stretch/>
        </p:blipFill>
        <p:spPr>
          <a:xfrm>
            <a:off x="533520" y="3433680"/>
            <a:ext cx="457200" cy="168480"/>
          </a:xfrm>
          <a:prstGeom prst="rect">
            <a:avLst/>
          </a:prstGeom>
          <a:ln w="0">
            <a:noFill/>
          </a:ln>
        </p:spPr>
      </p:pic>
      <p:pic>
        <p:nvPicPr>
          <p:cNvPr id="613" name="holdsave" descr=""/>
          <p:cNvPicPr/>
          <p:nvPr/>
        </p:nvPicPr>
        <p:blipFill>
          <a:blip r:embed="rId5"/>
          <a:stretch/>
        </p:blipFill>
        <p:spPr>
          <a:xfrm>
            <a:off x="609480" y="3754440"/>
            <a:ext cx="304920" cy="2080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255680" y="61358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52800" y="6127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39120" y="67438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42000" y="666288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42800" y="792000"/>
            <a:ext cx="2754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дартные  сообщения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43000" y="126684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25360" y="1217520"/>
            <a:ext cx="0" cy="4459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26040" y="1217520"/>
            <a:ext cx="0" cy="44593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343400" y="105264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6120" y="15969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33800" y="1620720"/>
            <a:ext cx="9460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ДАЛ.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А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ИЗМЕ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ТОЛЬКО ИНТЕР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0000" y="21636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15880" y="21448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246060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ru-RU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 два раза и на дисплее вы увид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46120" y="280656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50000" y="2830680"/>
            <a:ext cx="8881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ВОССТАН. 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ВАШИ СООБЩ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ОТВЕТ IC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МУЗ. КАНАЛ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СТАНД. СООБ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40000" y="337356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15880" y="33465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143000" y="361620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СТАНД. СООБЩ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46120" y="394956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39920" y="3973680"/>
            <a:ext cx="930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ЕДАЮ     (ВРЕМ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 ОТПУСКЕ (ДАТА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СУТСТ.   (ВРЕМ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СУТСТ.    (ДАТА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СУТСТВУЮ(  ? 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440000" y="451656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23800" y="44895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4759200"/>
            <a:ext cx="31240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кнопку нужного сообщения, дату, время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Загорится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43000" y="5216400"/>
            <a:ext cx="312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ыключить сообщение на диспле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0880" y="5867280"/>
            <a:ext cx="457524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здание своих собственных сообщен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4320" y="6419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73840" y="6419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5680" y="6580080"/>
            <a:ext cx="462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43000" y="662940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7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станц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а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ообщение. (до 24 букв с помощью кодов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занных в пункте “Сохранение номеров по имени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67080" y="64152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1600" y="610560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4320" y="6105600"/>
            <a:ext cx="4578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записать свои собственные сообщения, которые будут появляться на телефон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ящего вам лица (если у него есть дисплей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25360" y="6581880"/>
            <a:ext cx="0" cy="85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26040" y="6581880"/>
            <a:ext cx="0" cy="850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63960" y="16239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60720" y="16160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47040" y="223200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49920" y="21510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63960" y="28224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160720" y="2814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47040" y="34304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9920" y="33498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dndfor" descr=""/>
          <p:cNvPicPr/>
          <p:nvPr/>
        </p:nvPicPr>
        <p:blipFill>
          <a:blip r:embed="rId1"/>
          <a:stretch/>
        </p:blipFill>
        <p:spPr>
          <a:xfrm>
            <a:off x="685800" y="5313240"/>
            <a:ext cx="304920" cy="206640"/>
          </a:xfrm>
          <a:prstGeom prst="rect">
            <a:avLst/>
          </a:prstGeom>
          <a:ln w="0">
            <a:noFill/>
          </a:ln>
        </p:spPr>
      </p:pic>
      <p:pic>
        <p:nvPicPr>
          <p:cNvPr id="661" name="transpgm" descr=""/>
          <p:cNvPicPr/>
          <p:nvPr/>
        </p:nvPicPr>
        <p:blipFill>
          <a:blip r:embed="rId2"/>
          <a:stretch/>
        </p:blipFill>
        <p:spPr>
          <a:xfrm>
            <a:off x="533520" y="6657840"/>
            <a:ext cx="417240" cy="154080"/>
          </a:xfrm>
          <a:prstGeom prst="rect">
            <a:avLst/>
          </a:prstGeom>
          <a:ln w="0">
            <a:noFill/>
          </a:ln>
        </p:spPr>
      </p:pic>
      <p:pic>
        <p:nvPicPr>
          <p:cNvPr id="662" name="holdsave" descr=""/>
          <p:cNvPicPr/>
          <p:nvPr/>
        </p:nvPicPr>
        <p:blipFill>
          <a:blip r:embed="rId3"/>
          <a:stretch/>
        </p:blipFill>
        <p:spPr>
          <a:xfrm>
            <a:off x="593640" y="7018200"/>
            <a:ext cx="304920" cy="20808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1263960" y="39654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60720" y="3957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47040" y="45734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49920" y="44928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219320" y="2095560"/>
            <a:ext cx="2209680" cy="1676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1720" y="792000"/>
            <a:ext cx="60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з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3000" y="1266840"/>
            <a:ext cx="312408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можете делать вызов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зону вызова. (См. таблицу ниже.) И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слышите предупре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сигнал прекратится, 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 GDK-100   GDK-FP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267080" y="10526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25360" y="1217520"/>
            <a:ext cx="0" cy="5945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226040" y="1217520"/>
            <a:ext cx="0" cy="5945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95280" y="23050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3364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5124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26520" y="2319480"/>
            <a:ext cx="20854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Общий вызов           4    9         4    9         4   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утрен. зона 1       4 0 1          4 0 1         4 0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                          :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утрен. зона 05     4 0 5          4 0 5         4 0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      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утрен. зона 15     4 1 5          4 1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      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утрен. зона 20     4 2 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утр.общ.вызов     4    3          4    3         4   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ешняя зона 1       4    6          4    6         4    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ешняя зона 2       4    7          4    7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еш.общ.вызов     4    8          4    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2520" y="387972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39400" y="4029120"/>
            <a:ext cx="2836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Для внутренней зоны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меню от главного меню 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54040" y="448308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347840" y="450684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УТР. 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504972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31720" y="50306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206600" y="4255920"/>
            <a:ext cx="635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77800" y="463536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22480" y="5257800"/>
            <a:ext cx="2934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ВНУТР. ВЫЗ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зону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сигнала 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31480" y="5678640"/>
            <a:ext cx="2836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Для общего внутреннего/внешнего вызов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меню от главного меню 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61960" y="615960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55760" y="618336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УТР. 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55840" y="67262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7560" y="67071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486080" y="6311880"/>
            <a:ext cx="691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06600" y="6161040"/>
            <a:ext cx="635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575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71880" y="45115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168640" y="45036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54960" y="51195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97800" y="50385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279800" y="61801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76560" y="61722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62880" y="67881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65760" y="67071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122120" y="1773360"/>
            <a:ext cx="2627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ветить на вызов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ойдите к ближайшему кнопочному телефон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31840" y="2443320"/>
            <a:ext cx="280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меню от главного меню 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26800" y="1219320"/>
            <a:ext cx="22345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зону вызов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ВНУТР.ОБЩИЙ/ВНЕШ.ОБЩИЙ/ОБЩИЙ ВС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предупре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сигнала 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10526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25360" y="1217520"/>
            <a:ext cx="0" cy="2935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26040" y="1217520"/>
            <a:ext cx="0" cy="2935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3160" y="792000"/>
            <a:ext cx="154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зов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386000" y="281628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71520" y="284004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УТР. 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79520" y="338292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71240" y="33638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84200" y="29685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06600" y="2741760"/>
            <a:ext cx="635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138680" y="3662280"/>
            <a:ext cx="30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ВСТРЕТИТЬ и вы соединитесь с вызывающе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ороно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4386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 и постановка на ожид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4320" y="4664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73840" y="4664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7200" y="4824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3000" y="4873680"/>
            <a:ext cx="30481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упил внешний звон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для ожидани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67080" y="46594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88360" y="46245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25360" y="4826160"/>
            <a:ext cx="0" cy="1993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6040" y="4826160"/>
            <a:ext cx="0" cy="1993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07320" y="4789440"/>
            <a:ext cx="732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2520" y="539748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23560" y="5557680"/>
            <a:ext cx="2836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меню от главного меню 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01840" y="592308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87360" y="594684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УТР. 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95360" y="648972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95360" y="64785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425600" y="606744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06600" y="5856120"/>
            <a:ext cx="635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55818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" y="228600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203480" y="28353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00240" y="28274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86920" y="344340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89800" y="33624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19320" y="59436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116440" y="59356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02760" y="65516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05640" y="647064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transpgm" descr=""/>
          <p:cNvPicPr/>
          <p:nvPr/>
        </p:nvPicPr>
        <p:blipFill>
          <a:blip r:embed="rId1"/>
          <a:stretch/>
        </p:blipFill>
        <p:spPr>
          <a:xfrm>
            <a:off x="557280" y="5027760"/>
            <a:ext cx="417600" cy="153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24750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72600" y="806400"/>
            <a:ext cx="3390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режима ответа на звонки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39040" y="1284120"/>
            <a:ext cx="29721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4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1 для Handsfree, 2 для тонального звонка или 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конфиденциального режим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5360" y="1200240"/>
            <a:ext cx="0" cy="868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26040" y="1200240"/>
            <a:ext cx="0" cy="8683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347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25360" y="2735280"/>
            <a:ext cx="0" cy="1036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4320" y="2575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73840" y="2575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5700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26040" y="2735280"/>
            <a:ext cx="0" cy="1036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735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2280" y="2784600"/>
            <a:ext cx="3043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интеркома или нажмите запрограмм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ованную кнопку прямого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Гудки в тональном режиме. Подождите, по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ая сторона не ответит на ваш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3 сигнала в режиме HF(громкоговорящая связь)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PV(конфиденциальный режим). Говорите после сигна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9988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25360" y="4386240"/>
            <a:ext cx="0" cy="1036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4320" y="4226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73840" y="4226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6040" y="4386240"/>
            <a:ext cx="0" cy="1036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386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8680" y="4435560"/>
            <a:ext cx="30412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ключен интерком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в режиме TN(тональный), после звонка по интерком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в режиме PV , после 3 тональных сигналов и после того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ак услышите голос звонящего,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в режиме HF (Handsfree), после 3 тональных сигналов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после того, как услышите голос звонящего, поднимит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рубку или воспользуйтесь громкоговорящей связь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2148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6754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5360" y="6062760"/>
            <a:ext cx="0" cy="1328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4320" y="59022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3840" y="5902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6040" y="6062760"/>
            <a:ext cx="0" cy="1328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57200" y="6057720"/>
            <a:ext cx="44956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1920" y="6111720"/>
            <a:ext cx="312804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Два раза, если хотите поставить на удержание тольк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у лини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Один раз, если хотите поставить на удержание систе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в обратном порядке, в зависимости от того, ка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программирована эта функци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звонок при удержании систем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мигающую кнопку внешне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линии, чтобы продолжи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89104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103680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ranspgm" descr=""/>
          <p:cNvPicPr/>
          <p:nvPr/>
        </p:nvPicPr>
        <p:blipFill>
          <a:blip r:embed="rId1"/>
          <a:stretch/>
        </p:blipFill>
        <p:spPr>
          <a:xfrm>
            <a:off x="585720" y="1311120"/>
            <a:ext cx="405000" cy="150840"/>
          </a:xfrm>
          <a:prstGeom prst="rect">
            <a:avLst/>
          </a:prstGeom>
          <a:ln w="0">
            <a:noFill/>
          </a:ln>
        </p:spPr>
      </p:pic>
      <p:pic>
        <p:nvPicPr>
          <p:cNvPr id="101" name="holdsave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102" name="holdsave" descr=""/>
          <p:cNvPicPr/>
          <p:nvPr/>
        </p:nvPicPr>
        <p:blipFill>
          <a:blip r:embed="rId3"/>
          <a:stretch/>
        </p:blipFill>
        <p:spPr>
          <a:xfrm>
            <a:off x="609480" y="613260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441720" y="792000"/>
            <a:ext cx="3812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 и постановка на ожидани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23200" y="1247760"/>
            <a:ext cx="274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Ўе). На дисплее вы увидите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ледующее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67080" y="10526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25360" y="1217520"/>
            <a:ext cx="0" cy="1868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26040" y="1217520"/>
            <a:ext cx="0" cy="1868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01840" y="159552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297800" y="1619280"/>
            <a:ext cx="912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ЖИДАНИЕ (01-19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УП. ОТВЕТ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ЦИЯ (#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95360" y="216216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387440" y="21351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00040" y="1747800"/>
            <a:ext cx="717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24640" y="2408400"/>
            <a:ext cx="140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ОЖИДА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06600" y="1620720"/>
            <a:ext cx="63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24640" y="2556000"/>
            <a:ext cx="2421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внешний звонок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для ожидани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07320" y="2535120"/>
            <a:ext cx="732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32814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ниверсальный ночной отв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4320" y="3559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73840" y="3559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7200" y="3719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3000" y="3768840"/>
            <a:ext cx="304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внешней линии. Ес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нешняя линия не установлена, наберите 6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оединитесь с внешней линие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35542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360" y="37227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25360" y="3720960"/>
            <a:ext cx="0" cy="3733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26040" y="3720960"/>
            <a:ext cx="0" cy="3733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2520" y="430380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120320" y="4464000"/>
            <a:ext cx="2836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меню от главного меню 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86000" y="48243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279440" y="484812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УТР. 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79520" y="53910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379160" y="538020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06600" y="4751280"/>
            <a:ext cx="635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22120" y="5607000"/>
            <a:ext cx="2689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два раза. На дисплее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видите следующее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89240" y="5969160"/>
            <a:ext cx="75852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274760" y="5992920"/>
            <a:ext cx="936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ГРУП (01-48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1 (01-96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УНИВЕР. НОЧ. ОТВ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МАРШРУТ. (01-3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БРОС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382760" y="65358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82400" y="65246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133280" y="6802560"/>
            <a:ext cx="3081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УНИВЕР. НОЧ. ОТ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нешняя линия имеет эту функцию и она стан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а поставлена в ночной режим, то вы соединитес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 станцией, на которой раздается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06960" y="5818320"/>
            <a:ext cx="787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групп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08400" y="6297480"/>
            <a:ext cx="82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1 внеш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звон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3520" y="44877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19320" y="16239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116440" y="16160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202760" y="223200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05640" y="21510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mon" descr=""/>
          <p:cNvPicPr/>
          <p:nvPr/>
        </p:nvPicPr>
        <p:blipFill>
          <a:blip r:embed="rId1"/>
          <a:stretch/>
        </p:blipFill>
        <p:spPr>
          <a:xfrm>
            <a:off x="662040" y="2743200"/>
            <a:ext cx="304920" cy="200160"/>
          </a:xfrm>
          <a:prstGeom prst="rect">
            <a:avLst/>
          </a:prstGeom>
          <a:ln w="0">
            <a:noFill/>
          </a:ln>
        </p:spPr>
      </p:pic>
      <p:pic>
        <p:nvPicPr>
          <p:cNvPr id="800" name="mon" descr=""/>
          <p:cNvPicPr/>
          <p:nvPr/>
        </p:nvPicPr>
        <p:blipFill>
          <a:blip r:embed="rId2"/>
          <a:stretch/>
        </p:blipFill>
        <p:spPr>
          <a:xfrm>
            <a:off x="662040" y="3762360"/>
            <a:ext cx="304920" cy="2001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03480" y="48560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00240" y="48243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186920" y="54640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89800" y="53593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03480" y="59878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00240" y="59799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86920" y="65959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089800" y="651528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15880" y="497376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24160" y="611964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409760" y="6224760"/>
            <a:ext cx="571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41360" y="792000"/>
            <a:ext cx="66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124640" y="1239840"/>
            <a:ext cx="1713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тип музык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267080" y="10526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125360" y="1217520"/>
            <a:ext cx="0" cy="649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26040" y="1217520"/>
            <a:ext cx="0" cy="649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06240" y="1316160"/>
            <a:ext cx="537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57200" y="21765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44320" y="2682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73840" y="2682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" y="2843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43000" y="2876400"/>
            <a:ext cx="3048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вы соединены с внешней линией, нажми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267080" y="26780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125360" y="2844720"/>
            <a:ext cx="0" cy="470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226040" y="2844720"/>
            <a:ext cx="0" cy="470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9280" y="2414520"/>
            <a:ext cx="464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ъединяет внешнюю линию. Может использоваться для повторного набора, если систе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ключена к мини-АТС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128240" y="4295880"/>
            <a:ext cx="25833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включить спикер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внешней линии или интерком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4320" y="4097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73840" y="4084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7200" y="4265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43400" y="409896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25360" y="4265640"/>
            <a:ext cx="0" cy="725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226040" y="4265640"/>
            <a:ext cx="0" cy="725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39200" y="3786120"/>
            <a:ext cx="4331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икер автоматически включается, когда вы нажимаете кнопку внешней линии,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оростного набора, кнопку станции или набираете 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7200" y="5237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стройка громкости спик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44320" y="5514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73840" y="5514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7200" y="5675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43000" y="5686560"/>
            <a:ext cx="30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спикера,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M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67080" y="55101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226040" y="5676840"/>
            <a:ext cx="0" cy="12574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123560" y="6078600"/>
            <a:ext cx="288216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, чтоб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рать ПРОГРА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ГРОМКОСТЬ СПИК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имай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, чтобы настроит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омкость спике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57200" y="35607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пике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25360" y="5676840"/>
            <a:ext cx="0" cy="1257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transpgm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57200" cy="168480"/>
          </a:xfrm>
          <a:prstGeom prst="rect">
            <a:avLst/>
          </a:prstGeom>
          <a:ln w="0">
            <a:noFill/>
          </a:ln>
        </p:spPr>
      </p:pic>
      <p:pic>
        <p:nvPicPr>
          <p:cNvPr id="849" name="flash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457200" cy="147600"/>
          </a:xfrm>
          <a:prstGeom prst="rect">
            <a:avLst/>
          </a:prstGeom>
          <a:ln w="0">
            <a:noFill/>
          </a:ln>
        </p:spPr>
      </p:pic>
      <p:pic>
        <p:nvPicPr>
          <p:cNvPr id="850" name="mon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304920" cy="199800"/>
          </a:xfrm>
          <a:prstGeom prst="rect">
            <a:avLst/>
          </a:prstGeom>
          <a:ln w="0">
            <a:noFill/>
          </a:ln>
        </p:spPr>
      </p:pic>
      <p:pic>
        <p:nvPicPr>
          <p:cNvPr id="851" name="volume" descr=""/>
          <p:cNvPicPr/>
          <p:nvPr/>
        </p:nvPicPr>
        <p:blipFill>
          <a:blip r:embed="rId4"/>
          <a:stretch/>
        </p:blipFill>
        <p:spPr>
          <a:xfrm>
            <a:off x="509760" y="5738760"/>
            <a:ext cx="556920" cy="1080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457200" y="5911920"/>
            <a:ext cx="36622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3520" y="61023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484200" y="792000"/>
            <a:ext cx="1998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стройка громкости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127520" y="2808360"/>
            <a:ext cx="3034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Врем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Time is XX : XX PM.” (Время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Дата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Date is December, 20th.” (Дата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омер станции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This is station XXXX.” (Номер станции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6920" y="26575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386440" y="26575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69800" y="2817720"/>
            <a:ext cx="448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67080" y="26528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38320" y="2817720"/>
            <a:ext cx="0" cy="4687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38640" y="2817720"/>
            <a:ext cx="0" cy="4687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7200" y="3962520"/>
            <a:ext cx="29764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Серии KD, KD/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25360" y="4135320"/>
            <a:ext cx="340704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апись ваших сообщений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окончить запись,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автоматически стирается через 48 часо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запись сохраняется, пока не будет стерт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ящий услышит сообщение, если вы не ответите на е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ок в течение определенного периода времени. (4 сек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акой период времени можно запрограммировать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ции операто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ак стереть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ак проиграть ваше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 (Вы услышите свое сообще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атус станции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7.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ы услышите сообщения с (a) по (h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ункты c-g будут пропущены, если функции не включены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a) Номер станции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b) Сообщения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) Время будильника XXXX AM или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) Функция D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e) Переадресация на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)  Переадресация на номер скоростного набора 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) Блокировка (временное изменение CO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h) COS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апись сообщения для вызов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8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, чтобы записать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запис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46120" y="41529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44320" y="10954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73840" y="1095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143000" y="1419120"/>
            <a:ext cx="30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раздается звонок, нажимай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M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67080" y="10904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26040" y="1257480"/>
            <a:ext cx="0" cy="990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30040" y="1758960"/>
            <a:ext cx="288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, чтоб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рать ПРОГРА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ГРОМКОСТЬ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имай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, чтобы настроить громкос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69800" y="2417760"/>
            <a:ext cx="449604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ция DVU (различных сообщений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125360" y="1257480"/>
            <a:ext cx="0" cy="990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1600200"/>
            <a:ext cx="3429000" cy="3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3520" y="17906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2520" y="1251000"/>
            <a:ext cx="27478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Серии KD, KD/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" y="1255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33520" y="14349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684360" y="1978200"/>
            <a:ext cx="147600" cy="225360"/>
          </a:xfrm>
          <a:prstGeom prst="rect">
            <a:avLst/>
          </a:prstGeom>
          <a:ln w="0">
            <a:noFill/>
          </a:ln>
        </p:spPr>
      </p:pic>
      <p:pic>
        <p:nvPicPr>
          <p:cNvPr id="879" name="volume" descr=""/>
          <p:cNvPicPr/>
          <p:nvPr/>
        </p:nvPicPr>
        <p:blipFill>
          <a:blip r:embed="rId2"/>
          <a:stretch/>
        </p:blipFill>
        <p:spPr>
          <a:xfrm>
            <a:off x="533520" y="1463760"/>
            <a:ext cx="533160" cy="102960"/>
          </a:xfrm>
          <a:prstGeom prst="rect">
            <a:avLst/>
          </a:prstGeom>
          <a:ln w="0">
            <a:noFill/>
          </a:ln>
        </p:spPr>
      </p:pic>
      <p:pic>
        <p:nvPicPr>
          <p:cNvPr id="880" name="mon" descr=""/>
          <p:cNvPicPr/>
          <p:nvPr/>
        </p:nvPicPr>
        <p:blipFill>
          <a:blip r:embed="rId3"/>
          <a:stretch/>
        </p:blipFill>
        <p:spPr>
          <a:xfrm>
            <a:off x="685800" y="4451400"/>
            <a:ext cx="304920" cy="199800"/>
          </a:xfrm>
          <a:prstGeom prst="rect">
            <a:avLst/>
          </a:prstGeom>
          <a:ln w="0">
            <a:noFill/>
          </a:ln>
        </p:spPr>
      </p:pic>
      <p:pic>
        <p:nvPicPr>
          <p:cNvPr id="881" name="holdsave" descr=""/>
          <p:cNvPicPr/>
          <p:nvPr/>
        </p:nvPicPr>
        <p:blipFill>
          <a:blip r:embed="rId4"/>
          <a:stretch/>
        </p:blipFill>
        <p:spPr>
          <a:xfrm>
            <a:off x="685800" y="47242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882" name="holdsave" descr=""/>
          <p:cNvPicPr/>
          <p:nvPr/>
        </p:nvPicPr>
        <p:blipFill>
          <a:blip r:embed="rId5"/>
          <a:stretch/>
        </p:blipFill>
        <p:spPr>
          <a:xfrm>
            <a:off x="685800" y="7315200"/>
            <a:ext cx="3049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1124280" y="2579760"/>
            <a:ext cx="27252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апись сообщения для вызов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8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, чтобы записать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запис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атус станции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VU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из (Ўе) 4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U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ТУС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знаете следующую информацию (a - i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a) Номер станции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b) Настройки звон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) Сообщения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) Время будильника XXXX AM или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e) Функция D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) Переадресация на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) Переадресация на номер скоростного набора 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h) Блокировка (временное изменение CO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i) COS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апись вашего приветстви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из (Ўе) 3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U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ИС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 скажите свое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Удаление вашего приветстви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из (Ўе) 3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U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АЛ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оспроизведение вашего приветстви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из (Ўе) 3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U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СПРОИЗ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ызов вашего приветстви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 укажите зон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сигнала ваше записанное сообщение буде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правлено в зону вызова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267080" y="10526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25360" y="1217520"/>
            <a:ext cx="0" cy="6097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226040" y="1217520"/>
            <a:ext cx="0" cy="6097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43880" y="792000"/>
            <a:ext cx="1927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ция DVU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26080" y="1424160"/>
            <a:ext cx="3034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Врем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Time is XX : XX PM.” (Время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Дата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Date is December, 20th.” (Дата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омер станции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This is station XXXX.” (Номер станции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holdsave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893" name="holdsave" descr=""/>
          <p:cNvPicPr/>
          <p:nvPr/>
        </p:nvPicPr>
        <p:blipFill>
          <a:blip r:embed="rId2"/>
          <a:stretch/>
        </p:blipFill>
        <p:spPr>
          <a:xfrm>
            <a:off x="685800" y="5486400"/>
            <a:ext cx="304920" cy="2080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452520" y="1270080"/>
            <a:ext cx="35859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44792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457200" y="2400480"/>
            <a:ext cx="4495680" cy="304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1720" y="792000"/>
            <a:ext cx="308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A (Прямой внутренний системный доступ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124280" y="1405080"/>
            <a:ext cx="291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код доступа DISA после того, как услышит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ок или сообщение DV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берите идентификационный код доступа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ключиться к другой внешней линии для исходяще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4320" y="12222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373840" y="1222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" y="1382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267080" y="121752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125360" y="1382760"/>
            <a:ext cx="0" cy="789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26040" y="1382760"/>
            <a:ext cx="0" cy="789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39200" y="1042920"/>
            <a:ext cx="330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ящий по внешней линии может подключиться к линии DIS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55680" y="2363760"/>
            <a:ext cx="487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Следующие опции имеют только модели KD-33LD, KD/E-36LD и LKD-30L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Цифровые телефоны с большим дисплеем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2798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дифференциального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44320" y="3076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73840" y="3076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3236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7080" y="307188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88360" y="30369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125360" y="3238560"/>
            <a:ext cx="0" cy="4228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226040" y="3238560"/>
            <a:ext cx="0" cy="4228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2520" y="3282840"/>
            <a:ext cx="28242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12760" y="3443400"/>
            <a:ext cx="2746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5 кнопку меню, чтобы выбрать ПРОГРА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14440" y="378144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301400" y="3805200"/>
            <a:ext cx="920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СТАНЦ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ЯРКОСТЬ ДИСПЛ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ЗВО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СПИ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07960" y="4348080"/>
            <a:ext cx="77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07960" y="433692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119600" y="4592520"/>
            <a:ext cx="2003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414440" y="49719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01760" y="4995720"/>
            <a:ext cx="946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ДАЛ.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А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ИЗМЕ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ТОЛЬКО ИНТЕР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407960" y="5538960"/>
            <a:ext cx="77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385640" y="550692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24280" y="5754600"/>
            <a:ext cx="2003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414440" y="61023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02120" y="6126120"/>
            <a:ext cx="888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ДИФФЕР. ЗВО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LGE/GS86P-2.0H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407960" y="6669000"/>
            <a:ext cx="77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407960" y="66578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25720" y="6905520"/>
            <a:ext cx="268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ДИФФЕР. ЗВО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тип звонка (1~4) с помощью кнопок 1~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3520" y="34671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29040" y="38052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125800" y="37972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212120" y="44132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115000" y="433224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229040" y="49928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125800" y="4984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212120" y="56008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15000" y="551988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31920" y="61167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29040" y="61088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15360" y="672480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118240" y="66438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holdsave" descr=""/>
          <p:cNvPicPr/>
          <p:nvPr/>
        </p:nvPicPr>
        <p:blipFill>
          <a:blip r:embed="rId1"/>
          <a:stretch/>
        </p:blipFill>
        <p:spPr>
          <a:xfrm>
            <a:off x="685800" y="716292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1360" y="792000"/>
            <a:ext cx="1948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стройка яркости диспле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23560" y="1244520"/>
            <a:ext cx="2739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ЯРКОСТЬ ДИСП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 помощью кнопок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настройте яркос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44320" y="106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373840" y="106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67080" y="10652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125360" y="1230480"/>
            <a:ext cx="0" cy="674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226040" y="1230480"/>
            <a:ext cx="0" cy="674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57200" y="2181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брос будильн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44320" y="2459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73840" y="2459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" y="2619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67080" y="245412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24280" y="2629080"/>
            <a:ext cx="2334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, чтобы выбрать ОП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11200" y="31035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97080" y="3127320"/>
            <a:ext cx="936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ГРУП.(01-48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1 (01-96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УНИВЕР. НОЧ. ОТВ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МАРШРУТ. (01-3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БРОС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05080" y="36702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404720" y="36590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226040" y="2619360"/>
            <a:ext cx="0" cy="1830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25360" y="2612880"/>
            <a:ext cx="0" cy="1836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06960" y="2965320"/>
            <a:ext cx="721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групп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206600" y="3497400"/>
            <a:ext cx="63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лин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25720" y="3968640"/>
            <a:ext cx="167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СБРОС БУДИЛЬ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гнал прекращаетс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7200" y="47037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4320" y="49816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73840" y="4981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7200" y="51418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67080" y="49766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127520" y="5151600"/>
            <a:ext cx="2334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, чтобы выбрать ОП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четыре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34960" y="563400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339920" y="5657760"/>
            <a:ext cx="8791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OR OPEN (1-4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VU ЗАПИС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VU УДАЛЕНИ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VU СТАТУС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VU ВОСПРОИЗВ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28840" y="62006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412640" y="61815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26040" y="5141880"/>
            <a:ext cx="0" cy="1830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25360" y="5135400"/>
            <a:ext cx="0" cy="183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123200" y="6491160"/>
            <a:ext cx="206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OR OPEN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1-4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тип с помощью кнопок 1~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17680" y="325296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427040" y="3349800"/>
            <a:ext cx="547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31920" y="31212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129040" y="3112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15360" y="37288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118240" y="364824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55680" y="56545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152800" y="56466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239120" y="62625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142000" y="61815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page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522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380880" y="792000"/>
            <a:ext cx="2819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аршрутиризация прямой связ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119600" y="1268280"/>
            <a:ext cx="2334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, чтобы выбрать ОП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4320" y="106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73840" y="106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267080" y="10652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125360" y="1230480"/>
            <a:ext cx="0" cy="2008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226040" y="1230480"/>
            <a:ext cx="0" cy="2008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446120" y="171612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332000" y="1739880"/>
            <a:ext cx="936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ГРУП.(01-48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1 (01-96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УНИВЕР. НОЧ. ОТВ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МАРШРУТ. (01-3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БРОС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0000" y="228276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439640" y="227160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119960" y="2529000"/>
            <a:ext cx="281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МАРШРУ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двухзначный код маршрутиризации (01~30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нутренни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206960" y="1677960"/>
            <a:ext cx="721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групп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206600" y="2133720"/>
            <a:ext cx="63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лин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" y="34844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лендар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4320" y="3762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373840" y="3762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57200" y="3922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14800" y="3757680"/>
            <a:ext cx="990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 станц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124640" y="3932280"/>
            <a:ext cx="194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N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календарь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94000" y="4286160"/>
            <a:ext cx="78552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2320" y="4253040"/>
            <a:ext cx="9594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ДЕК 199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   П   В   С   Ч   П  С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    2     3     4    5    6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7    8     9   10   11  12  13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4  15   16  17   18  19  2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1  22   23  24   25  26  27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8  29   30  31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87520" y="487188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487160" y="484200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226040" y="3922560"/>
            <a:ext cx="0" cy="1906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125360" y="3916440"/>
            <a:ext cx="0" cy="1913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127160" y="5105520"/>
            <a:ext cx="3292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ка календарь на дисплее другие кнопки меню работать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 буду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вывести на дисплей главное меню, нажми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EN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7200" y="6100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языка диспле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44320" y="63784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373840" y="6378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7200" y="65390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267080" y="637380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143000" y="6553080"/>
            <a:ext cx="0" cy="966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191120" y="6553080"/>
            <a:ext cx="0" cy="992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121040" y="6567480"/>
            <a:ext cx="2976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5 1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удет установлен язык «по умолчанию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нажме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5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то язык измен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национальны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476360" y="18730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54040" y="1957320"/>
            <a:ext cx="5558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258920" y="17272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56040" y="17193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42360" y="23353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145240" y="22543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5" name="transpgm" descr=""/>
          <p:cNvPicPr/>
          <p:nvPr/>
        </p:nvPicPr>
        <p:blipFill>
          <a:blip r:embed="rId1"/>
          <a:stretch/>
        </p:blipFill>
        <p:spPr>
          <a:xfrm>
            <a:off x="533520" y="6629400"/>
            <a:ext cx="41724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441000" y="792000"/>
            <a:ext cx="236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129680" y="1273320"/>
            <a:ext cx="2565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запрограммировать мягкие кноп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нужную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уководствуясь таблицей, введите нужный ко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стереть мягкую кнопку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нужную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44320" y="106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373840" y="106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267080" y="10652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125360" y="1230480"/>
            <a:ext cx="0" cy="1550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226040" y="1230480"/>
            <a:ext cx="0" cy="1550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7200" y="2871720"/>
            <a:ext cx="4495680" cy="2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ды программирования мягких кнопок (KD-24/36, KD/E-8, 24, 36, LKD-2, 8, 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63680" y="3168720"/>
            <a:ext cx="4483080" cy="326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629080" y="316224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539720" y="316224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805200" y="316224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0240" y="3176640"/>
            <a:ext cx="219960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ы прямого                 номер станци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а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вод звонка              номер для ожид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ожидание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162 :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иск группы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внутр. поис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ие номеров    TRANS/PGM + 8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жидание                      TRANS/PGM + 8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я будильника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тановка                     TRANS/PGM + 4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мена                         TRANS/PGM + 4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зов                            См. страницу 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дентификац. к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локировка внеш. зв.   TRANS/PGM + 4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мена блокировки     TRANS/PGM + 4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дартные сообщ.    TRANS/PGM + 7 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узыка                          TRANS/PGM + 7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зменение языка         TRANS/PGM + 5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585880" y="3176640"/>
            <a:ext cx="253080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ерж. зв. по интерк.      TRANS/PGM + 8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ниверс. ноч. ответ         6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кличная кнопка            TRANS/PGM + 8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оростной набор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 станции                    SPEED + номер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0~1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з системы                    SPEED +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ежим отв. по интерк.    TRANS/PGM + 4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аймер                            TRANS/PGM + 8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брос будильника          6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станци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U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6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 отчета                      TRANS/PGM + 8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внеш. линии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овой доступ          9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1                       8 0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2                       8 0 2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:Группа #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                                   :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:Группа #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48                     8 4 8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Группа #1~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отд. линии        8 8 +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линия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holdsave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1052" name="transpgm" descr=""/>
          <p:cNvPicPr/>
          <p:nvPr/>
        </p:nvPicPr>
        <p:blipFill>
          <a:blip r:embed="rId2"/>
          <a:stretch/>
        </p:blipFill>
        <p:spPr>
          <a:xfrm>
            <a:off x="573120" y="1447920"/>
            <a:ext cx="380880" cy="1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434160" y="814320"/>
            <a:ext cx="392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ды программирования мягких кнопок  (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63680" y="1187280"/>
            <a:ext cx="4483080" cy="189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629080" y="11811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23880" y="11811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733920" y="11811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9960" y="1195560"/>
            <a:ext cx="2183040" cy="16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 прямого доступа     номер станци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100~291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100~171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вод на ожид.          номер ожидания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иск группы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внутренний поис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ие номера      TRANS/PGM + 8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зменение языка          TRANS/PGM + 5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577960" y="1195560"/>
            <a:ext cx="25304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ункция ожидания         TRANS/PGM + 8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ор начала даты        TRANS/PGM + 8 +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твет на Встретить        4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твет на груп. звонок     6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оростной набор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 станции                    SPEED + номер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00~1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з системы                    SPEED + номер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узыка                            TRANS/PGM + 7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держание интерком.    TRANS/PGM + 8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ниверс. ночн. ответ      6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Цикличная кнопка          TRANS/PGM + 8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2880" y="792000"/>
            <a:ext cx="3417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поставить  звонок по интеркому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25360" y="1193760"/>
            <a:ext cx="0" cy="1206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6040" y="1193760"/>
            <a:ext cx="0" cy="1206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880" y="1235160"/>
            <a:ext cx="31521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у вашего телефона есть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вы можете пос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авить ваш звонок на удержание, нажав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интеркому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у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загорится и вы услышите сигнал интерком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родолжить разгово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6557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25360" y="3043080"/>
            <a:ext cx="0" cy="2584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4320" y="2882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73840" y="2882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26040" y="3043080"/>
            <a:ext cx="0" cy="2584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043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4080" y="3092400"/>
            <a:ext cx="3047400" cy="24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огда на линии внешний звонок,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вонок поставлен на удержа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кнопку прямог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ы можете сделать отслеживаемый и неотслеж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емый перевод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лицо, дополнительный номер которого был набран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ит, сообщите о переводе звонка и 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сто повесьте трубку, чтобы закончить перевод звонк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, как наберете номер станции или нажме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ямого доступа и услышите гудк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ответить на отслеживаемый перевод звон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вашем телефоне раздается такой звонок, который бы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ран вами в режиме ответа на звонки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ьте на звонок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дающий звонок повесит трубку и звонок будет соед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н  с вам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87172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06960" y="3129120"/>
            <a:ext cx="71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9080" y="388152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Отслеж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9800" y="4314960"/>
            <a:ext cx="72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еотслеж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8561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320" y="6311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73840" y="6311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472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39040" y="6521400"/>
            <a:ext cx="3161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разговариваете по интеркому или внешней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поступает второй звонок, то будет гореть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сигнала вы соединитесь с обеими звонящим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поговорить с новым звонящи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переключиться на друго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630072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5360" y="6472080"/>
            <a:ext cx="0" cy="890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26040" y="6480000"/>
            <a:ext cx="0" cy="882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000" y="6119640"/>
            <a:ext cx="3007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а функция должна быть запрограммирована на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103680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holdsave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132" name="icm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04920" cy="209520"/>
          </a:xfrm>
          <a:prstGeom prst="rect">
            <a:avLst/>
          </a:prstGeom>
          <a:ln w="0">
            <a:noFill/>
          </a:ln>
        </p:spPr>
      </p:pic>
      <p:pic>
        <p:nvPicPr>
          <p:cNvPr id="133" name="transpgm" descr=""/>
          <p:cNvPicPr/>
          <p:nvPr/>
        </p:nvPicPr>
        <p:blipFill>
          <a:blip r:embed="rId3"/>
          <a:stretch/>
        </p:blipFill>
        <p:spPr>
          <a:xfrm>
            <a:off x="533520" y="3247920"/>
            <a:ext cx="457200" cy="166680"/>
          </a:xfrm>
          <a:prstGeom prst="rect">
            <a:avLst/>
          </a:prstGeom>
          <a:ln w="0">
            <a:noFill/>
          </a:ln>
        </p:spPr>
      </p:pic>
      <p:pic>
        <p:nvPicPr>
          <p:cNvPr id="134" name="holdsave" descr=""/>
          <p:cNvPicPr/>
          <p:nvPr/>
        </p:nvPicPr>
        <p:blipFill>
          <a:blip r:embed="rId4"/>
          <a:stretch/>
        </p:blipFill>
        <p:spPr>
          <a:xfrm>
            <a:off x="609480" y="660096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95280" y="4991040"/>
            <a:ext cx="2743200" cy="381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0280" y="792000"/>
            <a:ext cx="259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5360" y="1193760"/>
            <a:ext cx="0" cy="863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26040" y="1193760"/>
            <a:ext cx="0" cy="863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35080" y="1235160"/>
            <a:ext cx="33526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памяти телефона сохраняется последний набранный в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нешнюю линию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набрать такой последний номер автоматическ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3320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абранно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5360" y="2719440"/>
            <a:ext cx="0" cy="1081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320" y="2558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73840" y="2558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5542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2719440"/>
            <a:ext cx="0" cy="1081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719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0120" y="2768760"/>
            <a:ext cx="3117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хотите сохранить последний набранный вами номер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набора номера не клад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7384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10396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094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омера в памя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5360" y="4786200"/>
            <a:ext cx="0" cy="2033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4320" y="4626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3840" y="4626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6213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26040" y="4786200"/>
            <a:ext cx="0" cy="2033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4786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37240" y="4835520"/>
            <a:ext cx="287064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запрограммировать [DIAL MEMO]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TRANS/PGM] + мягкая кнопка + [TRANS/PGM] + 8 0 +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HOLD/SAVE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снова, чтобы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провери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ожидания,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храненный номер появится на дисплее (если есть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040" y="4319640"/>
            <a:ext cx="450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и разговоре по внешней линии или по интеркому вы можете сохранить номер в памя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redial" descr=""/>
          <p:cNvPicPr/>
          <p:nvPr/>
        </p:nvPicPr>
        <p:blipFill>
          <a:blip r:embed="rId1"/>
          <a:stretch/>
        </p:blipFill>
        <p:spPr>
          <a:xfrm>
            <a:off x="573120" y="1539720"/>
            <a:ext cx="380880" cy="136800"/>
          </a:xfrm>
          <a:prstGeom prst="rect">
            <a:avLst/>
          </a:prstGeom>
          <a:ln w="0">
            <a:noFill/>
          </a:ln>
        </p:spPr>
      </p:pic>
      <p:pic>
        <p:nvPicPr>
          <p:cNvPr id="162" name="speed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57200" cy="152640"/>
          </a:xfrm>
          <a:prstGeom prst="rect">
            <a:avLst/>
          </a:prstGeom>
          <a:ln w="0">
            <a:noFill/>
          </a:ln>
        </p:spPr>
      </p:pic>
      <p:pic>
        <p:nvPicPr>
          <p:cNvPr id="163" name="speed" descr=""/>
          <p:cNvPicPr/>
          <p:nvPr/>
        </p:nvPicPr>
        <p:blipFill>
          <a:blip r:embed="rId3"/>
          <a:stretch/>
        </p:blipFill>
        <p:spPr>
          <a:xfrm>
            <a:off x="533520" y="3038400"/>
            <a:ext cx="457200" cy="152640"/>
          </a:xfrm>
          <a:prstGeom prst="rect">
            <a:avLst/>
          </a:prstGeom>
          <a:ln w="0">
            <a:noFill/>
          </a:ln>
        </p:spPr>
      </p:pic>
      <p:pic>
        <p:nvPicPr>
          <p:cNvPr id="164" name="transpgm" descr=""/>
          <p:cNvPicPr/>
          <p:nvPr/>
        </p:nvPicPr>
        <p:blipFill>
          <a:blip r:embed="rId4"/>
          <a:stretch/>
        </p:blipFill>
        <p:spPr>
          <a:xfrm>
            <a:off x="533520" y="510552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165" name="speed" descr=""/>
          <p:cNvPicPr/>
          <p:nvPr/>
        </p:nvPicPr>
        <p:blipFill>
          <a:blip r:embed="rId5"/>
          <a:stretch/>
        </p:blipFill>
        <p:spPr>
          <a:xfrm>
            <a:off x="533520" y="5943600"/>
            <a:ext cx="4572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25360" y="1460520"/>
            <a:ext cx="0" cy="1054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4320" y="1300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73840" y="1300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12952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26040" y="1460520"/>
            <a:ext cx="0" cy="1054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460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50984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занят или не отвечает, то он будет набран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автоматически после определенного период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ается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нача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7400" y="1035000"/>
            <a:ext cx="44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на внешней линии занят или не отвечает, система может набрать номер ещ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7907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ключение микро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5360" y="3511440"/>
            <a:ext cx="0" cy="573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4320" y="3351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73840" y="3351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334656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26040" y="3511440"/>
            <a:ext cx="0" cy="573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511440"/>
            <a:ext cx="452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56076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выключить микрофо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еще раз, чтобы включ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520" y="3060720"/>
            <a:ext cx="448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разговариваете по телефону, но хотите что-нибудь сказать присутствующим п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ашем разговоре лицам, вы можете сделать так, что звонящий ничего не услыши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640" y="792000"/>
            <a:ext cx="214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втоматический набор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43243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черед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4320" y="4856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73840" y="4856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48513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26040" y="5016600"/>
            <a:ext cx="0" cy="903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016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50655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 или кноп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вы нажме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загорится кноп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вы услышите подтвер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160" y="4543560"/>
            <a:ext cx="439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линия занята и вы хотите встать в очередь, чтобы подключится к линии, когда о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дится, проделай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61959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апрос в очеред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25360" y="6583320"/>
            <a:ext cx="0" cy="662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320" y="64231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73840" y="64231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64072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6040" y="6583320"/>
            <a:ext cx="0" cy="6620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65833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663264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внешняя линия или одна из линий группы лин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ждаетс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гудки и загорится кнопка это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берите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8040" y="5295960"/>
            <a:ext cx="449280" cy="172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14400" y="533412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5360" y="5016600"/>
            <a:ext cx="0" cy="90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redial" descr=""/>
          <p:cNvPicPr/>
          <p:nvPr/>
        </p:nvPicPr>
        <p:blipFill>
          <a:blip r:embed="rId2"/>
          <a:stretch/>
        </p:blipFill>
        <p:spPr>
          <a:xfrm>
            <a:off x="533520" y="1519200"/>
            <a:ext cx="398520" cy="142920"/>
          </a:xfrm>
          <a:prstGeom prst="rect">
            <a:avLst/>
          </a:prstGeom>
          <a:ln w="0">
            <a:noFill/>
          </a:ln>
        </p:spPr>
      </p:pic>
      <p:pic>
        <p:nvPicPr>
          <p:cNvPr id="204" name="mute" descr=""/>
          <p:cNvPicPr/>
          <p:nvPr/>
        </p:nvPicPr>
        <p:blipFill>
          <a:blip r:embed="rId3"/>
          <a:stretch/>
        </p:blipFill>
        <p:spPr>
          <a:xfrm>
            <a:off x="609480" y="1900080"/>
            <a:ext cx="304920" cy="239760"/>
          </a:xfrm>
          <a:prstGeom prst="rect">
            <a:avLst/>
          </a:prstGeom>
          <a:ln w="0">
            <a:noFill/>
          </a:ln>
        </p:spPr>
      </p:pic>
      <p:pic>
        <p:nvPicPr>
          <p:cNvPr id="205" name="mute" descr=""/>
          <p:cNvPicPr/>
          <p:nvPr/>
        </p:nvPicPr>
        <p:blipFill>
          <a:blip r:embed="rId4"/>
          <a:stretch/>
        </p:blipFill>
        <p:spPr>
          <a:xfrm>
            <a:off x="609480" y="3625920"/>
            <a:ext cx="3049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41000" y="798480"/>
            <a:ext cx="3034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25360" y="1197000"/>
            <a:ext cx="0" cy="973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4320" y="1036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73840" y="1036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26040" y="1197000"/>
            <a:ext cx="0" cy="973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197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125568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главной станцией и он заня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находится в режиме DND (“не беспокоить”), то вс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ки будут передаваться на станцию-секретар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станцией-секретарем, то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ожете сообщить на главную станцию, которая наход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DND, о поступившем звонке с помощь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ункции ожидания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10317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3986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шаговы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5360" y="2798640"/>
            <a:ext cx="0" cy="90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4320" y="2638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73840" y="26384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6337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26040" y="2798640"/>
            <a:ext cx="0" cy="903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798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2847960"/>
            <a:ext cx="32004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нутренни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услышите сигнал ICM, указывающий на то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 линия занята, введите последнюю цифру нуж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 в той же группе номеров (например, если заня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 “112”, нажмите  “4”, чтобы набрать номер  “114”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и внешнем звонке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последню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цифр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39402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группово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25360" y="4340160"/>
            <a:ext cx="0" cy="3051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4320" y="4179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73840" y="4179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41752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26040" y="4340160"/>
            <a:ext cx="0" cy="3051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4340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438948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должны находится в той же группе станций, что и стан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ция, на которую поступил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5092560"/>
            <a:ext cx="253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28840" y="5307120"/>
            <a:ext cx="7570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52880" y="5330880"/>
            <a:ext cx="8791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ЗВОН. ИНТЕРКОМ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КОР. НАБ. СТА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КОР. НАБ. СИСТ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ПЦИ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22360" y="587376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3120" y="5862600"/>
            <a:ext cx="83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Ц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60240" y="5576760"/>
            <a:ext cx="324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Monotype Sorts" charset="2"/>
              <a:buChar char="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09880" y="530712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04040" y="5330880"/>
            <a:ext cx="9230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ВНУТР.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ЧНЫЙ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03400" y="5873760"/>
            <a:ext cx="77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70640" y="5862600"/>
            <a:ext cx="83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Ц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06600" y="5315040"/>
            <a:ext cx="619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4952880"/>
            <a:ext cx="35863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6099120"/>
            <a:ext cx="289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 На дисплее вы увид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17680" y="63183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7760" y="6342120"/>
            <a:ext cx="912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ОЖИДАНИЕ (01-19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УП. ОТВЕТ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ЦИЯ (#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11200" y="68850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86360" y="6873840"/>
            <a:ext cx="83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Ц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06600" y="6343560"/>
            <a:ext cx="619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7094520"/>
            <a:ext cx="3048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ГРУП. ОТВЕТ.  Вы будете соединены со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ящим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51102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15880" y="3355920"/>
            <a:ext cx="480960" cy="1508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08040" y="4595760"/>
            <a:ext cx="298440" cy="19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244880" y="53244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41640" y="5316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960" y="59324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4080" y="585144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24120" y="53244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21240" y="5316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07560" y="59324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13680" y="585144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47760" y="63356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44880" y="63277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31200" y="69436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37320" y="686268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37760" y="792000"/>
            <a:ext cx="376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вонок, поступающий в другую группу станц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25360" y="1236600"/>
            <a:ext cx="0" cy="1658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320" y="1076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73840" y="1076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26040" y="1236600"/>
            <a:ext cx="0" cy="1658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236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128592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лышите звонок по интеркому или из внешней лин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7 и введите номер станции, на которую поступи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ок соединится с вашим телефон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7080" y="107172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07320" y="1347840"/>
            <a:ext cx="732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8480" y="195912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21337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СТАНЦИЯ (#) и 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торой раздается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будете соединены со звонком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07320" y="2119320"/>
            <a:ext cx="732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32115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25360" y="3630600"/>
            <a:ext cx="0" cy="3684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4320" y="3470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73840" y="3470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346536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26040" y="3638520"/>
            <a:ext cx="0" cy="3676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630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666960"/>
            <a:ext cx="30481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нача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ужный номер. (внешний или внутренн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Первый номер ставится на удержани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загорится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второ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одключить к конференции другое лицо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второ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ременно выйти из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ие номера останутся в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овторное подключение к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отключить другое лицо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ы должны участвовать в конференции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того лица, которое в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отите отключить от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закончи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155680"/>
            <a:ext cx="358164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mon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04920" cy="200160"/>
          </a:xfrm>
          <a:prstGeom prst="rect">
            <a:avLst/>
          </a:prstGeom>
          <a:ln w="0">
            <a:noFill/>
          </a:ln>
        </p:spPr>
      </p:pic>
      <p:pic>
        <p:nvPicPr>
          <p:cNvPr id="286" name="conf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304920" cy="228600"/>
          </a:xfrm>
          <a:prstGeom prst="rect">
            <a:avLst/>
          </a:prstGeom>
          <a:ln w="0">
            <a:noFill/>
          </a:ln>
        </p:spPr>
      </p:pic>
      <p:pic>
        <p:nvPicPr>
          <p:cNvPr id="287" name="mon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30492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41000" y="792000"/>
            <a:ext cx="128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жидание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5360" y="1401840"/>
            <a:ext cx="0" cy="1112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4320" y="1241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73840" y="1241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26040" y="1401840"/>
            <a:ext cx="0" cy="1112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401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145080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 по интеркому занят.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“*”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последнюю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цифру номера или кнопку прямого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говаривающий по телефону, номер которого занят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слышит сигнал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перь он может ответить на ваш звонок .Вы може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говорить с ним или повесить трубку, чтобы перевес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упивший звонок на его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3400" y="12366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1360" y="1042920"/>
            <a:ext cx="4664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станции, который вы набираете, занят, вы можете предупредить о своем звонк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8306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вонок, находящийся на ожидании с функцие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25360" y="3230640"/>
            <a:ext cx="0" cy="103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320" y="3070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73840" y="3070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26040" y="3230640"/>
            <a:ext cx="0" cy="1036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3230640"/>
            <a:ext cx="44956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3279600"/>
            <a:ext cx="3200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сигнал ожидания и загорится кноп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поговорить со вторы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ящим. Первый звонок ставится на удержа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можете продолжить первый разговор, когд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кончите второй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306540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45720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звратны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5360" y="5200560"/>
            <a:ext cx="0" cy="808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4320" y="5040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3840" y="5040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26040" y="5200560"/>
            <a:ext cx="0" cy="8082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5200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524988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интеркома занят,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 сообщит вам, когда на ваш звонок ответя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502920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360" y="4842000"/>
            <a:ext cx="4359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, который вы набираете, занят, вы можете сообщить о своем звонк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holdsave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315" name="callbk" descr=""/>
          <p:cNvPicPr/>
          <p:nvPr/>
        </p:nvPicPr>
        <p:blipFill>
          <a:blip r:embed="rId2"/>
          <a:stretch/>
        </p:blipFill>
        <p:spPr>
          <a:xfrm>
            <a:off x="609480" y="532296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25360" y="2846520"/>
            <a:ext cx="0" cy="309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4320" y="2685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73840" y="2685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6040" y="2846520"/>
            <a:ext cx="0" cy="3097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2846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2843280"/>
            <a:ext cx="3124080" cy="30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загорится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тип переадресаци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0 - Follow me (отслежива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- Unconditional (без услов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- Busy calls (если номер заня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- No answer calls (если номер 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 - Busy / no answer calls (если номер занят/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 - Station off-net (если станция вне сети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 - Incoming outside line to off-net (system attendant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ходящий внешний звонок на станцию, котора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ходится вне сети - только со станции оператор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- DVU forward (переадресация DVU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нажмите кнопку прямого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группы интерком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установлен тип Follow-me, наберите идентифика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онный код доступ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, а на друго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ции загорится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отменить переадреса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268128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25360" y="1204920"/>
            <a:ext cx="0" cy="1042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7384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26040" y="1204920"/>
            <a:ext cx="0" cy="1042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254240"/>
            <a:ext cx="32004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не отвечает,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ругом телефоне загорится индикатор CALLBK 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Как ответить на звонок, о котором оставлено сообщ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телефоне, с которого было оставлено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дастся тональны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103968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720" y="792000"/>
            <a:ext cx="1486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общение о звонк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24462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адресация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03720" y="3387600"/>
            <a:ext cx="73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Станция 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05520" y="4011480"/>
            <a:ext cx="9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Группы интерком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61578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“не беспокоить” (Do Not Distur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25360" y="6558120"/>
            <a:ext cx="0" cy="928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4320" y="6397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73840" y="6397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26040" y="6558120"/>
            <a:ext cx="0" cy="928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6558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6575400"/>
            <a:ext cx="327672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а вашем телефоне, запрограммирована эта функци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,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или при звонке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ится индикатор, указывающий на режим DN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данную функцию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не поднимая трубку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ндикатор погаснет и функция будет отключе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63928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llbk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343" name="dndfor" descr=""/>
          <p:cNvPicPr/>
          <p:nvPr/>
        </p:nvPicPr>
        <p:blipFill>
          <a:blip r:embed="rId2"/>
          <a:stretch/>
        </p:blipFill>
        <p:spPr>
          <a:xfrm>
            <a:off x="609480" y="3032280"/>
            <a:ext cx="304920" cy="206280"/>
          </a:xfrm>
          <a:prstGeom prst="rect">
            <a:avLst/>
          </a:prstGeom>
          <a:ln w="0">
            <a:noFill/>
          </a:ln>
        </p:spPr>
      </p:pic>
      <p:pic>
        <p:nvPicPr>
          <p:cNvPr id="344" name="dndfor" descr=""/>
          <p:cNvPicPr/>
          <p:nvPr/>
        </p:nvPicPr>
        <p:blipFill>
          <a:blip r:embed="rId3"/>
          <a:stretch/>
        </p:blipFill>
        <p:spPr>
          <a:xfrm>
            <a:off x="609480" y="6746760"/>
            <a:ext cx="3049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cp:lastPrinted>1998-04-03T12:47:18Z</cp:lastPrinted>
  <dcterms:modified xsi:type="dcterms:W3CDTF">1998-04-03T13:17:28Z</dcterms:modified>
  <cp:revision>19</cp:revision>
  <dc:subject/>
  <dc:title>Заголовок слайда отсутствует</dc:title>
</cp:coreProperties>
</file>