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ED5-AF10-4FAC-BE49-F40981F1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55E-C699-4BA7-BFF7-B7A22168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C2D-98E8-40DE-9CF1-EC10E776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4E9-B9CE-4F43-B19E-6411A67B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795-8460-4F7F-9D69-048884DC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EAA-1A0B-4E04-94E6-01D7CCC9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A41-28BE-4E52-B3AD-AEBDAE97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12F-B848-4D12-97E7-49A7BD33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A12-A8A4-49E3-865C-A3290991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B08-CC75-437E-A86B-6E69991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656-D23D-4435-BAFF-CC00B73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006-B014-421B-88E6-7839FDE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3D06A8-C2DD-4133-8922-F8F591FFE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54160" y="119052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 / Краткое руководство                           СЕРИИ KD, KD/E, LK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137160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5600" y="1690560"/>
            <a:ext cx="242568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ноп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спользуется для прекращения разгов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еспечивает доступ к функциям ско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остного набора, сохранения номера для пов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орного набора и повторного набора последне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м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TRANSFER) используется для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да звонка с одной станции на другу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CALLBACK) позволяет оставить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вашем звонке, если номер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нят или находится в режиме DND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спользуется для конференц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FORWARD) позволяет вам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дресовывать звонки на другой телефон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363680"/>
            <a:ext cx="4114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раткое руководство пользователя цифрового теле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6120" y="1811160"/>
            <a:ext cx="23518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UTE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зволяет отключать микрофон или спикер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и разговор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позволяет сделать звонок или ответ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 звонок без поднятия трубки. Включает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ыключает спикер.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позволяет поставить входящий звонок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 удержа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REDIAL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зволяет автоматически набрать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следний набранный вами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зволяет настроить громкос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звонка и спик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20760" y="3429000"/>
            <a:ext cx="441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27160" y="3505320"/>
            <a:ext cx="24541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DND/FOR и выберите тип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0 : Follow me (отслежива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1 : Unconditional (без условий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2 : Busy calls (если номер заня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3 : No answer calls (если номер не отвеча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4 : Busy/no answer calls (если занят/не отвеча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5 : Station off-net (если станция вне сет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6 : Off-net call forward only (только если вн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ети) (может установить только оператор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7 : DV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танции или нажмите кнопк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ямого доступа DSS или группу интеркома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уда будут переводится звонки.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ожидани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вы можете сообщить о своем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, последнюю цифру этого номера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ли кнопку прямого доступа DSS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говорите с ним или повесьте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, чтобы перевести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первого пользовател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нешний или внутренний). Когда он ответит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ON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ерите другую линию, чтобы подключ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ще одного пользователя к конференции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нажмите CONF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закончить конференцию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кончить конференцию должен ее инициато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трубку или нажмите кнопку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1480" y="3505320"/>
            <a:ext cx="256212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общение об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не отвечает или находится 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е DND, вы можете оставить сообщение о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ашем звон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интерком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ALLBK. На телефоне друг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ьзователя будет мигать индикатор CALLB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ответить на звонок, находящийся на ожида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мигающую кнопку CALLBK. На станц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торая оставила сообщение, раздастся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станция не отвечает, нажмите кнопку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ALLBK один раз, чтобы оставить сообще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Два раза, чтобы поставить на удержани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дельную лини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Один раз, чтобы поставить на удержание систем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оборот, если кнопка запрограммирована 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дний набранный во внешнюю линию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яется в памяти системы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REDIAL ил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 и нажмите *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повторного набора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 набора номера во внешнюю линию не клад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набрать сохраненный номе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и нажмите #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7160" y="1676520"/>
            <a:ext cx="234936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TRANS/PG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танции или кнопку прям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ступа DS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ы можете выбрать отслеживаемый перевод ил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еотслеживаемый перевод 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Отслеживаемый перевод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лицо, на номер которого переводится звонок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ит, сообщите ему о переводе и полож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еотслеживаемый перевод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ы услышите гудки, положите трубку, чтоб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ести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номеров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TRANS/PGM и затем SPE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 Номера скоростного набора станции  : 00~19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 Ном. скор. наб. системы : 200~999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Программир. оператором) 200~399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телефонные номера, которые в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хотите сохран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/SAV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абор номера скоростного набор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 и наберите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го набор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номер ответит, поднимите трубку ил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пользуйтесь спикером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Voice 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то его пользователь може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знать  о поступившем звонке с помощью ми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ающей кнопки HOLD/SAVE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 сигнала он сможет продолжить разговор 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еими звонящим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5280" y="1363680"/>
            <a:ext cx="3853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раткое руководство пользователя цифрового теле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00560" y="3581280"/>
            <a:ext cx="2349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мирование мягкой кноп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TRANS/PG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мягкую кнопку, которую вы хот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запрограммировать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 помощью таблицы введите к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HOLD/SAV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35480" y="4389480"/>
            <a:ext cx="2203200" cy="17398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05240" y="4367160"/>
            <a:ext cx="23623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д прямого                 100~291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ступа                        100~171 (G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~133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601~619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ожидание                601~610 (G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601~605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ожидания      TRANS/PGM + 8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      SPEED + номер 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 стан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      SPEED + </a:t>
            </a: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омер ск. наб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 системы                   200~999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0~399 (GDK-100/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             4 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. ночн. ответ   6 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набор последнего номера       SPEED +  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а автонабора    SPEED + 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6172200"/>
            <a:ext cx="1499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ак стереть мягкую кнопку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TRANS/PG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HOLD/SAV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3160" y="1676520"/>
            <a:ext cx="23781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чередь в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что-бы подключится к линии, когда она освободится, проделайте следующее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у группы лин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огда вы нажмете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она загоритс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Как ответить на звонок, находящийся в очеред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линий освобождается, вы услышите гудки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загорится кнопка этой лин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днимите трубку и нажмите эту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3-24T14:06:18Z</cp:lastPrinted>
  <dcterms:modified xsi:type="dcterms:W3CDTF">1998-03-24T14:06:24Z</dcterms:modified>
  <cp:revision>21828</cp:revision>
  <dc:subject/>
  <dc:title>Заголовок слайда отсутствует</dc:title>
</cp:coreProperties>
</file>