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335588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DD9-757A-4314-9C86-FDC9D2CB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D99-052F-4946-9C8D-85FBD96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104-E6A6-4DB4-8C58-A253E4D7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E6B-C29F-41A8-B8F4-2B1A3153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FB6-1266-49AC-8284-DCFA9E74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350-9AE1-40E4-8E04-7BB3EF8A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1C1-9EC6-4544-979A-8509836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EA3-F422-4ACF-8CC0-BDDBD58D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0D3-2339-4DDA-A9AA-C75FAEAC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DC5-E3FE-4F88-8752-43BF383F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7F6-6C61-40B2-A2AF-E88417D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7B6-4299-4750-BD90-4D38A51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1B02AB-81C7-4307-B6BD-5739824C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20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ТЕЛЕФОНЫ GDK / Руководство пользователя SLT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GDK-162/100/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792000"/>
            <a:ext cx="4648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уководство пользователя терминала абонентской линии (SL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Cyr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 Cyr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Cyr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 Cyr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Cy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Cyr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 Cyr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Cyr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 Cyr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32120" y="6472080"/>
            <a:ext cx="1295280" cy="30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8600" y="5883120"/>
            <a:ext cx="203832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23623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уж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 звоняще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ответить на звонок, находящийся на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знаете о звонке по предупреждающем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гнал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ответить на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 переведите текущий звонок на ожидание,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ветить на второй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отслеживаемый 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 наж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 (положите и сразу подни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 и жд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ите о переводе звонк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 закончить перев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не отслеживаемый 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 наж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 (положите и сразу подни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 закончить перев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спользование номеров скоростного набора на стан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8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 (00~1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5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 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который хотите сохрани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4520" y="1066680"/>
            <a:ext cx="2647800" cy="63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звонок, на который не отвечаю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соединитесь со станцией, на которую поступает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ок (Вы должны быть в той же группе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позволяет вам установить трехстороннюю конференц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. (внешний или внутренний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 (положите и сразу под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имите трубку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 втор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ьзователя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нажмите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Конференция установлена и теперь все тро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огут принимать участие в разговоре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нажми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 (положите и сразу поднимит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вы можете сделать так, чт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поставить ваш звонок на удержа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 (положите и сраз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5 6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на который будут переводитс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се поступающие звонк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- без условий,      2 - если номер заня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 - если не отвечает,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 - если занят/не отвеча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 - для переадресации DV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е ном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: 100~291/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00 : 100~171/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FPII : 100~127/ 620~63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менить переадресацию, подними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 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360" y="6377040"/>
            <a:ext cx="1938240" cy="78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87480" y="2014560"/>
            <a:ext cx="2013120" cy="1009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032440"/>
            <a:ext cx="990720" cy="304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040" y="1066680"/>
            <a:ext cx="229572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переадресации “отслеживание”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с которого должны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дресовываться звонк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идентификационный код доступ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акого ном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Идентификационный код доступа долже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ыть зарегистрирован в системе до того, как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будете устанавливать эту функцию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на который будут переад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вываться звонк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запрограммировать 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5 цифр код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 (положите и сразу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“не беспокоить” (D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тменить функцию DN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становка звонка на ожид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00: 601~610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продолжить разговор, наберите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ля ожидания еще раз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лючение между звонкам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или внутренне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линии положите и быстро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орона, находящаяся на удержании, слыши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у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второй номер (внешн. или внутр.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торой пользователь ответит,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можете  переключаться между звонкам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 помощью кнопки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тем вы можете создать конференц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7360" y="1066680"/>
            <a:ext cx="233208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андарт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можете выбрать стандартные сообщения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торые будут появляться на телефоне звонящего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 (код доступа к программированию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один из указанных ниже номеров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1~1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1 + (время)  ОБЕДАЮ, ВЕРНУСЬ В ЧЧ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2 + (дата)     В ОТПУСКЕ, ВЕРНУСЬ MM:Д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3 + (время)  ОТСУТСТВУЮ, ВЕРНУСЬ В ЧЧ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4 + (дата)     ОТСУТСТВУЮ, ВЕРНУСЬ В MM:Д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5                    ОТСУТСТВУЮ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6 + (внешн. номер) ПЕРЕЗВОНИТЕ ПО XXX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7 + (доп. номер) В ОФИСЕ, НОМЕР XXX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8 + (время) НА ВСТРЕЧЕ, ВЕРНУСЬ В ЧЧ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9                    ДОМ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10                    В ФИЛИАЛЕ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стереть сообщение, поднимите трубку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ниверсальный ночно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чью поступает звонок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код доступа UNA (универсальн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го ответа)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6 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такой код запрограммирован, то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можете  ответить на этот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граммирование имен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(код доступа к программированию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ведите ваше имя с помощью кодов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зону станц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делайте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Зоны вызов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:  4 9     Все внутр. зоны : 4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1   : 4 0 1   Внешн. зона 1    : 4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xx : 4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x x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: 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00 : 15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FPII: 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234792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анция DV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, “This is station XXXX.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Номер станции: ..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Запись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пишите ваше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Воспроизведение вашего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(Вы прослушаете сообщение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Удаление вашего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5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 (Сообщение будет удалено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Статус дополнительного номе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 следующую информацию (a~h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 Extension number (дополнительный номер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 Handsfree/Tone/Privacy (режим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 Listed message (указанно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 Wake-up time AM или PM (время будильник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 Do Not Disturb (функция DN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  Forwarded to extension XXXX (переадресация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номер ХХХХ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 Locked (временное изменение класса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 Class of Service X (класс услуг Х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едупреждение, что трубка не положе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неправильно повесили трубку, то через некоторое время телефон издаст сигнал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менить его, 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ведение кода для учет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может предоставлять пользователю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у с информацией о звонке  с помощью кода учет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наборе и во время разговора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5 0  и код учета. (Код учета до 12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цифр.)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должайте разговор и повесьте после того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вы его закончит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6720" y="1066680"/>
            <a:ext cx="221616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ращение звонка головной стан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LG GDK подключен к другой системе, в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ожете использовать эту функцию для того, чтобы перевести звонок в другую систем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подключенной внешней линии, наж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услышите гудок другой системы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дополнительный номер в друго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номер ответит, (см. “Отслеживаемы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”), сообщите о переводе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 (См. “Неотслеживаемый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”), чтобы закончить перевод звонк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3-29T13:28:16Z</cp:lastPrinted>
  <dcterms:modified xsi:type="dcterms:W3CDTF">1998-04-03T15:02:02Z</dcterms:modified>
  <cp:revision>21833</cp:revision>
  <dc:subject/>
  <dc:title>Заголовок слайда отсутствует</dc:title>
</cp:coreProperties>
</file>