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4D99-4267-49E8-A9B6-2543D7E3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ECF2-9267-414D-B3AF-813E5A3A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5549-D1DC-4A4B-BAE8-FDFA0679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5FD1-8744-426E-8599-64B62399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D47C-8D29-4BFD-96A2-4978CFB5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6F6B-3AA6-4F4D-BDA4-49050873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8BA2-94E1-4ED8-843C-A7718339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9EAC-CCC0-45E8-877E-FEEBD0E1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DC6C-0B99-4E33-B6C7-2D9BB862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FECC-BCDC-430D-94F4-E80485BA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7E11-8041-423D-9529-BC746BE0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EF79-E972-4979-BB65-AD064B63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D329-8020-49FE-B9C3-9808F9CD8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hell ASM 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ismatched antenna pair Rx dete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apped or disconnected feed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ss in RF pat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SM (Antenna Syste, Monitoring) monitors antenna pairs per sector. It samples SINR values across connected users per sub-frame. Based on the SINR differences between the antenna pairs ASM can indicate potential antenna system related problems to the operato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resulting SINR distribution counters are outputted in the PM ROP file (as PDF counters indicating the delta per antenna pair). ASM supports 2x and 4x antenna configur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Tx/4Rx Prof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365120"/>
            <a:ext cx="6029280" cy="2298960"/>
          </a:xfrm>
          <a:prstGeom prst="rect">
            <a:avLst/>
          </a:prstGeom>
          <a:ln w="0">
            <a:noFill/>
          </a:ln>
        </p:spPr>
      </p:pic>
      <p:pic>
        <p:nvPicPr>
          <p:cNvPr id="87" name="Chart 4" descr=""/>
          <p:cNvPicPr/>
          <p:nvPr/>
        </p:nvPicPr>
        <p:blipFill>
          <a:blip r:embed="rId2"/>
          <a:stretch/>
        </p:blipFill>
        <p:spPr>
          <a:xfrm>
            <a:off x="450720" y="3651120"/>
            <a:ext cx="6181920" cy="2505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6858000" y="190512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7010280" y="411480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ct Configur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4Rx_Branches"/>
          <p:cNvPicPr/>
          <p:nvPr/>
        </p:nvPicPr>
        <p:blipFill>
          <a:blip r:embed="rId1"/>
          <a:stretch/>
        </p:blipFill>
        <p:spPr>
          <a:xfrm>
            <a:off x="1631880" y="1828800"/>
            <a:ext cx="5092920" cy="3487680"/>
          </a:xfrm>
          <a:prstGeom prst="rect">
            <a:avLst/>
          </a:prstGeom>
          <a:ln w="0">
            <a:noFill/>
          </a:ln>
        </p:spPr>
      </p:pic>
      <p:sp>
        <p:nvSpPr>
          <p:cNvPr id="92" name="Freeform 3"/>
          <p:cNvSpPr/>
          <p:nvPr/>
        </p:nvSpPr>
        <p:spPr>
          <a:xfrm rot="14250600">
            <a:off x="219600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5"/>
          <p:cNvSpPr/>
          <p:nvPr/>
        </p:nvSpPr>
        <p:spPr>
          <a:xfrm rot="14250600">
            <a:off x="4955400" y="5679360"/>
            <a:ext cx="105552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6"/>
          <p:cNvSpPr/>
          <p:nvPr/>
        </p:nvSpPr>
        <p:spPr>
          <a:xfrm rot="14250600">
            <a:off x="3572280" y="5640840"/>
            <a:ext cx="1057320" cy="9982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apped Bran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4Rx_Branches_Fault1"/>
          <p:cNvPicPr/>
          <p:nvPr/>
        </p:nvPicPr>
        <p:blipFill>
          <a:blip r:embed="rId1"/>
          <a:stretch/>
        </p:blipFill>
        <p:spPr>
          <a:xfrm>
            <a:off x="1752480" y="2057400"/>
            <a:ext cx="5018040" cy="3433680"/>
          </a:xfrm>
          <a:prstGeom prst="rect">
            <a:avLst/>
          </a:prstGeom>
          <a:ln w="0">
            <a:noFill/>
          </a:ln>
        </p:spPr>
      </p:pic>
      <p:sp>
        <p:nvSpPr>
          <p:cNvPr id="97" name="Freeform 5"/>
          <p:cNvSpPr/>
          <p:nvPr/>
        </p:nvSpPr>
        <p:spPr>
          <a:xfrm rot="14250600">
            <a:off x="505368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6"/>
          <p:cNvSpPr/>
          <p:nvPr/>
        </p:nvSpPr>
        <p:spPr>
          <a:xfrm rot="14250600">
            <a:off x="2348280" y="587556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3976560" y="4724280"/>
            <a:ext cx="568440" cy="1828800"/>
          </a:xfrm>
          <a:custGeom>
            <a:avLst/>
            <a:gdLst/>
            <a:ahLst/>
            <a:rect l="l" t="t" r="r" b="b"/>
            <a:pathLst>
              <a:path w="568036" h="1828823">
                <a:moveTo>
                  <a:pt x="0" y="1828823"/>
                </a:moveTo>
                <a:cubicBezTo>
                  <a:pt x="98136" y="917886"/>
                  <a:pt x="196272" y="6950"/>
                  <a:pt x="290945" y="23"/>
                </a:cubicBezTo>
                <a:cubicBezTo>
                  <a:pt x="385618" y="-6904"/>
                  <a:pt x="524163" y="1500932"/>
                  <a:pt x="568036" y="1787259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Tx 4Rx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NMBD15_NTH_MELBOURNE_EXCH_53008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2/2      12476     -3.5    -2.5       -8.5    1.5       10       SUS OF                NMB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4/4      5605      -0.5    -1.5       -3.5    2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4/4      5605      -0.5    -0.5       -6.5    5.5       12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4/4      5605      -0.5    0.5        -4.5    1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1-2       2/4      32373     -0.5    -0.5       -6.5    3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2-3       2/4      32373     -0.5    -0.5       -5.5    4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3-4       2/4      32373     -1.5    -1.5       -5.5    3.5       9 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hart 3" descr=""/>
          <p:cNvPicPr/>
          <p:nvPr/>
        </p:nvPicPr>
        <p:blipFill>
          <a:blip r:embed="rId1"/>
          <a:stretch/>
        </p:blipFill>
        <p:spPr>
          <a:xfrm>
            <a:off x="530280" y="3803760"/>
            <a:ext cx="3816360" cy="2603520"/>
          </a:xfrm>
          <a:prstGeom prst="rect">
            <a:avLst/>
          </a:prstGeom>
          <a:ln w="0">
            <a:noFill/>
          </a:ln>
        </p:spPr>
      </p:pic>
      <p:sp>
        <p:nvSpPr>
          <p:cNvPr id="105" name="Oval 4"/>
          <p:cNvSpPr/>
          <p:nvPr/>
        </p:nvSpPr>
        <p:spPr>
          <a:xfrm>
            <a:off x="1600200" y="220968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Straight Arrow Connector 5"/>
          <p:cNvCxnSpPr>
            <a:endCxn id="105" idx="5"/>
          </p:cNvCxnSpPr>
          <p:nvPr/>
        </p:nvCxnSpPr>
        <p:spPr>
          <a:xfrm flipH="1" flipV="1">
            <a:off x="1990080" y="2859840"/>
            <a:ext cx="3748680" cy="23216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" name="Oval 8"/>
          <p:cNvSpPr/>
          <p:nvPr/>
        </p:nvSpPr>
        <p:spPr>
          <a:xfrm>
            <a:off x="5348160" y="219564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Straight Arrow Connector 9"/>
          <p:cNvCxnSpPr>
            <a:endCxn id="107" idx="5"/>
          </p:cNvCxnSpPr>
          <p:nvPr/>
        </p:nvCxnSpPr>
        <p:spPr>
          <a:xfrm flipH="1" flipV="1">
            <a:off x="5738400" y="2828520"/>
            <a:ext cx="891360" cy="12103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9" name="TextBox 15"/>
          <p:cNvSpPr/>
          <p:nvPr/>
        </p:nvSpPr>
        <p:spPr>
          <a:xfrm>
            <a:off x="5351040" y="4064040"/>
            <a:ext cx="33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0, 2 are narrow, Dist1 is bro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7"/>
          <p:cNvSpPr/>
          <p:nvPr/>
        </p:nvSpPr>
        <p:spPr>
          <a:xfrm>
            <a:off x="5561640" y="51814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Straight Arrow Connector 18"/>
          <p:cNvCxnSpPr/>
          <p:nvPr/>
        </p:nvCxnSpPr>
        <p:spPr>
          <a:xfrm flipH="1" flipV="1">
            <a:off x="2285640" y="5551560"/>
            <a:ext cx="3062880" cy="6210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2" name="TextBox 21"/>
          <p:cNvSpPr/>
          <p:nvPr/>
        </p:nvSpPr>
        <p:spPr>
          <a:xfrm>
            <a:off x="5350680" y="5987880"/>
            <a:ext cx="18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case for 4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Oval 22"/>
          <p:cNvSpPr/>
          <p:nvPr/>
        </p:nvSpPr>
        <p:spPr>
          <a:xfrm>
            <a:off x="6072120" y="1600200"/>
            <a:ext cx="785880" cy="9669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Straight Arrow Connector 23"/>
          <p:cNvCxnSpPr>
            <a:endCxn id="113" idx="7"/>
          </p:cNvCxnSpPr>
          <p:nvPr/>
        </p:nvCxnSpPr>
        <p:spPr>
          <a:xfrm flipH="1">
            <a:off x="6741360" y="1518840"/>
            <a:ext cx="305640" cy="22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5" name="TextBox 27"/>
          <p:cNvSpPr/>
          <p:nvPr/>
        </p:nvSpPr>
        <p:spPr>
          <a:xfrm>
            <a:off x="6559560" y="92556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. Offset Faul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meter o-N (default 3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Arrow Connector 29"/>
          <p:cNvCxnSpPr/>
          <p:nvPr/>
        </p:nvCxnSpPr>
        <p:spPr>
          <a:xfrm flipH="1">
            <a:off x="3428640" y="1143000"/>
            <a:ext cx="3201120" cy="5986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Oval 33"/>
          <p:cNvSpPr/>
          <p:nvPr/>
        </p:nvSpPr>
        <p:spPr>
          <a:xfrm>
            <a:off x="2957400" y="157176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hart 34" descr=""/>
          <p:cNvPicPr/>
          <p:nvPr/>
        </p:nvPicPr>
        <p:blipFill>
          <a:blip r:embed="rId2"/>
          <a:stretch/>
        </p:blipFill>
        <p:spPr>
          <a:xfrm>
            <a:off x="615960" y="96840"/>
            <a:ext cx="1676520" cy="1482840"/>
          </a:xfrm>
          <a:prstGeom prst="rect">
            <a:avLst/>
          </a:prstGeom>
          <a:ln w="0">
            <a:noFill/>
          </a:ln>
        </p:spPr>
      </p:pic>
      <p:cxnSp>
        <p:nvCxnSpPr>
          <p:cNvPr id="119" name="Straight Arrow Connector 35"/>
          <p:cNvCxnSpPr/>
          <p:nvPr/>
        </p:nvCxnSpPr>
        <p:spPr>
          <a:xfrm flipH="1" flipV="1">
            <a:off x="2285640" y="1142280"/>
            <a:ext cx="900720" cy="376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60020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 was reported as having bad MIMO behavi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ing RI cou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33906         4988           1.13      12.82         30            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22672         17185          1.43      43.12         41            44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    CQI0  CQI1  CQI2  CQI3  CQI4  CQI5  CQI6  CQI7  CQI8  CQI9  CQI10 CQI11 CQI12 CQI13 CQI14 CQI1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1   0     0     1     1     2     4     8     13    16    13    13    9     7     6     3     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2   0     0     0     0     0     1     3     6     10    16    21    19    15    5     2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1   0     0     0     0     3     10    16    12    17    15    6     8     8     3     1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2   0     0     0     0     3     11    19    11    14    17    7     8     7     3     1     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3733920" y="274320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4"/>
          <p:cNvCxnSpPr>
            <a:endCxn id="122" idx="3"/>
          </p:cNvCxnSpPr>
          <p:nvPr/>
        </p:nvCxnSpPr>
        <p:spPr>
          <a:xfrm flipV="1">
            <a:off x="2285640" y="3393360"/>
            <a:ext cx="1515240" cy="17881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4" name="TextBox 7"/>
          <p:cNvSpPr/>
          <p:nvPr/>
        </p:nvSpPr>
        <p:spPr>
          <a:xfrm>
            <a:off x="1165680" y="5486400"/>
            <a:ext cx="44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ghted Avera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mula = (#RI1 + 2*#RI2)/(#RI1 + #RI2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ything lower than 1.e deemed to be “bad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4398120" y="499752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of RI2 use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4392720" y="263196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7" name="Straight Arrow Connector 10"/>
          <p:cNvCxnSpPr/>
          <p:nvPr/>
        </p:nvCxnSpPr>
        <p:spPr>
          <a:xfrm flipH="1" flipV="1">
            <a:off x="4620600" y="3393720"/>
            <a:ext cx="408600" cy="16041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check A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QLD_TEWY35_TOOWOOMBA_EAST_57186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              Tx/Rx Tot       Median  Highest  20perc  80perc Width OBSERVATION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              2/2   17032     -1.5    -1.5     -6.5    3.5    10                       TEWY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              2/4   35467     -0.5    -1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              2/4   35467     -1.5    -3.5     -6.5    3.5    10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              2/4   35467     -0.5    -0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548360" y="323208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torCarrier 2 = TEWYM3  =&gt; bad Mimo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Chart 4" descr=""/>
          <p:cNvPicPr/>
          <p:nvPr/>
        </p:nvPicPr>
        <p:blipFill>
          <a:blip r:embed="rId1"/>
          <a:stretch/>
        </p:blipFill>
        <p:spPr>
          <a:xfrm>
            <a:off x="1322280" y="3943440"/>
            <a:ext cx="45849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traight Connector 83"/>
          <p:cNvSpPr/>
          <p:nvPr/>
        </p:nvSpPr>
        <p:spPr>
          <a:xfrm flipV="1">
            <a:off x="3413160" y="3746160"/>
            <a:ext cx="0" cy="44460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traight Connector 84"/>
          <p:cNvSpPr/>
          <p:nvPr/>
        </p:nvSpPr>
        <p:spPr>
          <a:xfrm flipV="1">
            <a:off x="5159520" y="3720600"/>
            <a:ext cx="0" cy="44460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traight Connector 86"/>
          <p:cNvSpPr/>
          <p:nvPr/>
        </p:nvSpPr>
        <p:spPr>
          <a:xfrm flipH="1">
            <a:off x="3413160" y="3746520"/>
            <a:ext cx="96840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traight Connector 90"/>
          <p:cNvSpPr/>
          <p:nvPr/>
        </p:nvSpPr>
        <p:spPr>
          <a:xfrm>
            <a:off x="4381560" y="2494080"/>
            <a:ext cx="0" cy="125244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traight Connector 94"/>
          <p:cNvSpPr/>
          <p:nvPr/>
        </p:nvSpPr>
        <p:spPr>
          <a:xfrm flipV="1">
            <a:off x="5159520" y="2493720"/>
            <a:ext cx="0" cy="125244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52"/>
          <p:cNvSpPr/>
          <p:nvPr/>
        </p:nvSpPr>
        <p:spPr>
          <a:xfrm>
            <a:off x="6782760" y="20368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fore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104"/>
          <p:cNvSpPr/>
          <p:nvPr/>
        </p:nvSpPr>
        <p:spPr>
          <a:xfrm rot="4641600">
            <a:off x="3970440" y="2623320"/>
            <a:ext cx="2547720" cy="63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traight Connector 83"/>
          <p:cNvSpPr/>
          <p:nvPr/>
        </p:nvSpPr>
        <p:spPr>
          <a:xfrm flipV="1">
            <a:off x="3413160" y="3525840"/>
            <a:ext cx="0" cy="66528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traight Connector 84"/>
          <p:cNvSpPr/>
          <p:nvPr/>
        </p:nvSpPr>
        <p:spPr>
          <a:xfrm flipV="1">
            <a:off x="5159520" y="3865320"/>
            <a:ext cx="0" cy="2998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traight Connector 86"/>
          <p:cNvSpPr/>
          <p:nvPr/>
        </p:nvSpPr>
        <p:spPr>
          <a:xfrm flipH="1">
            <a:off x="3412800" y="3525840"/>
            <a:ext cx="17463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traight Connector 90"/>
          <p:cNvSpPr/>
          <p:nvPr/>
        </p:nvSpPr>
        <p:spPr>
          <a:xfrm>
            <a:off x="4381560" y="2494080"/>
            <a:ext cx="0" cy="13651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traight Connector 94"/>
          <p:cNvSpPr/>
          <p:nvPr/>
        </p:nvSpPr>
        <p:spPr>
          <a:xfrm flipV="1">
            <a:off x="5159520" y="2494080"/>
            <a:ext cx="0" cy="103176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52"/>
          <p:cNvSpPr/>
          <p:nvPr/>
        </p:nvSpPr>
        <p:spPr>
          <a:xfrm>
            <a:off x="6789240" y="2036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104"/>
          <p:cNvSpPr/>
          <p:nvPr/>
        </p:nvSpPr>
        <p:spPr>
          <a:xfrm rot="3833400">
            <a:off x="3643920" y="2586960"/>
            <a:ext cx="254628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traight Connector 45"/>
          <p:cNvSpPr/>
          <p:nvPr/>
        </p:nvSpPr>
        <p:spPr>
          <a:xfrm flipV="1">
            <a:off x="4381560" y="3859200"/>
            <a:ext cx="777960" cy="64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ual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19320" y="1600200"/>
          <a:ext cx="7238880" cy="4419720"/>
        </p:xfrm>
        <a:graphic>
          <a:graphicData uri="http://schemas.openxmlformats.org/drawingml/2006/table">
            <a:tbl>
              <a:tblPr/>
              <a:tblGrid>
                <a:gridCol w="1644480"/>
                <a:gridCol w="2797200"/>
                <a:gridCol w="2797200"/>
              </a:tblGrid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ntenna 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Before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fter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3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2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4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5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4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6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there are more, but the tool only supports at the the moment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The pmBranchDeltaSinrDistr counter is an array having 60 indices referencing a given SINR delta range.  The CPU User Description document provides more details and provides the bin ranges as follow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0]: ≤ -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1]: [-29..-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]: [-28..-27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9]: [-1..0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0]: [0..1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1]: [1..2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7]: [27..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8]: [28..29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9]: &gt; 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 and ASM after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Chart 3" descr=""/>
          <p:cNvPicPr/>
          <p:nvPr/>
        </p:nvPicPr>
        <p:blipFill>
          <a:blip r:embed="rId1"/>
          <a:stretch/>
        </p:blipFill>
        <p:spPr>
          <a:xfrm>
            <a:off x="530280" y="1212840"/>
            <a:ext cx="7931160" cy="22986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209880" y="4232160"/>
            <a:ext cx="83113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EM3             62231         43564          1.41      41.18         50            5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FM3             42416         35482          1.46      45.55         30            3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2457360" y="58672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1.13      12.8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Oval 5"/>
          <p:cNvSpPr/>
          <p:nvPr/>
        </p:nvSpPr>
        <p:spPr>
          <a:xfrm rot="19228200">
            <a:off x="237168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6"/>
          <p:cNvSpPr/>
          <p:nvPr/>
        </p:nvSpPr>
        <p:spPr>
          <a:xfrm rot="19228200">
            <a:off x="383544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8"/>
          <p:cNvCxnSpPr>
            <a:stCxn id="199" idx="6"/>
          </p:cNvCxnSpPr>
          <p:nvPr/>
        </p:nvCxnSpPr>
        <p:spPr>
          <a:xfrm flipV="1">
            <a:off x="3136680" y="4548960"/>
            <a:ext cx="1229400" cy="1227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2" name="Straight Arrow Connector 10"/>
          <p:cNvCxnSpPr/>
          <p:nvPr/>
        </p:nvCxnSpPr>
        <p:spPr>
          <a:xfrm flipV="1">
            <a:off x="4495320" y="4549320"/>
            <a:ext cx="686520" cy="1161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r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shellPrompt&gt; </a:t>
            </a:r>
            <a:r>
              <a:rPr b="1" i="1" lang="en-US" sz="1400" spc="-1" strike="noStrike">
                <a:solidFill>
                  <a:srgbClr val="0070c0"/>
                </a:solidFill>
                <a:latin typeface="Calibri"/>
              </a:rPr>
              <a:t>run $scripts/asm.m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ill produce an output of three parts such 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of csv data which can be pasted into excel for plotting and visual analy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showing the SectorCarrierBranches and analysed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mater and Threshold descri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CSV Section examp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-29.5,-28.5,-27.5,-26.5,-25.5,-24.5,-23.5,-22.5,-21.5,-20.5,-19.5,-18.5,-17.5,-16.5,-15.5,-14.5,-13.5,-12.5,-11.5,-10.5,-9.5,-8.5,-7.5,-6.5,-5.5,-4.5,-3.5,-2.5,-1.5,-0.5,0.5,1.5,2.5,3.5,4.5,5.5,6.5,7.5,8.5,9.5,10.5,11.5,12.5,13.5,14.5,15.5,16.5,17.5,18.5,19.5,20.5,21.5,22.5,23.5,24.5,25.5,26.5,27.5,28.5,29.5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0,13,5,8,16,21,30,37,37,55,66,89,139,188,297,365,500,652,853,1028,1290,1588,2061,2504,3122,3714,4254,4704,5111,5537,5838,5899,5626,4995,4201,3576,2876,2377,1802,1470,1122,843,656,483,383,268,200,145,92,51,50,37,27,18,10,9,3,6,2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1,3,3,2,3,8,13,11,13,28,31,41,59,116,129,185,253,363,486,588,800,1086,1426,2043,2667,3403,4595,6121,7293,8540,8629,7494,6135,4710,3488,2626,2025,1468,1110,863,648,456,344,270,179,158,111,85,63,60,36,27,12,12,8,6,3,7,7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2,18,4,5,10,14,24,20,31,40,68,99,141,186,244,314,402,517,643,906,1180,1607,2011,2487,3168,3774,4489,5197,5740,6164,6292,5995,5606,4732,3857,3207,2587,2023,1621,1278,1077,849,659,481,380,282,213,151,126,116,82,63,50,31,29,20,11,11,15,3,14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Looks ugly, but when copied and pasted into excel. Data filter on “,” and plot will give a graph – see next pag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note, it is important to copy the space and the first comma highlighted above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3"/>
          <p:cNvSpPr/>
          <p:nvPr/>
        </p:nvSpPr>
        <p:spPr>
          <a:xfrm>
            <a:off x="380880" y="1752480"/>
            <a:ext cx="38124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of plotted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"/>
          <p:cNvPicPr/>
          <p:nvPr/>
        </p:nvPicPr>
        <p:blipFill>
          <a:blip r:embed="rId1"/>
          <a:stretch/>
        </p:blipFill>
        <p:spPr>
          <a:xfrm>
            <a:off x="378000" y="1365120"/>
            <a:ext cx="8235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Moshell Analysis 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MLVD15_MALVERN_53050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1-2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2-3  2/4      37666     -0.5    -0.5       -5.5    4.5       10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3-4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1-2  2/4      22070     -0.5    -0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2-3  2/4      22070     -2.5    -1.5       -8.5    3.5       12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3-4  2/4      22070     -1.5    -1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1-2  2/4      12974     -0.5    -0.5       -3.5    1.5       5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2-3  2/4      12974     0.5     0.5        -6.5    6.5       13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3-4  2/4      12974     -0.5    -0.5       -2.5    1.5       4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1_Br_1-2   2/2      24254     -1.5    -0.5       -6.5    4.5       11                             MLV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2_Br_1-2   2/2      11827     -0.5    -1.5       -6.5    4.5       11                             MLVDF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3_Br_1-2   2/2      5857      -1.5    -0.5       -6.5    3.5       10                             MLVD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3"/>
          <p:cNvSpPr/>
          <p:nvPr/>
        </p:nvSpPr>
        <p:spPr>
          <a:xfrm>
            <a:off x="290520" y="1382760"/>
            <a:ext cx="220968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5"/>
          <p:cNvCxnSpPr>
            <a:stCxn id="52" idx="2"/>
            <a:endCxn id="54" idx="6"/>
          </p:cNvCxnSpPr>
          <p:nvPr/>
        </p:nvCxnSpPr>
        <p:spPr>
          <a:xfrm flipH="1">
            <a:off x="2499480" y="1417680"/>
            <a:ext cx="2072520" cy="1944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TextBox 10"/>
          <p:cNvSpPr/>
          <p:nvPr/>
        </p:nvSpPr>
        <p:spPr>
          <a:xfrm>
            <a:off x="4579200" y="123336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d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1600200" y="281952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Straight Arrow Connector 12"/>
          <p:cNvCxnSpPr/>
          <p:nvPr/>
        </p:nvCxnSpPr>
        <p:spPr>
          <a:xfrm flipH="1" flipV="1">
            <a:off x="1909800" y="3209400"/>
            <a:ext cx="295560" cy="2277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TextBox 16"/>
          <p:cNvSpPr/>
          <p:nvPr/>
        </p:nvSpPr>
        <p:spPr>
          <a:xfrm>
            <a:off x="1834920" y="547200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x/Rx Used per s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18"/>
          <p:cNvSpPr/>
          <p:nvPr/>
        </p:nvSpPr>
        <p:spPr>
          <a:xfrm>
            <a:off x="2247840" y="3048120"/>
            <a:ext cx="49536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19"/>
          <p:cNvCxnSpPr/>
          <p:nvPr/>
        </p:nvCxnSpPr>
        <p:spPr>
          <a:xfrm flipH="1" flipV="1">
            <a:off x="2742840" y="3733560"/>
            <a:ext cx="2286720" cy="17532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TextBox 21"/>
          <p:cNvSpPr/>
          <p:nvPr/>
        </p:nvSpPr>
        <p:spPr>
          <a:xfrm>
            <a:off x="4892760" y="5472000"/>
            <a:ext cx="319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of all buckets per count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indication of how much da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have to work 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Threshol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Median  Highest    20perc  80perc    Width    OBSERV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0.5    -0.5       -5.5    4.5       10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Percentiles 20 and 80  - parameter p-N, where N is a number for the lower percentile, upper is auto calcu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ffset from median threshold 3  - parameter o-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2Tx by 4Rx variance ratio threshold 40 - parameter 2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4Tx by 4Rx variance ratio threshold 50 - parameter 4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for example, can issue command "run asm.mos  0-2 p-10  2tx-45  4tx-5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to execute the script on the previous ROP period, add the parameter "rop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While the thresholds are under analysis, it is advised to plot the data per s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n case the algorithm misses a suspected fa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3"/>
          <p:cNvSpPr/>
          <p:nvPr/>
        </p:nvSpPr>
        <p:spPr>
          <a:xfrm>
            <a:off x="644400" y="182880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Straight Arrow Connector 4"/>
          <p:cNvCxnSpPr/>
          <p:nvPr/>
        </p:nvCxnSpPr>
        <p:spPr>
          <a:xfrm>
            <a:off x="762120" y="1283760"/>
            <a:ext cx="56160" cy="484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TextBox 9"/>
          <p:cNvSpPr/>
          <p:nvPr/>
        </p:nvSpPr>
        <p:spPr>
          <a:xfrm>
            <a:off x="665640" y="914400"/>
            <a:ext cx="20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5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1309680" y="1828800"/>
            <a:ext cx="59544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Straight Arrow Connector 12"/>
          <p:cNvCxnSpPr>
            <a:endCxn id="68" idx="0"/>
          </p:cNvCxnSpPr>
          <p:nvPr/>
        </p:nvCxnSpPr>
        <p:spPr>
          <a:xfrm>
            <a:off x="1447560" y="1525680"/>
            <a:ext cx="160920" cy="303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TextBox 15"/>
          <p:cNvSpPr/>
          <p:nvPr/>
        </p:nvSpPr>
        <p:spPr>
          <a:xfrm>
            <a:off x="1314000" y="125100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highest val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19"/>
          <p:cNvCxnSpPr/>
          <p:nvPr/>
        </p:nvCxnSpPr>
        <p:spPr>
          <a:xfrm flipV="1">
            <a:off x="168120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Straight Arrow Connector 22"/>
          <p:cNvCxnSpPr/>
          <p:nvPr/>
        </p:nvCxnSpPr>
        <p:spPr>
          <a:xfrm flipV="1">
            <a:off x="3909960" y="2437560"/>
            <a:ext cx="169200" cy="3819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Straight Arrow Connector 25"/>
          <p:cNvCxnSpPr/>
          <p:nvPr/>
        </p:nvCxnSpPr>
        <p:spPr>
          <a:xfrm flipV="1">
            <a:off x="243828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xtBox 27"/>
          <p:cNvSpPr/>
          <p:nvPr/>
        </p:nvSpPr>
        <p:spPr>
          <a:xfrm>
            <a:off x="3321720" y="2793960"/>
            <a:ext cx="25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Width of 2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to 8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29"/>
          <p:cNvSpPr/>
          <p:nvPr/>
        </p:nvSpPr>
        <p:spPr>
          <a:xfrm flipV="1">
            <a:off x="0" y="4647960"/>
            <a:ext cx="8686800" cy="9525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ical Cur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cxnSp>
        <p:nvCxnSpPr>
          <p:cNvPr id="78" name="Straight Arrow Connector 6"/>
          <p:cNvCxnSpPr/>
          <p:nvPr/>
        </p:nvCxnSpPr>
        <p:spPr>
          <a:xfrm>
            <a:off x="2362320" y="3580920"/>
            <a:ext cx="762480" cy="21344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9" name="Straight Arrow Connector 9"/>
          <p:cNvCxnSpPr/>
          <p:nvPr/>
        </p:nvCxnSpPr>
        <p:spPr>
          <a:xfrm flipH="1">
            <a:off x="5866920" y="2904840"/>
            <a:ext cx="496080" cy="28105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80" name="TextBox 12"/>
          <p:cNvSpPr/>
          <p:nvPr/>
        </p:nvSpPr>
        <p:spPr>
          <a:xfrm>
            <a:off x="990720" y="25858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wer Percentile. Parameter p-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5334120" y="19810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per Percentile. Auto calculated 100 – 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 =&gt; = 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2514600" y="1749600"/>
            <a:ext cx="25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ercenti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1T00:11:54Z</dcterms:created>
  <dc:creator>Conor Kelly K</dc:creator>
  <dc:description/>
  <dc:language>en-US</dc:language>
  <cp:lastModifiedBy>eanzmagn</cp:lastModifiedBy>
  <dcterms:modified xsi:type="dcterms:W3CDTF">2015-08-21T13:39:55Z</dcterms:modified>
  <cp:revision>41</cp:revision>
  <dc:subject/>
  <dc:title>PowerPoint Presentation</dc:title>
</cp:coreProperties>
</file>