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9F4-E029-4FAF-9A8B-160A9CD3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7FA-D6FA-4AE5-9F33-0AE17ED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516-A54E-4868-A8FD-527AFD1B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E38-4B4E-4FD3-B348-09E2CC93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F85-7883-4E19-BA67-D2D2BCA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F63-2C7F-4D8D-B6C1-C97C669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AF3-0D06-4D82-BC0A-8F92201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04C-2003-462F-B33D-2BD73AD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F0E-5241-4B64-A44D-B8F9E95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8F6-E5CF-4C33-A64B-FD95190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248-053F-4881-B04E-657EE6C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006-4FB9-4B74-9BC8-4539C54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08F97-F6F4-4C58-A178-7E41DD0397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t-Trbo Worldwide network set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ettings to get your repeat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your call sign in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Alias Fiel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63760" y="1979640"/>
            <a:ext cx="74293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1480" y="1279440"/>
            <a:ext cx="6848640" cy="59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Radio ID put your DMR-MARC repeater I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4000680"/>
            <a:ext cx="632448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can be obtain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mr-marc.net/request_repeaterI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00:09:52Z</dcterms:created>
  <dc:creator>w c</dc:creator>
  <dc:description/>
  <dc:language>en-US</dc:language>
  <cp:lastModifiedBy/>
  <cp:revision>1</cp:revision>
  <dc:subject/>
  <dc:title/>
</cp:coreProperties>
</file>